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59167-3B97-42F4-BC3A-6D056785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2F29D-A688-4C1B-B164-D16CC697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3ED15-82DE-48C9-A8B4-C230777F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AC762-06C2-402E-B944-972966F7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E254-E5A4-4703-882F-A7634047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EBBA-FE70-40A9-9268-05FE70F3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212B-6820-4458-97D1-56241150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61EB-8E1E-4122-9FB9-643FBC6C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C2D9-7A5E-4E2E-9EFB-00964FB3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AC37-3D95-4BBE-998E-8F5F323F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9370-5137-4A7F-9A4B-7CCA864E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BE76C-3250-473D-91D0-388695B2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1B00-1516-480C-992C-5BBA1E58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07B3-2704-415C-83C3-360BA06E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6B70-A4E9-4411-80A3-354A9716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0548-E235-43F9-99AC-C3DF6D6E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FF39-7E72-4747-A0A2-CFF08439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DB39B-6A4E-4BD6-B9C5-7ED23163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E1039-68BC-4710-A342-765E0216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A0809-408D-4FE2-91A1-F7A9B90B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EABC9-7C7D-439D-906E-1C6D56D2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182B-D04E-40BB-BA92-B911D0B1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AA901-DF5D-4C1E-ABAA-9D948B3B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F087B-B6BD-4D4C-B04A-3CB5C68C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9F86-3411-49A8-ADDC-AD2EB4025B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0C65-A627-4DC6-B350-B6507A32C1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A Review Day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4760" y="42667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t 7 Objectiv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ill find the area of Composite Figures (Compound Figur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18080" y="5249880"/>
            <a:ext cx="2849760" cy="90360"/>
          </a:xfrm>
          <a:custGeom>
            <a:avLst/>
            <a:gdLst/>
            <a:ahLst/>
            <a:rect l="l" t="t" r="r" b="b"/>
            <a:pathLst>
              <a:path w="7914" h="249">
                <a:moveTo>
                  <a:pt x="15329" y="14833"/>
                </a:moveTo>
                <a:cubicBezTo>
                  <a:pt x="15536" y="14833"/>
                  <a:pt x="15749" y="14842"/>
                  <a:pt x="15949" y="14808"/>
                </a:cubicBezTo>
                <a:cubicBezTo>
                  <a:pt x="16075" y="14787"/>
                  <a:pt x="16198" y="14757"/>
                  <a:pt x="16321" y="14734"/>
                </a:cubicBezTo>
                <a:cubicBezTo>
                  <a:pt x="16398" y="14720"/>
                  <a:pt x="16467" y="14721"/>
                  <a:pt x="16545" y="14709"/>
                </a:cubicBezTo>
                <a:cubicBezTo>
                  <a:pt x="16660" y="14691"/>
                  <a:pt x="16776" y="14696"/>
                  <a:pt x="16892" y="14684"/>
                </a:cubicBezTo>
                <a:cubicBezTo>
                  <a:pt x="16989" y="14674"/>
                  <a:pt x="17090" y="14669"/>
                  <a:pt x="17190" y="14660"/>
                </a:cubicBezTo>
                <a:cubicBezTo>
                  <a:pt x="17346" y="14645"/>
                  <a:pt x="17505" y="14651"/>
                  <a:pt x="17661" y="14635"/>
                </a:cubicBezTo>
                <a:cubicBezTo>
                  <a:pt x="17893" y="14612"/>
                  <a:pt x="18120" y="14610"/>
                  <a:pt x="18355" y="14610"/>
                </a:cubicBezTo>
                <a:cubicBezTo>
                  <a:pt x="18909" y="14610"/>
                  <a:pt x="19467" y="14599"/>
                  <a:pt x="20017" y="14635"/>
                </a:cubicBezTo>
                <a:cubicBezTo>
                  <a:pt x="20234" y="14649"/>
                  <a:pt x="20449" y="14624"/>
                  <a:pt x="20662" y="14610"/>
                </a:cubicBezTo>
                <a:cubicBezTo>
                  <a:pt x="20843" y="14598"/>
                  <a:pt x="21027" y="14588"/>
                  <a:pt x="21208" y="14585"/>
                </a:cubicBezTo>
                <a:cubicBezTo>
                  <a:pt x="21615" y="14577"/>
                  <a:pt x="22018" y="14605"/>
                  <a:pt x="22423" y="14610"/>
                </a:cubicBezTo>
                <a:cubicBezTo>
                  <a:pt x="22665" y="14613"/>
                  <a:pt x="22901" y="14631"/>
                  <a:pt x="23143" y="14635"/>
                </a:cubicBezTo>
                <a:cubicBezTo>
                  <a:pt x="23201" y="14635"/>
                  <a:pt x="23209" y="14635"/>
                  <a:pt x="23242" y="146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5867280"/>
            <a:ext cx="893520" cy="34920"/>
          </a:xfrm>
          <a:custGeom>
            <a:avLst/>
            <a:gdLst/>
            <a:ahLst/>
            <a:rect l="l" t="t" r="r" b="b"/>
            <a:pathLst>
              <a:path w="2482" h="100">
                <a:moveTo>
                  <a:pt x="5928" y="16371"/>
                </a:moveTo>
                <a:cubicBezTo>
                  <a:pt x="6145" y="16353"/>
                  <a:pt x="6354" y="16346"/>
                  <a:pt x="6573" y="16346"/>
                </a:cubicBezTo>
                <a:cubicBezTo>
                  <a:pt x="6995" y="16346"/>
                  <a:pt x="7415" y="16371"/>
                  <a:pt x="7838" y="16371"/>
                </a:cubicBezTo>
                <a:cubicBezTo>
                  <a:pt x="7991" y="16371"/>
                  <a:pt x="8151" y="16373"/>
                  <a:pt x="8285" y="16396"/>
                </a:cubicBezTo>
                <a:cubicBezTo>
                  <a:pt x="8362" y="16409"/>
                  <a:pt x="8346" y="16366"/>
                  <a:pt x="8409" y="162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8640" y="5419800"/>
            <a:ext cx="1955520" cy="741240"/>
          </a:xfrm>
          <a:custGeom>
            <a:avLst/>
            <a:gdLst/>
            <a:ahLst/>
            <a:rect l="l" t="t" r="r" b="b"/>
            <a:pathLst>
              <a:path w="5433" h="2060">
                <a:moveTo>
                  <a:pt x="19025" y="16991"/>
                </a:moveTo>
                <a:cubicBezTo>
                  <a:pt x="19175" y="16906"/>
                  <a:pt x="19396" y="16727"/>
                  <a:pt x="19571" y="16867"/>
                </a:cubicBezTo>
                <a:cubicBezTo>
                  <a:pt x="19636" y="16919"/>
                  <a:pt x="19638" y="17042"/>
                  <a:pt x="19645" y="17115"/>
                </a:cubicBezTo>
              </a:path>
              <a:path w="5433" h="2060">
                <a:moveTo>
                  <a:pt x="19496" y="16545"/>
                </a:moveTo>
                <a:lnTo>
                  <a:pt x="19496" y="16545"/>
                </a:lnTo>
                <a:lnTo>
                  <a:pt x="19496" y="16545"/>
                </a:lnTo>
              </a:path>
              <a:path w="5433" h="2060">
                <a:moveTo>
                  <a:pt x="19496" y="16545"/>
                </a:moveTo>
                <a:lnTo>
                  <a:pt x="19496" y="16545"/>
                </a:lnTo>
              </a:path>
              <a:path w="5433" h="2060">
                <a:moveTo>
                  <a:pt x="24110" y="15180"/>
                </a:moveTo>
                <a:cubicBezTo>
                  <a:pt x="24233" y="15142"/>
                  <a:pt x="24341" y="15110"/>
                  <a:pt x="24457" y="150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85000" y="5803920"/>
            <a:ext cx="714240" cy="482760"/>
          </a:xfrm>
          <a:custGeom>
            <a:avLst/>
            <a:gdLst/>
            <a:ahLst/>
            <a:rect l="l" t="t" r="r" b="b"/>
            <a:pathLst>
              <a:path w="1986" h="1340">
                <a:moveTo>
                  <a:pt x="19397" y="16346"/>
                </a:moveTo>
                <a:cubicBezTo>
                  <a:pt x="19474" y="16346"/>
                  <a:pt x="19450" y="16327"/>
                  <a:pt x="19397" y="16272"/>
                </a:cubicBezTo>
                <a:cubicBezTo>
                  <a:pt x="19310" y="16185"/>
                  <a:pt x="19291" y="16161"/>
                  <a:pt x="19224" y="16123"/>
                </a:cubicBezTo>
                <a:cubicBezTo>
                  <a:pt x="19063" y="16344"/>
                  <a:pt x="19181" y="16517"/>
                  <a:pt x="19248" y="16768"/>
                </a:cubicBezTo>
                <a:cubicBezTo>
                  <a:pt x="19281" y="16891"/>
                  <a:pt x="19381" y="17075"/>
                  <a:pt x="19323" y="17190"/>
                </a:cubicBezTo>
              </a:path>
              <a:path w="1986" h="1340">
                <a:moveTo>
                  <a:pt x="19918" y="16594"/>
                </a:moveTo>
                <a:cubicBezTo>
                  <a:pt x="19855" y="16642"/>
                  <a:pt x="19601" y="16965"/>
                  <a:pt x="19844" y="16991"/>
                </a:cubicBezTo>
                <a:cubicBezTo>
                  <a:pt x="20023" y="17010"/>
                  <a:pt x="19972" y="16776"/>
                  <a:pt x="19968" y="16694"/>
                </a:cubicBezTo>
                <a:cubicBezTo>
                  <a:pt x="19951" y="16669"/>
                  <a:pt x="19935" y="16644"/>
                  <a:pt x="19918" y="16619"/>
                </a:cubicBezTo>
                <a:cubicBezTo>
                  <a:pt x="19981" y="16808"/>
                  <a:pt x="20151" y="16967"/>
                  <a:pt x="20141" y="17190"/>
                </a:cubicBezTo>
                <a:cubicBezTo>
                  <a:pt x="20132" y="17392"/>
                  <a:pt x="20044" y="17406"/>
                  <a:pt x="19893" y="17462"/>
                </a:cubicBezTo>
              </a:path>
              <a:path w="1986" h="1340">
                <a:moveTo>
                  <a:pt x="20042" y="16545"/>
                </a:moveTo>
                <a:cubicBezTo>
                  <a:pt x="20053" y="16701"/>
                  <a:pt x="20069" y="16795"/>
                  <a:pt x="20166" y="16917"/>
                </a:cubicBezTo>
                <a:cubicBezTo>
                  <a:pt x="20313" y="16770"/>
                  <a:pt x="20292" y="16710"/>
                  <a:pt x="20241" y="16520"/>
                </a:cubicBezTo>
                <a:cubicBezTo>
                  <a:pt x="20241" y="16512"/>
                  <a:pt x="20241" y="16503"/>
                  <a:pt x="20241" y="16495"/>
                </a:cubicBezTo>
                <a:cubicBezTo>
                  <a:pt x="20260" y="16554"/>
                  <a:pt x="20369" y="16743"/>
                  <a:pt x="20439" y="16743"/>
                </a:cubicBezTo>
                <a:cubicBezTo>
                  <a:pt x="20447" y="16727"/>
                  <a:pt x="20456" y="16710"/>
                  <a:pt x="20464" y="16694"/>
                </a:cubicBezTo>
              </a:path>
              <a:path w="1986" h="1340">
                <a:moveTo>
                  <a:pt x="20513" y="16495"/>
                </a:moveTo>
                <a:cubicBezTo>
                  <a:pt x="20574" y="16576"/>
                  <a:pt x="20589" y="16588"/>
                  <a:pt x="20613" y="16644"/>
                </a:cubicBezTo>
                <a:cubicBezTo>
                  <a:pt x="20591" y="16555"/>
                  <a:pt x="20514" y="16480"/>
                  <a:pt x="20538" y="16371"/>
                </a:cubicBezTo>
                <a:cubicBezTo>
                  <a:pt x="20569" y="16228"/>
                  <a:pt x="20650" y="16237"/>
                  <a:pt x="20762" y="16222"/>
                </a:cubicBezTo>
              </a:path>
              <a:path w="1986" h="1340">
                <a:moveTo>
                  <a:pt x="20762" y="16371"/>
                </a:moveTo>
                <a:cubicBezTo>
                  <a:pt x="20813" y="16365"/>
                  <a:pt x="20860" y="16355"/>
                  <a:pt x="20910" y="16346"/>
                </a:cubicBezTo>
                <a:cubicBezTo>
                  <a:pt x="20895" y="16225"/>
                  <a:pt x="20783" y="16187"/>
                  <a:pt x="20712" y="16321"/>
                </a:cubicBezTo>
                <a:cubicBezTo>
                  <a:pt x="20634" y="16468"/>
                  <a:pt x="20754" y="16750"/>
                  <a:pt x="20935" y="16594"/>
                </a:cubicBezTo>
                <a:cubicBezTo>
                  <a:pt x="20993" y="16528"/>
                  <a:pt x="21051" y="16462"/>
                  <a:pt x="21109" y="163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86800" y="5581800"/>
            <a:ext cx="706320" cy="312480"/>
          </a:xfrm>
          <a:custGeom>
            <a:avLst/>
            <a:gdLst/>
            <a:ahLst/>
            <a:rect l="l" t="t" r="r" b="b"/>
            <a:pathLst>
              <a:path w="1960" h="869">
                <a:moveTo>
                  <a:pt x="21630" y="16073"/>
                </a:moveTo>
                <a:cubicBezTo>
                  <a:pt x="21667" y="16180"/>
                  <a:pt x="21695" y="16277"/>
                  <a:pt x="21754" y="16371"/>
                </a:cubicBezTo>
                <a:cubicBezTo>
                  <a:pt x="21746" y="16306"/>
                  <a:pt x="21654" y="16064"/>
                  <a:pt x="21729" y="16024"/>
                </a:cubicBezTo>
                <a:cubicBezTo>
                  <a:pt x="21873" y="15946"/>
                  <a:pt x="21971" y="16192"/>
                  <a:pt x="22027" y="16272"/>
                </a:cubicBezTo>
                <a:cubicBezTo>
                  <a:pt x="22035" y="16280"/>
                  <a:pt x="22043" y="16289"/>
                  <a:pt x="22051" y="16297"/>
                </a:cubicBezTo>
                <a:cubicBezTo>
                  <a:pt x="22051" y="16192"/>
                  <a:pt x="21977" y="16102"/>
                  <a:pt x="21977" y="15999"/>
                </a:cubicBezTo>
                <a:cubicBezTo>
                  <a:pt x="21977" y="15847"/>
                  <a:pt x="22220" y="16062"/>
                  <a:pt x="22324" y="16173"/>
                </a:cubicBezTo>
                <a:cubicBezTo>
                  <a:pt x="22341" y="16189"/>
                  <a:pt x="22357" y="16206"/>
                  <a:pt x="22374" y="16222"/>
                </a:cubicBezTo>
              </a:path>
              <a:path w="1960" h="869">
                <a:moveTo>
                  <a:pt x="22622" y="15925"/>
                </a:moveTo>
                <a:cubicBezTo>
                  <a:pt x="22474" y="15875"/>
                  <a:pt x="22385" y="15866"/>
                  <a:pt x="22399" y="16098"/>
                </a:cubicBezTo>
                <a:cubicBezTo>
                  <a:pt x="22415" y="16139"/>
                  <a:pt x="22432" y="16181"/>
                  <a:pt x="22448" y="16222"/>
                </a:cubicBezTo>
                <a:cubicBezTo>
                  <a:pt x="22611" y="16277"/>
                  <a:pt x="22572" y="16131"/>
                  <a:pt x="22572" y="15974"/>
                </a:cubicBezTo>
                <a:cubicBezTo>
                  <a:pt x="22670" y="16083"/>
                  <a:pt x="22747" y="16093"/>
                  <a:pt x="22895" y="16024"/>
                </a:cubicBezTo>
                <a:cubicBezTo>
                  <a:pt x="23018" y="15967"/>
                  <a:pt x="23058" y="15918"/>
                  <a:pt x="23093" y="15801"/>
                </a:cubicBezTo>
                <a:cubicBezTo>
                  <a:pt x="22882" y="15838"/>
                  <a:pt x="22849" y="15880"/>
                  <a:pt x="22820" y="16098"/>
                </a:cubicBezTo>
                <a:cubicBezTo>
                  <a:pt x="23018" y="16068"/>
                  <a:pt x="23091" y="16009"/>
                  <a:pt x="23019" y="15801"/>
                </a:cubicBezTo>
                <a:cubicBezTo>
                  <a:pt x="22945" y="15654"/>
                  <a:pt x="22922" y="15607"/>
                  <a:pt x="22845" y="15528"/>
                </a:cubicBezTo>
                <a:cubicBezTo>
                  <a:pt x="22845" y="15508"/>
                  <a:pt x="23026" y="15877"/>
                  <a:pt x="23068" y="15949"/>
                </a:cubicBezTo>
                <a:cubicBezTo>
                  <a:pt x="23118" y="16024"/>
                  <a:pt x="23134" y="16049"/>
                  <a:pt x="23192" y="15974"/>
                </a:cubicBezTo>
              </a:path>
              <a:path w="1960" h="869">
                <a:moveTo>
                  <a:pt x="23316" y="15801"/>
                </a:moveTo>
                <a:cubicBezTo>
                  <a:pt x="23375" y="15742"/>
                  <a:pt x="23420" y="15721"/>
                  <a:pt x="23440" y="15652"/>
                </a:cubicBezTo>
                <a:cubicBezTo>
                  <a:pt x="23300" y="15573"/>
                  <a:pt x="23192" y="15690"/>
                  <a:pt x="23242" y="15875"/>
                </a:cubicBezTo>
                <a:cubicBezTo>
                  <a:pt x="23307" y="16113"/>
                  <a:pt x="23502" y="15907"/>
                  <a:pt x="23589" y="158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609040" y="5330880"/>
            <a:ext cx="169920" cy="295200"/>
          </a:xfrm>
          <a:custGeom>
            <a:avLst/>
            <a:gdLst/>
            <a:ahLst/>
            <a:rect l="l" t="t" r="r" b="b"/>
            <a:pathLst>
              <a:path w="472" h="820">
                <a:moveTo>
                  <a:pt x="23961" y="15180"/>
                </a:moveTo>
                <a:cubicBezTo>
                  <a:pt x="23884" y="15338"/>
                  <a:pt x="23910" y="15479"/>
                  <a:pt x="24011" y="15627"/>
                </a:cubicBezTo>
                <a:cubicBezTo>
                  <a:pt x="24019" y="15627"/>
                  <a:pt x="24028" y="15627"/>
                  <a:pt x="24036" y="15627"/>
                </a:cubicBezTo>
                <a:cubicBezTo>
                  <a:pt x="24110" y="15494"/>
                  <a:pt x="24220" y="15325"/>
                  <a:pt x="24011" y="15255"/>
                </a:cubicBezTo>
                <a:cubicBezTo>
                  <a:pt x="23959" y="15255"/>
                  <a:pt x="23943" y="15253"/>
                  <a:pt x="23986" y="15205"/>
                </a:cubicBezTo>
              </a:path>
              <a:path w="472" h="820">
                <a:moveTo>
                  <a:pt x="24383" y="14833"/>
                </a:moveTo>
                <a:cubicBezTo>
                  <a:pt x="24210" y="14821"/>
                  <a:pt x="24141" y="14877"/>
                  <a:pt x="24209" y="15081"/>
                </a:cubicBezTo>
                <a:cubicBezTo>
                  <a:pt x="24250" y="15204"/>
                  <a:pt x="24487" y="15416"/>
                  <a:pt x="24358" y="15429"/>
                </a:cubicBezTo>
                <a:cubicBezTo>
                  <a:pt x="24342" y="15421"/>
                  <a:pt x="24325" y="15412"/>
                  <a:pt x="24309" y="154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73880" y="6126120"/>
            <a:ext cx="1285920" cy="527040"/>
          </a:xfrm>
          <a:custGeom>
            <a:avLst/>
            <a:gdLst/>
            <a:ahLst/>
            <a:rect l="l" t="t" r="r" b="b"/>
            <a:pathLst>
              <a:path w="3573" h="1464">
                <a:moveTo>
                  <a:pt x="17983" y="18083"/>
                </a:moveTo>
                <a:cubicBezTo>
                  <a:pt x="18041" y="18207"/>
                  <a:pt x="18098" y="18331"/>
                  <a:pt x="18157" y="18455"/>
                </a:cubicBezTo>
                <a:cubicBezTo>
                  <a:pt x="18237" y="18506"/>
                  <a:pt x="18063" y="18267"/>
                  <a:pt x="18058" y="18256"/>
                </a:cubicBezTo>
                <a:cubicBezTo>
                  <a:pt x="17967" y="18061"/>
                  <a:pt x="18064" y="17938"/>
                  <a:pt x="18256" y="17909"/>
                </a:cubicBezTo>
                <a:cubicBezTo>
                  <a:pt x="18301" y="17909"/>
                  <a:pt x="18314" y="17906"/>
                  <a:pt x="18331" y="17934"/>
                </a:cubicBezTo>
              </a:path>
              <a:path w="3573" h="1464">
                <a:moveTo>
                  <a:pt x="18355" y="18107"/>
                </a:moveTo>
                <a:cubicBezTo>
                  <a:pt x="18455" y="18072"/>
                  <a:pt x="18552" y="18038"/>
                  <a:pt x="18653" y="18008"/>
                </a:cubicBezTo>
                <a:cubicBezTo>
                  <a:pt x="18593" y="17940"/>
                  <a:pt x="18412" y="17812"/>
                  <a:pt x="18355" y="17983"/>
                </a:cubicBezTo>
                <a:cubicBezTo>
                  <a:pt x="18296" y="18159"/>
                  <a:pt x="18429" y="18495"/>
                  <a:pt x="18653" y="18331"/>
                </a:cubicBezTo>
                <a:cubicBezTo>
                  <a:pt x="18694" y="18281"/>
                  <a:pt x="18736" y="18232"/>
                  <a:pt x="18777" y="18182"/>
                </a:cubicBezTo>
              </a:path>
              <a:path w="3573" h="1464">
                <a:moveTo>
                  <a:pt x="18951" y="17760"/>
                </a:moveTo>
                <a:cubicBezTo>
                  <a:pt x="18926" y="17835"/>
                  <a:pt x="18883" y="17716"/>
                  <a:pt x="18827" y="17760"/>
                </a:cubicBezTo>
                <a:cubicBezTo>
                  <a:pt x="18711" y="17851"/>
                  <a:pt x="18752" y="18198"/>
                  <a:pt x="18926" y="18207"/>
                </a:cubicBezTo>
                <a:cubicBezTo>
                  <a:pt x="19053" y="18156"/>
                  <a:pt x="19096" y="18136"/>
                  <a:pt x="19124" y="18033"/>
                </a:cubicBezTo>
              </a:path>
              <a:path w="3573" h="1464">
                <a:moveTo>
                  <a:pt x="19050" y="17438"/>
                </a:moveTo>
                <a:cubicBezTo>
                  <a:pt x="19157" y="17653"/>
                  <a:pt x="19258" y="17866"/>
                  <a:pt x="19348" y="18083"/>
                </a:cubicBezTo>
                <a:cubicBezTo>
                  <a:pt x="19348" y="18075"/>
                  <a:pt x="19348" y="18066"/>
                  <a:pt x="19348" y="18058"/>
                </a:cubicBezTo>
              </a:path>
              <a:path w="3573" h="1464">
                <a:moveTo>
                  <a:pt x="18976" y="17810"/>
                </a:moveTo>
                <a:cubicBezTo>
                  <a:pt x="19125" y="17746"/>
                  <a:pt x="19267" y="17684"/>
                  <a:pt x="19422" y="17636"/>
                </a:cubicBezTo>
              </a:path>
              <a:path w="3573" h="1464">
                <a:moveTo>
                  <a:pt x="19720" y="17661"/>
                </a:moveTo>
                <a:cubicBezTo>
                  <a:pt x="19675" y="17550"/>
                  <a:pt x="19558" y="17527"/>
                  <a:pt x="19472" y="17636"/>
                </a:cubicBezTo>
                <a:cubicBezTo>
                  <a:pt x="19373" y="17761"/>
                  <a:pt x="19482" y="18060"/>
                  <a:pt x="19621" y="17884"/>
                </a:cubicBezTo>
                <a:cubicBezTo>
                  <a:pt x="19660" y="17786"/>
                  <a:pt x="19676" y="17773"/>
                  <a:pt x="19670" y="17711"/>
                </a:cubicBezTo>
                <a:cubicBezTo>
                  <a:pt x="19686" y="17774"/>
                  <a:pt x="19799" y="17850"/>
                  <a:pt x="19869" y="17810"/>
                </a:cubicBezTo>
                <a:cubicBezTo>
                  <a:pt x="19953" y="17762"/>
                  <a:pt x="19909" y="17575"/>
                  <a:pt x="19993" y="17686"/>
                </a:cubicBezTo>
                <a:cubicBezTo>
                  <a:pt x="20018" y="17719"/>
                  <a:pt x="20042" y="17752"/>
                  <a:pt x="20067" y="17785"/>
                </a:cubicBezTo>
                <a:cubicBezTo>
                  <a:pt x="20075" y="17793"/>
                  <a:pt x="20084" y="17802"/>
                  <a:pt x="20092" y="17810"/>
                </a:cubicBezTo>
                <a:cubicBezTo>
                  <a:pt x="20072" y="17709"/>
                  <a:pt x="20017" y="17597"/>
                  <a:pt x="20042" y="17487"/>
                </a:cubicBezTo>
                <a:cubicBezTo>
                  <a:pt x="20066" y="17379"/>
                  <a:pt x="20298" y="17611"/>
                  <a:pt x="20315" y="17636"/>
                </a:cubicBezTo>
                <a:cubicBezTo>
                  <a:pt x="20340" y="17686"/>
                  <a:pt x="20348" y="17702"/>
                  <a:pt x="20365" y="17735"/>
                </a:cubicBezTo>
              </a:path>
              <a:path w="3573" h="1464">
                <a:moveTo>
                  <a:pt x="20489" y="17338"/>
                </a:moveTo>
                <a:cubicBezTo>
                  <a:pt x="20434" y="17383"/>
                  <a:pt x="20230" y="17650"/>
                  <a:pt x="20414" y="17711"/>
                </a:cubicBezTo>
                <a:cubicBezTo>
                  <a:pt x="20547" y="17755"/>
                  <a:pt x="20533" y="17531"/>
                  <a:pt x="20538" y="17487"/>
                </a:cubicBezTo>
                <a:cubicBezTo>
                  <a:pt x="20530" y="17487"/>
                  <a:pt x="20521" y="17487"/>
                  <a:pt x="20513" y="17487"/>
                </a:cubicBezTo>
                <a:cubicBezTo>
                  <a:pt x="20674" y="17556"/>
                  <a:pt x="20737" y="17662"/>
                  <a:pt x="20762" y="17835"/>
                </a:cubicBezTo>
                <a:cubicBezTo>
                  <a:pt x="20767" y="17870"/>
                  <a:pt x="20692" y="18218"/>
                  <a:pt x="20613" y="18083"/>
                </a:cubicBezTo>
                <a:cubicBezTo>
                  <a:pt x="20596" y="18033"/>
                  <a:pt x="20580" y="17984"/>
                  <a:pt x="20563" y="17934"/>
                </a:cubicBezTo>
              </a:path>
              <a:path w="3573" h="1464">
                <a:moveTo>
                  <a:pt x="20588" y="17066"/>
                </a:moveTo>
                <a:cubicBezTo>
                  <a:pt x="20665" y="17230"/>
                  <a:pt x="20732" y="17439"/>
                  <a:pt x="20836" y="17587"/>
                </a:cubicBezTo>
                <a:cubicBezTo>
                  <a:pt x="20871" y="17587"/>
                  <a:pt x="20884" y="17578"/>
                  <a:pt x="20886" y="17537"/>
                </a:cubicBezTo>
              </a:path>
              <a:path w="3573" h="1464">
                <a:moveTo>
                  <a:pt x="20910" y="17314"/>
                </a:moveTo>
                <a:cubicBezTo>
                  <a:pt x="20978" y="17286"/>
                  <a:pt x="21036" y="17239"/>
                  <a:pt x="21109" y="17239"/>
                </a:cubicBezTo>
                <a:cubicBezTo>
                  <a:pt x="21089" y="17208"/>
                  <a:pt x="20970" y="17046"/>
                  <a:pt x="20935" y="17165"/>
                </a:cubicBezTo>
                <a:cubicBezTo>
                  <a:pt x="20911" y="17332"/>
                  <a:pt x="20901" y="17384"/>
                  <a:pt x="20960" y="17487"/>
                </a:cubicBezTo>
                <a:cubicBezTo>
                  <a:pt x="21151" y="17501"/>
                  <a:pt x="21127" y="17467"/>
                  <a:pt x="21258" y="17314"/>
                </a:cubicBezTo>
              </a:path>
              <a:path w="3573" h="1464">
                <a:moveTo>
                  <a:pt x="21406" y="17016"/>
                </a:moveTo>
                <a:cubicBezTo>
                  <a:pt x="21321" y="17055"/>
                  <a:pt x="21306" y="17061"/>
                  <a:pt x="21258" y="17140"/>
                </a:cubicBezTo>
                <a:cubicBezTo>
                  <a:pt x="21368" y="17140"/>
                  <a:pt x="21452" y="17152"/>
                  <a:pt x="21555" y="17190"/>
                </a:cubicBezTo>
                <a:cubicBezTo>
                  <a:pt x="21525" y="17386"/>
                  <a:pt x="21470" y="17399"/>
                  <a:pt x="21282" y="173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966080" y="5776920"/>
            <a:ext cx="696960" cy="403200"/>
          </a:xfrm>
          <a:custGeom>
            <a:avLst/>
            <a:gdLst/>
            <a:ahLst/>
            <a:rect l="l" t="t" r="r" b="b"/>
            <a:pathLst>
              <a:path w="1936" h="1117">
                <a:moveTo>
                  <a:pt x="22399" y="16917"/>
                </a:moveTo>
                <a:cubicBezTo>
                  <a:pt x="22280" y="16883"/>
                  <a:pt x="22173" y="16813"/>
                  <a:pt x="22126" y="16991"/>
                </a:cubicBezTo>
                <a:cubicBezTo>
                  <a:pt x="22081" y="17161"/>
                  <a:pt x="22255" y="17251"/>
                  <a:pt x="22324" y="17066"/>
                </a:cubicBezTo>
                <a:cubicBezTo>
                  <a:pt x="22324" y="17033"/>
                  <a:pt x="22324" y="16999"/>
                  <a:pt x="22324" y="16966"/>
                </a:cubicBezTo>
                <a:cubicBezTo>
                  <a:pt x="22369" y="16977"/>
                  <a:pt x="22425" y="17053"/>
                  <a:pt x="22473" y="16991"/>
                </a:cubicBezTo>
                <a:cubicBezTo>
                  <a:pt x="22540" y="16904"/>
                  <a:pt x="22490" y="16864"/>
                  <a:pt x="22572" y="16966"/>
                </a:cubicBezTo>
                <a:cubicBezTo>
                  <a:pt x="22556" y="16871"/>
                  <a:pt x="22538" y="16807"/>
                  <a:pt x="22572" y="16718"/>
                </a:cubicBezTo>
                <a:cubicBezTo>
                  <a:pt x="22729" y="16696"/>
                  <a:pt x="22827" y="16695"/>
                  <a:pt x="22870" y="16867"/>
                </a:cubicBezTo>
                <a:cubicBezTo>
                  <a:pt x="22870" y="16919"/>
                  <a:pt x="22871" y="16934"/>
                  <a:pt x="22895" y="16867"/>
                </a:cubicBezTo>
              </a:path>
              <a:path w="1936" h="1117">
                <a:moveTo>
                  <a:pt x="23143" y="16619"/>
                </a:moveTo>
                <a:cubicBezTo>
                  <a:pt x="23065" y="16599"/>
                  <a:pt x="23024" y="16567"/>
                  <a:pt x="22944" y="16644"/>
                </a:cubicBezTo>
                <a:cubicBezTo>
                  <a:pt x="22794" y="16789"/>
                  <a:pt x="22872" y="16864"/>
                  <a:pt x="23019" y="16917"/>
                </a:cubicBezTo>
                <a:cubicBezTo>
                  <a:pt x="23154" y="16732"/>
                  <a:pt x="23124" y="16730"/>
                  <a:pt x="23093" y="16495"/>
                </a:cubicBezTo>
              </a:path>
              <a:path w="1936" h="1117">
                <a:moveTo>
                  <a:pt x="22944" y="16272"/>
                </a:moveTo>
                <a:cubicBezTo>
                  <a:pt x="22919" y="16380"/>
                  <a:pt x="23099" y="16569"/>
                  <a:pt x="23168" y="16694"/>
                </a:cubicBezTo>
                <a:cubicBezTo>
                  <a:pt x="23208" y="16767"/>
                  <a:pt x="23167" y="16827"/>
                  <a:pt x="23217" y="16743"/>
                </a:cubicBezTo>
              </a:path>
              <a:path w="1936" h="1117">
                <a:moveTo>
                  <a:pt x="23168" y="16148"/>
                </a:moveTo>
                <a:cubicBezTo>
                  <a:pt x="23262" y="16377"/>
                  <a:pt x="23354" y="16635"/>
                  <a:pt x="23490" y="16842"/>
                </a:cubicBezTo>
                <a:cubicBezTo>
                  <a:pt x="23507" y="16859"/>
                  <a:pt x="23523" y="16875"/>
                  <a:pt x="23540" y="16892"/>
                </a:cubicBezTo>
              </a:path>
              <a:path w="1936" h="1117">
                <a:moveTo>
                  <a:pt x="23837" y="16346"/>
                </a:moveTo>
                <a:cubicBezTo>
                  <a:pt x="23736" y="16359"/>
                  <a:pt x="23664" y="16430"/>
                  <a:pt x="23664" y="16545"/>
                </a:cubicBezTo>
                <a:cubicBezTo>
                  <a:pt x="23672" y="16561"/>
                  <a:pt x="23680" y="16578"/>
                  <a:pt x="23688" y="16594"/>
                </a:cubicBezTo>
                <a:cubicBezTo>
                  <a:pt x="23779" y="16587"/>
                  <a:pt x="23938" y="16593"/>
                  <a:pt x="23887" y="16446"/>
                </a:cubicBezTo>
                <a:cubicBezTo>
                  <a:pt x="23853" y="16348"/>
                  <a:pt x="23816" y="16371"/>
                  <a:pt x="23738" y="16371"/>
                </a:cubicBezTo>
              </a:path>
              <a:path w="1936" h="1117">
                <a:moveTo>
                  <a:pt x="24061" y="16297"/>
                </a:moveTo>
                <a:cubicBezTo>
                  <a:pt x="23987" y="16380"/>
                  <a:pt x="23987" y="16389"/>
                  <a:pt x="23887" y="16346"/>
                </a:cubicBezTo>
                <a:cubicBezTo>
                  <a:pt x="23928" y="16245"/>
                  <a:pt x="23940" y="16155"/>
                  <a:pt x="24011" y="16073"/>
                </a:cubicBezTo>
                <a:cubicBezTo>
                  <a:pt x="24034" y="16051"/>
                  <a:pt x="24045" y="16043"/>
                  <a:pt x="24011" y="160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05800" y="6027840"/>
            <a:ext cx="1063440" cy="544320"/>
          </a:xfrm>
          <a:custGeom>
            <a:avLst/>
            <a:gdLst/>
            <a:ahLst/>
            <a:rect l="l" t="t" r="r" b="b"/>
            <a:pathLst>
              <a:path w="2953" h="1514">
                <a:moveTo>
                  <a:pt x="21630" y="17711"/>
                </a:moveTo>
                <a:cubicBezTo>
                  <a:pt x="21689" y="17878"/>
                  <a:pt x="21754" y="18122"/>
                  <a:pt x="21878" y="18256"/>
                </a:cubicBezTo>
                <a:cubicBezTo>
                  <a:pt x="21886" y="18256"/>
                  <a:pt x="21895" y="18256"/>
                  <a:pt x="21903" y="18256"/>
                </a:cubicBezTo>
              </a:path>
              <a:path w="2953" h="1514">
                <a:moveTo>
                  <a:pt x="21406" y="18157"/>
                </a:moveTo>
                <a:cubicBezTo>
                  <a:pt x="21586" y="18091"/>
                  <a:pt x="21767" y="17923"/>
                  <a:pt x="21952" y="17884"/>
                </a:cubicBezTo>
                <a:cubicBezTo>
                  <a:pt x="22003" y="17873"/>
                  <a:pt x="22059" y="17999"/>
                  <a:pt x="22076" y="18033"/>
                </a:cubicBezTo>
                <a:cubicBezTo>
                  <a:pt x="22096" y="18074"/>
                  <a:pt x="22094" y="18090"/>
                  <a:pt x="22126" y="18083"/>
                </a:cubicBezTo>
                <a:cubicBezTo>
                  <a:pt x="22085" y="18001"/>
                  <a:pt x="22052" y="17948"/>
                  <a:pt x="22101" y="17859"/>
                </a:cubicBezTo>
                <a:cubicBezTo>
                  <a:pt x="22144" y="17781"/>
                  <a:pt x="22218" y="17754"/>
                  <a:pt x="22275" y="17760"/>
                </a:cubicBezTo>
                <a:cubicBezTo>
                  <a:pt x="22316" y="17764"/>
                  <a:pt x="22313" y="17767"/>
                  <a:pt x="22324" y="17735"/>
                </a:cubicBezTo>
                <a:cubicBezTo>
                  <a:pt x="22349" y="17775"/>
                  <a:pt x="22430" y="18033"/>
                  <a:pt x="22498" y="18033"/>
                </a:cubicBezTo>
                <a:cubicBezTo>
                  <a:pt x="22498" y="18016"/>
                  <a:pt x="22498" y="18000"/>
                  <a:pt x="22498" y="17983"/>
                </a:cubicBezTo>
              </a:path>
              <a:path w="2953" h="1514">
                <a:moveTo>
                  <a:pt x="22126" y="17462"/>
                </a:moveTo>
                <a:cubicBezTo>
                  <a:pt x="22159" y="17462"/>
                  <a:pt x="22175" y="17462"/>
                  <a:pt x="22200" y="17462"/>
                </a:cubicBezTo>
              </a:path>
              <a:path w="2953" h="1514">
                <a:moveTo>
                  <a:pt x="22920" y="17661"/>
                </a:moveTo>
                <a:cubicBezTo>
                  <a:pt x="22847" y="17646"/>
                  <a:pt x="22744" y="17586"/>
                  <a:pt x="22696" y="17686"/>
                </a:cubicBezTo>
                <a:cubicBezTo>
                  <a:pt x="22643" y="17795"/>
                  <a:pt x="22719" y="18062"/>
                  <a:pt x="22820" y="17859"/>
                </a:cubicBezTo>
                <a:cubicBezTo>
                  <a:pt x="22845" y="17760"/>
                  <a:pt x="22853" y="17727"/>
                  <a:pt x="22820" y="17661"/>
                </a:cubicBezTo>
                <a:cubicBezTo>
                  <a:pt x="22812" y="17669"/>
                  <a:pt x="22804" y="17678"/>
                  <a:pt x="22796" y="17686"/>
                </a:cubicBezTo>
                <a:cubicBezTo>
                  <a:pt x="22876" y="17748"/>
                  <a:pt x="23000" y="17816"/>
                  <a:pt x="23019" y="17636"/>
                </a:cubicBezTo>
                <a:cubicBezTo>
                  <a:pt x="23028" y="17554"/>
                  <a:pt x="22966" y="17559"/>
                  <a:pt x="23093" y="17711"/>
                </a:cubicBezTo>
                <a:cubicBezTo>
                  <a:pt x="23101" y="17719"/>
                  <a:pt x="23110" y="17727"/>
                  <a:pt x="23118" y="17735"/>
                </a:cubicBezTo>
                <a:cubicBezTo>
                  <a:pt x="23077" y="17623"/>
                  <a:pt x="23046" y="17524"/>
                  <a:pt x="23068" y="17413"/>
                </a:cubicBezTo>
                <a:cubicBezTo>
                  <a:pt x="23193" y="17436"/>
                  <a:pt x="23243" y="17644"/>
                  <a:pt x="23366" y="17611"/>
                </a:cubicBezTo>
                <a:cubicBezTo>
                  <a:pt x="23374" y="17595"/>
                  <a:pt x="23383" y="17578"/>
                  <a:pt x="23391" y="17562"/>
                </a:cubicBezTo>
              </a:path>
              <a:path w="2953" h="1514">
                <a:moveTo>
                  <a:pt x="23440" y="17190"/>
                </a:moveTo>
                <a:cubicBezTo>
                  <a:pt x="23390" y="17250"/>
                  <a:pt x="23239" y="17559"/>
                  <a:pt x="23465" y="17537"/>
                </a:cubicBezTo>
                <a:cubicBezTo>
                  <a:pt x="23576" y="17526"/>
                  <a:pt x="23521" y="17338"/>
                  <a:pt x="23515" y="17289"/>
                </a:cubicBezTo>
                <a:cubicBezTo>
                  <a:pt x="23492" y="17266"/>
                  <a:pt x="23484" y="17255"/>
                  <a:pt x="23490" y="17289"/>
                </a:cubicBezTo>
                <a:cubicBezTo>
                  <a:pt x="23593" y="17421"/>
                  <a:pt x="23709" y="17558"/>
                  <a:pt x="23713" y="17735"/>
                </a:cubicBezTo>
                <a:cubicBezTo>
                  <a:pt x="23717" y="17954"/>
                  <a:pt x="23615" y="18001"/>
                  <a:pt x="23465" y="17909"/>
                </a:cubicBezTo>
              </a:path>
              <a:path w="2953" h="1514">
                <a:moveTo>
                  <a:pt x="23639" y="16966"/>
                </a:moveTo>
                <a:cubicBezTo>
                  <a:pt x="23682" y="17120"/>
                  <a:pt x="23751" y="17299"/>
                  <a:pt x="23837" y="17438"/>
                </a:cubicBezTo>
                <a:cubicBezTo>
                  <a:pt x="23854" y="17454"/>
                  <a:pt x="23870" y="17471"/>
                  <a:pt x="23887" y="17487"/>
                </a:cubicBezTo>
              </a:path>
              <a:path w="2953" h="1514">
                <a:moveTo>
                  <a:pt x="23961" y="17214"/>
                </a:moveTo>
                <a:cubicBezTo>
                  <a:pt x="24013" y="17163"/>
                  <a:pt x="24032" y="17146"/>
                  <a:pt x="24085" y="17140"/>
                </a:cubicBezTo>
                <a:cubicBezTo>
                  <a:pt x="24012" y="17120"/>
                  <a:pt x="23962" y="17115"/>
                  <a:pt x="23887" y="17115"/>
                </a:cubicBezTo>
                <a:cubicBezTo>
                  <a:pt x="23822" y="17115"/>
                  <a:pt x="23847" y="17129"/>
                  <a:pt x="23887" y="17041"/>
                </a:cubicBezTo>
                <a:cubicBezTo>
                  <a:pt x="23939" y="17058"/>
                  <a:pt x="23874" y="17241"/>
                  <a:pt x="23912" y="17314"/>
                </a:cubicBezTo>
                <a:cubicBezTo>
                  <a:pt x="23990" y="17392"/>
                  <a:pt x="23993" y="17425"/>
                  <a:pt x="24061" y="17413"/>
                </a:cubicBezTo>
                <a:cubicBezTo>
                  <a:pt x="24085" y="17294"/>
                  <a:pt x="24085" y="17190"/>
                  <a:pt x="24085" y="17066"/>
                </a:cubicBezTo>
              </a:path>
              <a:path w="2953" h="1514">
                <a:moveTo>
                  <a:pt x="24160" y="16743"/>
                </a:moveTo>
                <a:cubicBezTo>
                  <a:pt x="24090" y="16799"/>
                  <a:pt x="24063" y="16822"/>
                  <a:pt x="24036" y="16917"/>
                </a:cubicBezTo>
                <a:cubicBezTo>
                  <a:pt x="24156" y="16917"/>
                  <a:pt x="24231" y="16923"/>
                  <a:pt x="24333" y="16991"/>
                </a:cubicBezTo>
                <a:cubicBezTo>
                  <a:pt x="24421" y="17050"/>
                  <a:pt x="24285" y="17157"/>
                  <a:pt x="24234" y="17190"/>
                </a:cubicBezTo>
                <a:cubicBezTo>
                  <a:pt x="24206" y="17190"/>
                  <a:pt x="24195" y="17188"/>
                  <a:pt x="24185" y="171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composite figure (compound figur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03848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124080"/>
            <a:ext cx="914400" cy="9144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2666880"/>
            <a:ext cx="1447920" cy="2133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0120" y="266688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3733920"/>
            <a:ext cx="205740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3048120"/>
            <a:ext cx="6858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3048120"/>
            <a:ext cx="6858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8116800">
            <a:off x="3276360" y="2819160"/>
            <a:ext cx="533160" cy="5331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8116800">
            <a:off x="4647960" y="2819160"/>
            <a:ext cx="533160" cy="5331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267080"/>
            <a:ext cx="6858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1160" y="3697200"/>
            <a:ext cx="901800" cy="955800"/>
          </a:xfrm>
          <a:custGeom>
            <a:avLst/>
            <a:gdLst/>
            <a:ahLst/>
            <a:rect l="l" t="t" r="r" b="b"/>
            <a:pathLst>
              <a:path w="2506" h="2655">
                <a:moveTo>
                  <a:pt x="2530" y="11311"/>
                </a:moveTo>
                <a:cubicBezTo>
                  <a:pt x="2568" y="11330"/>
                  <a:pt x="2587" y="11352"/>
                  <a:pt x="2629" y="11361"/>
                </a:cubicBezTo>
                <a:cubicBezTo>
                  <a:pt x="2684" y="11373"/>
                  <a:pt x="2750" y="11383"/>
                  <a:pt x="2803" y="11385"/>
                </a:cubicBezTo>
                <a:cubicBezTo>
                  <a:pt x="2885" y="11388"/>
                  <a:pt x="2950" y="11371"/>
                  <a:pt x="3026" y="11361"/>
                </a:cubicBezTo>
                <a:cubicBezTo>
                  <a:pt x="3074" y="11355"/>
                  <a:pt x="3132" y="11370"/>
                  <a:pt x="3200" y="11361"/>
                </a:cubicBezTo>
                <a:cubicBezTo>
                  <a:pt x="3260" y="11353"/>
                  <a:pt x="3314" y="11339"/>
                  <a:pt x="3373" y="11336"/>
                </a:cubicBezTo>
                <a:cubicBezTo>
                  <a:pt x="3430" y="11333"/>
                  <a:pt x="3517" y="11327"/>
                  <a:pt x="3572" y="11311"/>
                </a:cubicBezTo>
                <a:cubicBezTo>
                  <a:pt x="3635" y="11293"/>
                  <a:pt x="3678" y="11293"/>
                  <a:pt x="3746" y="11286"/>
                </a:cubicBezTo>
                <a:cubicBezTo>
                  <a:pt x="3829" y="11278"/>
                  <a:pt x="3890" y="11292"/>
                  <a:pt x="3969" y="11286"/>
                </a:cubicBezTo>
                <a:cubicBezTo>
                  <a:pt x="4138" y="11273"/>
                  <a:pt x="4378" y="11246"/>
                  <a:pt x="4539" y="11261"/>
                </a:cubicBezTo>
                <a:cubicBezTo>
                  <a:pt x="4612" y="11268"/>
                  <a:pt x="4680" y="11261"/>
                  <a:pt x="4762" y="11261"/>
                </a:cubicBezTo>
                <a:cubicBezTo>
                  <a:pt x="4821" y="11261"/>
                  <a:pt x="4856" y="11244"/>
                  <a:pt x="4911" y="11237"/>
                </a:cubicBezTo>
                <a:cubicBezTo>
                  <a:pt x="4950" y="11232"/>
                  <a:pt x="4995" y="11237"/>
                  <a:pt x="5035" y="11237"/>
                </a:cubicBezTo>
              </a:path>
              <a:path w="2506" h="2655">
                <a:moveTo>
                  <a:pt x="2977" y="12576"/>
                </a:moveTo>
                <a:cubicBezTo>
                  <a:pt x="3070" y="12521"/>
                  <a:pt x="3637" y="12142"/>
                  <a:pt x="3696" y="12427"/>
                </a:cubicBezTo>
                <a:cubicBezTo>
                  <a:pt x="3720" y="12545"/>
                  <a:pt x="3544" y="12648"/>
                  <a:pt x="3473" y="12700"/>
                </a:cubicBezTo>
                <a:cubicBezTo>
                  <a:pt x="3660" y="12658"/>
                  <a:pt x="3696" y="12634"/>
                  <a:pt x="3870" y="12750"/>
                </a:cubicBezTo>
                <a:cubicBezTo>
                  <a:pt x="3923" y="12785"/>
                  <a:pt x="3985" y="12885"/>
                  <a:pt x="4018" y="12923"/>
                </a:cubicBezTo>
              </a:path>
              <a:path w="2506" h="2655">
                <a:moveTo>
                  <a:pt x="3274" y="10393"/>
                </a:moveTo>
                <a:cubicBezTo>
                  <a:pt x="3342" y="10529"/>
                  <a:pt x="3400" y="10672"/>
                  <a:pt x="3448" y="10815"/>
                </a:cubicBezTo>
                <a:cubicBezTo>
                  <a:pt x="3448" y="10840"/>
                  <a:pt x="3448" y="10848"/>
                  <a:pt x="3448" y="10815"/>
                </a:cubicBezTo>
              </a:path>
              <a:path w="2506" h="2655">
                <a:moveTo>
                  <a:pt x="2877" y="10616"/>
                </a:moveTo>
                <a:cubicBezTo>
                  <a:pt x="3093" y="10456"/>
                  <a:pt x="3282" y="10338"/>
                  <a:pt x="3547" y="10269"/>
                </a:cubicBezTo>
                <a:cubicBezTo>
                  <a:pt x="3603" y="10254"/>
                  <a:pt x="3589" y="10274"/>
                  <a:pt x="3597" y="103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41280" y="2714760"/>
            <a:ext cx="6045480" cy="1946160"/>
          </a:xfrm>
          <a:custGeom>
            <a:avLst/>
            <a:gdLst/>
            <a:ahLst/>
            <a:rect l="l" t="t" r="r" b="b"/>
            <a:pathLst>
              <a:path w="16794" h="5408">
                <a:moveTo>
                  <a:pt x="3448" y="12650"/>
                </a:moveTo>
                <a:cubicBezTo>
                  <a:pt x="3509" y="12815"/>
                  <a:pt x="3525" y="12845"/>
                  <a:pt x="3547" y="12948"/>
                </a:cubicBezTo>
              </a:path>
              <a:path w="16794" h="5408">
                <a:moveTo>
                  <a:pt x="20241" y="9847"/>
                </a:moveTo>
                <a:lnTo>
                  <a:pt x="20241" y="9847"/>
                </a:lnTo>
              </a:path>
              <a:path w="16794" h="5408">
                <a:moveTo>
                  <a:pt x="17735" y="7541"/>
                </a:moveTo>
                <a:cubicBezTo>
                  <a:pt x="17710" y="7541"/>
                  <a:pt x="17686" y="7541"/>
                  <a:pt x="17661" y="75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02000" y="2768760"/>
            <a:ext cx="196920" cy="196560"/>
          </a:xfrm>
          <a:custGeom>
            <a:avLst/>
            <a:gdLst/>
            <a:ahLst/>
            <a:rect l="l" t="t" r="r" b="b"/>
            <a:pathLst>
              <a:path w="546" h="547">
                <a:moveTo>
                  <a:pt x="9699" y="7813"/>
                </a:moveTo>
                <a:cubicBezTo>
                  <a:pt x="9719" y="7936"/>
                  <a:pt x="9754" y="8061"/>
                  <a:pt x="9773" y="8186"/>
                </a:cubicBezTo>
                <a:cubicBezTo>
                  <a:pt x="9773" y="8210"/>
                  <a:pt x="9773" y="8219"/>
                  <a:pt x="9773" y="8235"/>
                </a:cubicBezTo>
              </a:path>
              <a:path w="546" h="547">
                <a:moveTo>
                  <a:pt x="9451" y="7962"/>
                </a:moveTo>
                <a:cubicBezTo>
                  <a:pt x="9602" y="7880"/>
                  <a:pt x="9751" y="7800"/>
                  <a:pt x="9897" y="7714"/>
                </a:cubicBezTo>
                <a:cubicBezTo>
                  <a:pt x="9941" y="7688"/>
                  <a:pt x="9951" y="7689"/>
                  <a:pt x="9996" y="76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83000" y="3268800"/>
            <a:ext cx="187200" cy="276120"/>
          </a:xfrm>
          <a:custGeom>
            <a:avLst/>
            <a:gdLst/>
            <a:ahLst/>
            <a:rect l="l" t="t" r="r" b="b"/>
            <a:pathLst>
              <a:path w="522" h="769">
                <a:moveTo>
                  <a:pt x="10120" y="9079"/>
                </a:moveTo>
                <a:cubicBezTo>
                  <a:pt x="9964" y="9126"/>
                  <a:pt x="9801" y="9211"/>
                  <a:pt x="9699" y="9351"/>
                </a:cubicBezTo>
                <a:cubicBezTo>
                  <a:pt x="9691" y="9376"/>
                  <a:pt x="9682" y="9401"/>
                  <a:pt x="9674" y="9426"/>
                </a:cubicBezTo>
                <a:cubicBezTo>
                  <a:pt x="9849" y="9470"/>
                  <a:pt x="10016" y="9418"/>
                  <a:pt x="10195" y="9426"/>
                </a:cubicBezTo>
                <a:cubicBezTo>
                  <a:pt x="10118" y="9696"/>
                  <a:pt x="9972" y="9764"/>
                  <a:pt x="9699" y="98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22920" y="2830680"/>
            <a:ext cx="187200" cy="187200"/>
          </a:xfrm>
          <a:custGeom>
            <a:avLst/>
            <a:gdLst/>
            <a:ahLst/>
            <a:rect l="l" t="t" r="r" b="b"/>
            <a:pathLst>
              <a:path w="521" h="522">
                <a:moveTo>
                  <a:pt x="13543" y="7987"/>
                </a:moveTo>
                <a:cubicBezTo>
                  <a:pt x="13594" y="8054"/>
                  <a:pt x="13580" y="8249"/>
                  <a:pt x="13618" y="8359"/>
                </a:cubicBezTo>
                <a:cubicBezTo>
                  <a:pt x="13641" y="8382"/>
                  <a:pt x="13649" y="8393"/>
                  <a:pt x="13643" y="8359"/>
                </a:cubicBezTo>
              </a:path>
              <a:path w="521" h="522">
                <a:moveTo>
                  <a:pt x="13395" y="7987"/>
                </a:moveTo>
                <a:cubicBezTo>
                  <a:pt x="13562" y="7932"/>
                  <a:pt x="13715" y="7872"/>
                  <a:pt x="13891" y="7863"/>
                </a:cubicBezTo>
                <a:cubicBezTo>
                  <a:pt x="13899" y="7863"/>
                  <a:pt x="13907" y="7863"/>
                  <a:pt x="13915" y="78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40200" y="3340080"/>
            <a:ext cx="177840" cy="231840"/>
          </a:xfrm>
          <a:custGeom>
            <a:avLst/>
            <a:gdLst/>
            <a:ahLst/>
            <a:rect l="l" t="t" r="r" b="b"/>
            <a:pathLst>
              <a:path w="497" h="646">
                <a:moveTo>
                  <a:pt x="13940" y="9302"/>
                </a:moveTo>
                <a:cubicBezTo>
                  <a:pt x="13883" y="9214"/>
                  <a:pt x="13651" y="9356"/>
                  <a:pt x="13593" y="9401"/>
                </a:cubicBezTo>
                <a:cubicBezTo>
                  <a:pt x="13576" y="9426"/>
                  <a:pt x="13560" y="9450"/>
                  <a:pt x="13543" y="9475"/>
                </a:cubicBezTo>
                <a:cubicBezTo>
                  <a:pt x="13633" y="9545"/>
                  <a:pt x="13861" y="9501"/>
                  <a:pt x="13915" y="9599"/>
                </a:cubicBezTo>
                <a:cubicBezTo>
                  <a:pt x="14065" y="9873"/>
                  <a:pt x="13583" y="9905"/>
                  <a:pt x="13444" y="99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70160" y="3687840"/>
            <a:ext cx="2133720" cy="625320"/>
          </a:xfrm>
          <a:custGeom>
            <a:avLst/>
            <a:gdLst/>
            <a:ahLst/>
            <a:rect l="l" t="t" r="r" b="b"/>
            <a:pathLst>
              <a:path w="5929" h="1738">
                <a:moveTo>
                  <a:pt x="8905" y="10244"/>
                </a:moveTo>
                <a:cubicBezTo>
                  <a:pt x="8977" y="10256"/>
                  <a:pt x="9041" y="10267"/>
                  <a:pt x="9128" y="10269"/>
                </a:cubicBezTo>
                <a:cubicBezTo>
                  <a:pt x="9222" y="10271"/>
                  <a:pt x="9290" y="10278"/>
                  <a:pt x="9376" y="10294"/>
                </a:cubicBezTo>
                <a:cubicBezTo>
                  <a:pt x="9470" y="10312"/>
                  <a:pt x="9575" y="10336"/>
                  <a:pt x="9674" y="10344"/>
                </a:cubicBezTo>
                <a:cubicBezTo>
                  <a:pt x="9746" y="10350"/>
                  <a:pt x="9803" y="10362"/>
                  <a:pt x="9872" y="10368"/>
                </a:cubicBezTo>
                <a:cubicBezTo>
                  <a:pt x="10397" y="10410"/>
                  <a:pt x="10968" y="10380"/>
                  <a:pt x="11485" y="10344"/>
                </a:cubicBezTo>
                <a:cubicBezTo>
                  <a:pt x="11887" y="10316"/>
                  <a:pt x="12302" y="10342"/>
                  <a:pt x="12700" y="10319"/>
                </a:cubicBezTo>
                <a:cubicBezTo>
                  <a:pt x="12955" y="10304"/>
                  <a:pt x="13218" y="10308"/>
                  <a:pt x="13469" y="10294"/>
                </a:cubicBezTo>
                <a:cubicBezTo>
                  <a:pt x="13667" y="10283"/>
                  <a:pt x="13870" y="10281"/>
                  <a:pt x="14064" y="10269"/>
                </a:cubicBezTo>
                <a:cubicBezTo>
                  <a:pt x="14214" y="10260"/>
                  <a:pt x="14363" y="10254"/>
                  <a:pt x="14511" y="10244"/>
                </a:cubicBezTo>
                <a:cubicBezTo>
                  <a:pt x="14593" y="10238"/>
                  <a:pt x="14626" y="10244"/>
                  <a:pt x="14709" y="10244"/>
                </a:cubicBezTo>
              </a:path>
              <a:path w="5929" h="1738">
                <a:moveTo>
                  <a:pt x="8806" y="11956"/>
                </a:moveTo>
                <a:cubicBezTo>
                  <a:pt x="8830" y="11948"/>
                  <a:pt x="8840" y="11904"/>
                  <a:pt x="8905" y="11906"/>
                </a:cubicBezTo>
                <a:cubicBezTo>
                  <a:pt x="8985" y="11909"/>
                  <a:pt x="9071" y="11944"/>
                  <a:pt x="9153" y="11956"/>
                </a:cubicBezTo>
                <a:cubicBezTo>
                  <a:pt x="9255" y="11972"/>
                  <a:pt x="9345" y="11979"/>
                  <a:pt x="9451" y="11981"/>
                </a:cubicBezTo>
                <a:cubicBezTo>
                  <a:pt x="9547" y="11983"/>
                  <a:pt x="9629" y="11963"/>
                  <a:pt x="9723" y="11956"/>
                </a:cubicBezTo>
                <a:cubicBezTo>
                  <a:pt x="9814" y="11950"/>
                  <a:pt x="9906" y="11945"/>
                  <a:pt x="9996" y="11931"/>
                </a:cubicBezTo>
                <a:cubicBezTo>
                  <a:pt x="10075" y="11919"/>
                  <a:pt x="10137" y="11908"/>
                  <a:pt x="10220" y="11906"/>
                </a:cubicBezTo>
                <a:cubicBezTo>
                  <a:pt x="10329" y="11904"/>
                  <a:pt x="10438" y="11887"/>
                  <a:pt x="10542" y="11881"/>
                </a:cubicBezTo>
                <a:cubicBezTo>
                  <a:pt x="10770" y="11868"/>
                  <a:pt x="11021" y="11915"/>
                  <a:pt x="11237" y="11906"/>
                </a:cubicBezTo>
                <a:cubicBezTo>
                  <a:pt x="11337" y="11902"/>
                  <a:pt x="11432" y="11883"/>
                  <a:pt x="11534" y="11881"/>
                </a:cubicBezTo>
                <a:cubicBezTo>
                  <a:pt x="12086" y="11870"/>
                  <a:pt x="12651" y="11869"/>
                  <a:pt x="13196" y="11906"/>
                </a:cubicBezTo>
                <a:cubicBezTo>
                  <a:pt x="13499" y="11927"/>
                  <a:pt x="13878" y="11937"/>
                  <a:pt x="14163" y="11881"/>
                </a:cubicBezTo>
                <a:cubicBezTo>
                  <a:pt x="14243" y="11865"/>
                  <a:pt x="14330" y="11840"/>
                  <a:pt x="14412" y="11832"/>
                </a:cubicBezTo>
                <a:cubicBezTo>
                  <a:pt x="14444" y="11829"/>
                  <a:pt x="14479" y="11834"/>
                  <a:pt x="14511" y="118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41880" y="3919680"/>
            <a:ext cx="258840" cy="233280"/>
          </a:xfrm>
          <a:custGeom>
            <a:avLst/>
            <a:gdLst/>
            <a:ahLst/>
            <a:rect l="l" t="t" r="r" b="b"/>
            <a:pathLst>
              <a:path w="721" h="646">
                <a:moveTo>
                  <a:pt x="11782" y="11013"/>
                </a:moveTo>
                <a:cubicBezTo>
                  <a:pt x="11807" y="11236"/>
                  <a:pt x="11815" y="11310"/>
                  <a:pt x="11807" y="11460"/>
                </a:cubicBezTo>
                <a:cubicBezTo>
                  <a:pt x="11807" y="11625"/>
                  <a:pt x="11754" y="11269"/>
                  <a:pt x="11807" y="11112"/>
                </a:cubicBezTo>
                <a:cubicBezTo>
                  <a:pt x="11916" y="10937"/>
                  <a:pt x="11931" y="10876"/>
                  <a:pt x="12080" y="10889"/>
                </a:cubicBezTo>
                <a:cubicBezTo>
                  <a:pt x="12172" y="11062"/>
                  <a:pt x="12089" y="11107"/>
                  <a:pt x="11906" y="11187"/>
                </a:cubicBezTo>
                <a:cubicBezTo>
                  <a:pt x="12107" y="11400"/>
                  <a:pt x="12191" y="11386"/>
                  <a:pt x="12477" y="11361"/>
                </a:cubicBezTo>
                <a:cubicBezTo>
                  <a:pt x="12485" y="11361"/>
                  <a:pt x="12494" y="11361"/>
                  <a:pt x="12502" y="113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54280" y="4473720"/>
            <a:ext cx="169920" cy="214200"/>
          </a:xfrm>
          <a:custGeom>
            <a:avLst/>
            <a:gdLst/>
            <a:ahLst/>
            <a:rect l="l" t="t" r="r" b="b"/>
            <a:pathLst>
              <a:path w="473" h="596">
                <a:moveTo>
                  <a:pt x="10096" y="12427"/>
                </a:moveTo>
                <a:cubicBezTo>
                  <a:pt x="10021" y="12519"/>
                  <a:pt x="9944" y="12607"/>
                  <a:pt x="9872" y="12700"/>
                </a:cubicBezTo>
                <a:cubicBezTo>
                  <a:pt x="10070" y="12660"/>
                  <a:pt x="10147" y="12632"/>
                  <a:pt x="10344" y="12700"/>
                </a:cubicBezTo>
                <a:cubicBezTo>
                  <a:pt x="10288" y="12831"/>
                  <a:pt x="10112" y="13162"/>
                  <a:pt x="9897" y="12998"/>
                </a:cubicBezTo>
                <a:cubicBezTo>
                  <a:pt x="9897" y="12973"/>
                  <a:pt x="9897" y="12948"/>
                  <a:pt x="9897" y="129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03840" y="4438800"/>
            <a:ext cx="189000" cy="258480"/>
          </a:xfrm>
          <a:custGeom>
            <a:avLst/>
            <a:gdLst/>
            <a:ahLst/>
            <a:rect l="l" t="t" r="r" b="b"/>
            <a:pathLst>
              <a:path w="522" h="720">
                <a:moveTo>
                  <a:pt x="13593" y="12328"/>
                </a:moveTo>
                <a:cubicBezTo>
                  <a:pt x="13459" y="12442"/>
                  <a:pt x="13404" y="12535"/>
                  <a:pt x="13345" y="12700"/>
                </a:cubicBezTo>
                <a:cubicBezTo>
                  <a:pt x="13532" y="12700"/>
                  <a:pt x="13688" y="12703"/>
                  <a:pt x="13866" y="12750"/>
                </a:cubicBezTo>
                <a:cubicBezTo>
                  <a:pt x="13802" y="13023"/>
                  <a:pt x="13659" y="13020"/>
                  <a:pt x="13395" y="130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0360" y="3537000"/>
            <a:ext cx="249480" cy="401760"/>
          </a:xfrm>
          <a:custGeom>
            <a:avLst/>
            <a:gdLst/>
            <a:ahLst/>
            <a:rect l="l" t="t" r="r" b="b"/>
            <a:pathLst>
              <a:path w="696" h="1117">
                <a:moveTo>
                  <a:pt x="19050" y="10071"/>
                </a:moveTo>
                <a:cubicBezTo>
                  <a:pt x="19111" y="10283"/>
                  <a:pt x="19336" y="10722"/>
                  <a:pt x="19273" y="10939"/>
                </a:cubicBezTo>
                <a:cubicBezTo>
                  <a:pt x="19257" y="10931"/>
                  <a:pt x="19240" y="10922"/>
                  <a:pt x="19224" y="10914"/>
                </a:cubicBezTo>
                <a:cubicBezTo>
                  <a:pt x="19089" y="10479"/>
                  <a:pt x="19037" y="10231"/>
                  <a:pt x="19224" y="9823"/>
                </a:cubicBezTo>
                <a:cubicBezTo>
                  <a:pt x="19353" y="9966"/>
                  <a:pt x="19292" y="10187"/>
                  <a:pt x="19124" y="10344"/>
                </a:cubicBezTo>
                <a:cubicBezTo>
                  <a:pt x="18997" y="10463"/>
                  <a:pt x="18943" y="10387"/>
                  <a:pt x="19224" y="10492"/>
                </a:cubicBezTo>
                <a:cubicBezTo>
                  <a:pt x="19431" y="10569"/>
                  <a:pt x="19550" y="10597"/>
                  <a:pt x="19695" y="107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2240" y="2678040"/>
            <a:ext cx="901800" cy="938160"/>
          </a:xfrm>
          <a:custGeom>
            <a:avLst/>
            <a:gdLst/>
            <a:ahLst/>
            <a:rect l="l" t="t" r="r" b="b"/>
            <a:pathLst>
              <a:path w="2507" h="2606">
                <a:moveTo>
                  <a:pt x="21158" y="7441"/>
                </a:moveTo>
                <a:cubicBezTo>
                  <a:pt x="21149" y="7547"/>
                  <a:pt x="21103" y="7684"/>
                  <a:pt x="21109" y="7789"/>
                </a:cubicBezTo>
                <a:cubicBezTo>
                  <a:pt x="21115" y="7893"/>
                  <a:pt x="21109" y="7978"/>
                  <a:pt x="21109" y="8086"/>
                </a:cubicBezTo>
                <a:cubicBezTo>
                  <a:pt x="21109" y="8215"/>
                  <a:pt x="21097" y="8332"/>
                  <a:pt x="21084" y="8458"/>
                </a:cubicBezTo>
                <a:cubicBezTo>
                  <a:pt x="21077" y="8528"/>
                  <a:pt x="21107" y="8561"/>
                  <a:pt x="21109" y="8632"/>
                </a:cubicBezTo>
                <a:cubicBezTo>
                  <a:pt x="21113" y="8769"/>
                  <a:pt x="21100" y="8900"/>
                  <a:pt x="21084" y="9029"/>
                </a:cubicBezTo>
                <a:cubicBezTo>
                  <a:pt x="21076" y="9090"/>
                  <a:pt x="21069" y="9146"/>
                  <a:pt x="21059" y="9203"/>
                </a:cubicBezTo>
                <a:cubicBezTo>
                  <a:pt x="21049" y="9261"/>
                  <a:pt x="21042" y="9320"/>
                  <a:pt x="21034" y="9376"/>
                </a:cubicBezTo>
                <a:cubicBezTo>
                  <a:pt x="21025" y="9441"/>
                  <a:pt x="21051" y="9478"/>
                  <a:pt x="21059" y="9525"/>
                </a:cubicBezTo>
                <a:cubicBezTo>
                  <a:pt x="21077" y="9631"/>
                  <a:pt x="21067" y="9744"/>
                  <a:pt x="21084" y="9847"/>
                </a:cubicBezTo>
                <a:cubicBezTo>
                  <a:pt x="21094" y="9909"/>
                  <a:pt x="21105" y="9963"/>
                  <a:pt x="21109" y="10021"/>
                </a:cubicBezTo>
                <a:cubicBezTo>
                  <a:pt x="21109" y="10029"/>
                  <a:pt x="21109" y="10038"/>
                  <a:pt x="21109" y="10046"/>
                </a:cubicBezTo>
              </a:path>
              <a:path w="2507" h="2606">
                <a:moveTo>
                  <a:pt x="22895" y="9004"/>
                </a:moveTo>
                <a:cubicBezTo>
                  <a:pt x="22915" y="9202"/>
                  <a:pt x="22938" y="9381"/>
                  <a:pt x="22920" y="9575"/>
                </a:cubicBezTo>
                <a:cubicBezTo>
                  <a:pt x="22828" y="9237"/>
                  <a:pt x="22675" y="8831"/>
                  <a:pt x="22820" y="8483"/>
                </a:cubicBezTo>
                <a:cubicBezTo>
                  <a:pt x="22861" y="8442"/>
                  <a:pt x="22903" y="8400"/>
                  <a:pt x="22944" y="8359"/>
                </a:cubicBezTo>
                <a:cubicBezTo>
                  <a:pt x="23148" y="8515"/>
                  <a:pt x="23286" y="8693"/>
                  <a:pt x="22969" y="8855"/>
                </a:cubicBezTo>
                <a:cubicBezTo>
                  <a:pt x="22928" y="8863"/>
                  <a:pt x="22886" y="8872"/>
                  <a:pt x="22845" y="8880"/>
                </a:cubicBezTo>
                <a:cubicBezTo>
                  <a:pt x="22998" y="8947"/>
                  <a:pt x="23146" y="9039"/>
                  <a:pt x="23292" y="9128"/>
                </a:cubicBezTo>
                <a:cubicBezTo>
                  <a:pt x="23377" y="9180"/>
                  <a:pt x="23502" y="9315"/>
                  <a:pt x="23540" y="92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find the area of a composite figure?  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 Find the area of the squa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 Find the area of the tri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  Add the areas toge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480060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3886200"/>
            <a:ext cx="914400" cy="9144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7000" y="571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02960" y="4724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3886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5029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5715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39040" y="2867040"/>
            <a:ext cx="919080" cy="731880"/>
          </a:xfrm>
          <a:custGeom>
            <a:avLst/>
            <a:gdLst/>
            <a:ahLst/>
            <a:rect l="l" t="t" r="r" b="b"/>
            <a:pathLst>
              <a:path w="2556" h="2035">
                <a:moveTo>
                  <a:pt x="20811" y="8930"/>
                </a:moveTo>
                <a:cubicBezTo>
                  <a:pt x="20811" y="9075"/>
                  <a:pt x="20750" y="9263"/>
                  <a:pt x="20712" y="9401"/>
                </a:cubicBezTo>
                <a:cubicBezTo>
                  <a:pt x="20676" y="9508"/>
                  <a:pt x="20659" y="9514"/>
                  <a:pt x="20662" y="9575"/>
                </a:cubicBezTo>
                <a:cubicBezTo>
                  <a:pt x="20696" y="9305"/>
                  <a:pt x="20760" y="9018"/>
                  <a:pt x="20836" y="8756"/>
                </a:cubicBezTo>
                <a:cubicBezTo>
                  <a:pt x="20874" y="8663"/>
                  <a:pt x="20867" y="8645"/>
                  <a:pt x="20910" y="8607"/>
                </a:cubicBezTo>
                <a:cubicBezTo>
                  <a:pt x="21012" y="8809"/>
                  <a:pt x="21025" y="9090"/>
                  <a:pt x="21010" y="9327"/>
                </a:cubicBezTo>
                <a:cubicBezTo>
                  <a:pt x="21005" y="9408"/>
                  <a:pt x="21008" y="9460"/>
                  <a:pt x="20960" y="9475"/>
                </a:cubicBezTo>
              </a:path>
              <a:path w="2556" h="2035">
                <a:moveTo>
                  <a:pt x="21208" y="9351"/>
                </a:moveTo>
                <a:cubicBezTo>
                  <a:pt x="21192" y="9528"/>
                  <a:pt x="21136" y="9737"/>
                  <a:pt x="21059" y="9897"/>
                </a:cubicBezTo>
                <a:cubicBezTo>
                  <a:pt x="21029" y="9959"/>
                  <a:pt x="21031" y="9885"/>
                  <a:pt x="21059" y="9823"/>
                </a:cubicBezTo>
              </a:path>
              <a:path w="2556" h="2035">
                <a:moveTo>
                  <a:pt x="21158" y="9376"/>
                </a:moveTo>
                <a:cubicBezTo>
                  <a:pt x="21237" y="9470"/>
                  <a:pt x="21291" y="9685"/>
                  <a:pt x="21332" y="9823"/>
                </a:cubicBezTo>
                <a:cubicBezTo>
                  <a:pt x="21351" y="9897"/>
                  <a:pt x="21359" y="9904"/>
                  <a:pt x="21357" y="9947"/>
                </a:cubicBezTo>
                <a:cubicBezTo>
                  <a:pt x="21217" y="9947"/>
                  <a:pt x="21097" y="9972"/>
                  <a:pt x="20960" y="9996"/>
                </a:cubicBezTo>
                <a:cubicBezTo>
                  <a:pt x="20952" y="9996"/>
                  <a:pt x="20943" y="9996"/>
                  <a:pt x="20935" y="9996"/>
                </a:cubicBezTo>
              </a:path>
              <a:path w="2556" h="2035">
                <a:moveTo>
                  <a:pt x="21630" y="8954"/>
                </a:moveTo>
                <a:cubicBezTo>
                  <a:pt x="21716" y="8942"/>
                  <a:pt x="21790" y="8930"/>
                  <a:pt x="21878" y="8930"/>
                </a:cubicBezTo>
              </a:path>
              <a:path w="2556" h="2035">
                <a:moveTo>
                  <a:pt x="21630" y="9153"/>
                </a:moveTo>
                <a:cubicBezTo>
                  <a:pt x="21714" y="9148"/>
                  <a:pt x="21795" y="9128"/>
                  <a:pt x="21878" y="9128"/>
                </a:cubicBezTo>
                <a:cubicBezTo>
                  <a:pt x="21886" y="9128"/>
                  <a:pt x="21895" y="9128"/>
                  <a:pt x="21903" y="9128"/>
                </a:cubicBezTo>
              </a:path>
              <a:path w="2556" h="2035">
                <a:moveTo>
                  <a:pt x="22324" y="8012"/>
                </a:moveTo>
                <a:cubicBezTo>
                  <a:pt x="22324" y="8203"/>
                  <a:pt x="22345" y="8391"/>
                  <a:pt x="22349" y="8582"/>
                </a:cubicBezTo>
                <a:cubicBezTo>
                  <a:pt x="22349" y="8632"/>
                  <a:pt x="22349" y="8649"/>
                  <a:pt x="22349" y="8682"/>
                </a:cubicBezTo>
                <a:cubicBezTo>
                  <a:pt x="22349" y="8555"/>
                  <a:pt x="22374" y="8465"/>
                  <a:pt x="22448" y="8359"/>
                </a:cubicBezTo>
                <a:cubicBezTo>
                  <a:pt x="22473" y="8334"/>
                  <a:pt x="22498" y="8310"/>
                  <a:pt x="22523" y="8285"/>
                </a:cubicBezTo>
                <a:cubicBezTo>
                  <a:pt x="22640" y="8349"/>
                  <a:pt x="22726" y="8566"/>
                  <a:pt x="22572" y="8706"/>
                </a:cubicBezTo>
                <a:cubicBezTo>
                  <a:pt x="22472" y="8796"/>
                  <a:pt x="22316" y="8778"/>
                  <a:pt x="22275" y="8682"/>
                </a:cubicBezTo>
              </a:path>
              <a:path w="2556" h="2035">
                <a:moveTo>
                  <a:pt x="22696" y="7962"/>
                </a:moveTo>
                <a:cubicBezTo>
                  <a:pt x="22758" y="8199"/>
                  <a:pt x="22771" y="8411"/>
                  <a:pt x="22771" y="8657"/>
                </a:cubicBezTo>
                <a:cubicBezTo>
                  <a:pt x="22721" y="8690"/>
                  <a:pt x="22732" y="8574"/>
                  <a:pt x="22746" y="8508"/>
                </a:cubicBezTo>
                <a:cubicBezTo>
                  <a:pt x="22785" y="8391"/>
                  <a:pt x="22787" y="8372"/>
                  <a:pt x="22820" y="8310"/>
                </a:cubicBezTo>
                <a:cubicBezTo>
                  <a:pt x="23000" y="8324"/>
                  <a:pt x="23010" y="8469"/>
                  <a:pt x="23019" y="8657"/>
                </a:cubicBezTo>
                <a:cubicBezTo>
                  <a:pt x="23019" y="8690"/>
                  <a:pt x="23019" y="8723"/>
                  <a:pt x="23019" y="8756"/>
                </a:cubicBezTo>
              </a:path>
              <a:path w="2556" h="2035">
                <a:moveTo>
                  <a:pt x="22299" y="8954"/>
                </a:moveTo>
                <a:cubicBezTo>
                  <a:pt x="22541" y="8954"/>
                  <a:pt x="22779" y="8941"/>
                  <a:pt x="23019" y="8930"/>
                </a:cubicBezTo>
                <a:cubicBezTo>
                  <a:pt x="23084" y="8927"/>
                  <a:pt x="23151" y="8930"/>
                  <a:pt x="23217" y="8930"/>
                </a:cubicBezTo>
              </a:path>
              <a:path w="2556" h="2035">
                <a:moveTo>
                  <a:pt x="22597" y="9302"/>
                </a:moveTo>
                <a:cubicBezTo>
                  <a:pt x="22597" y="9240"/>
                  <a:pt x="22656" y="9195"/>
                  <a:pt x="22721" y="9178"/>
                </a:cubicBezTo>
                <a:cubicBezTo>
                  <a:pt x="22746" y="9178"/>
                  <a:pt x="22771" y="9178"/>
                  <a:pt x="22796" y="9178"/>
                </a:cubicBezTo>
                <a:cubicBezTo>
                  <a:pt x="22858" y="9327"/>
                  <a:pt x="22762" y="9403"/>
                  <a:pt x="22671" y="9525"/>
                </a:cubicBezTo>
                <a:cubicBezTo>
                  <a:pt x="22619" y="9595"/>
                  <a:pt x="22635" y="9674"/>
                  <a:pt x="22547" y="9674"/>
                </a:cubicBezTo>
                <a:cubicBezTo>
                  <a:pt x="22682" y="9561"/>
                  <a:pt x="22684" y="9586"/>
                  <a:pt x="22845" y="9624"/>
                </a:cubicBezTo>
                <a:cubicBezTo>
                  <a:pt x="22880" y="9624"/>
                  <a:pt x="22898" y="9619"/>
                  <a:pt x="22920" y="95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53200" y="3705120"/>
            <a:ext cx="1616040" cy="1170000"/>
          </a:xfrm>
          <a:custGeom>
            <a:avLst/>
            <a:gdLst/>
            <a:ahLst/>
            <a:rect l="l" t="t" r="r" b="b"/>
            <a:pathLst>
              <a:path w="4490" h="3250">
                <a:moveTo>
                  <a:pt x="22299" y="10418"/>
                </a:moveTo>
                <a:cubicBezTo>
                  <a:pt x="22321" y="10525"/>
                  <a:pt x="22302" y="10624"/>
                  <a:pt x="22299" y="10740"/>
                </a:cubicBezTo>
                <a:cubicBezTo>
                  <a:pt x="22296" y="10843"/>
                  <a:pt x="22274" y="10968"/>
                  <a:pt x="22423" y="10964"/>
                </a:cubicBezTo>
                <a:cubicBezTo>
                  <a:pt x="22550" y="10960"/>
                  <a:pt x="22663" y="10914"/>
                  <a:pt x="22696" y="10790"/>
                </a:cubicBezTo>
                <a:cubicBezTo>
                  <a:pt x="22696" y="10782"/>
                  <a:pt x="22696" y="10773"/>
                  <a:pt x="22696" y="10765"/>
                </a:cubicBezTo>
                <a:cubicBezTo>
                  <a:pt x="22602" y="10765"/>
                  <a:pt x="22579" y="10767"/>
                  <a:pt x="22547" y="10864"/>
                </a:cubicBezTo>
                <a:cubicBezTo>
                  <a:pt x="22529" y="10938"/>
                  <a:pt x="22521" y="10945"/>
                  <a:pt x="22523" y="10988"/>
                </a:cubicBezTo>
              </a:path>
              <a:path w="4490" h="3250">
                <a:moveTo>
                  <a:pt x="22969" y="10641"/>
                </a:moveTo>
                <a:cubicBezTo>
                  <a:pt x="22942" y="10687"/>
                  <a:pt x="22944" y="10707"/>
                  <a:pt x="22944" y="10765"/>
                </a:cubicBezTo>
              </a:path>
              <a:path w="4490" h="3250">
                <a:moveTo>
                  <a:pt x="23292" y="10294"/>
                </a:moveTo>
                <a:cubicBezTo>
                  <a:pt x="23231" y="10369"/>
                  <a:pt x="23173" y="10452"/>
                  <a:pt x="23143" y="10542"/>
                </a:cubicBezTo>
                <a:cubicBezTo>
                  <a:pt x="23217" y="10594"/>
                  <a:pt x="23542" y="10761"/>
                  <a:pt x="23341" y="10889"/>
                </a:cubicBezTo>
                <a:cubicBezTo>
                  <a:pt x="23308" y="10889"/>
                  <a:pt x="23275" y="10889"/>
                  <a:pt x="23242" y="10889"/>
                </a:cubicBezTo>
                <a:cubicBezTo>
                  <a:pt x="23212" y="10727"/>
                  <a:pt x="23285" y="10555"/>
                  <a:pt x="23391" y="10418"/>
                </a:cubicBezTo>
                <a:cubicBezTo>
                  <a:pt x="23424" y="10418"/>
                  <a:pt x="23424" y="10418"/>
                  <a:pt x="23366" y="10418"/>
                </a:cubicBezTo>
              </a:path>
              <a:path w="4490" h="3250">
                <a:moveTo>
                  <a:pt x="22473" y="11212"/>
                </a:moveTo>
                <a:cubicBezTo>
                  <a:pt x="22820" y="11137"/>
                  <a:pt x="23162" y="11059"/>
                  <a:pt x="23515" y="11013"/>
                </a:cubicBezTo>
                <a:cubicBezTo>
                  <a:pt x="23543" y="11013"/>
                  <a:pt x="23549" y="11015"/>
                  <a:pt x="23515" y="11038"/>
                </a:cubicBezTo>
              </a:path>
              <a:path w="4490" h="3250">
                <a:moveTo>
                  <a:pt x="22820" y="11410"/>
                </a:moveTo>
                <a:cubicBezTo>
                  <a:pt x="22885" y="11394"/>
                  <a:pt x="22946" y="11350"/>
                  <a:pt x="23019" y="11336"/>
                </a:cubicBezTo>
                <a:cubicBezTo>
                  <a:pt x="23057" y="11505"/>
                  <a:pt x="22961" y="11589"/>
                  <a:pt x="22870" y="11733"/>
                </a:cubicBezTo>
                <a:cubicBezTo>
                  <a:pt x="22862" y="11749"/>
                  <a:pt x="22853" y="11766"/>
                  <a:pt x="22845" y="11782"/>
                </a:cubicBezTo>
                <a:cubicBezTo>
                  <a:pt x="22977" y="11753"/>
                  <a:pt x="23080" y="11709"/>
                  <a:pt x="23192" y="11633"/>
                </a:cubicBezTo>
              </a:path>
              <a:path w="4490" h="3250">
                <a:moveTo>
                  <a:pt x="23515" y="11881"/>
                </a:moveTo>
                <a:cubicBezTo>
                  <a:pt x="23489" y="12033"/>
                  <a:pt x="23404" y="12291"/>
                  <a:pt x="23440" y="12402"/>
                </a:cubicBezTo>
              </a:path>
              <a:path w="4490" h="3250">
                <a:moveTo>
                  <a:pt x="23887" y="11857"/>
                </a:moveTo>
                <a:cubicBezTo>
                  <a:pt x="23772" y="12052"/>
                  <a:pt x="23848" y="11956"/>
                  <a:pt x="23961" y="12105"/>
                </a:cubicBezTo>
                <a:cubicBezTo>
                  <a:pt x="23984" y="12172"/>
                  <a:pt x="23995" y="12190"/>
                  <a:pt x="23961" y="12229"/>
                </a:cubicBezTo>
                <a:cubicBezTo>
                  <a:pt x="23936" y="12229"/>
                  <a:pt x="23912" y="12229"/>
                  <a:pt x="23887" y="12229"/>
                </a:cubicBezTo>
                <a:cubicBezTo>
                  <a:pt x="23840" y="12087"/>
                  <a:pt x="24003" y="11939"/>
                  <a:pt x="23986" y="11832"/>
                </a:cubicBezTo>
                <a:cubicBezTo>
                  <a:pt x="23970" y="11832"/>
                  <a:pt x="23953" y="11832"/>
                  <a:pt x="23937" y="11832"/>
                </a:cubicBezTo>
              </a:path>
              <a:path w="4490" h="3250">
                <a:moveTo>
                  <a:pt x="23639" y="12601"/>
                </a:moveTo>
                <a:cubicBezTo>
                  <a:pt x="23762" y="12560"/>
                  <a:pt x="23784" y="12543"/>
                  <a:pt x="23862" y="12551"/>
                </a:cubicBezTo>
                <a:cubicBezTo>
                  <a:pt x="23835" y="12685"/>
                  <a:pt x="23753" y="12729"/>
                  <a:pt x="23713" y="12849"/>
                </a:cubicBezTo>
                <a:cubicBezTo>
                  <a:pt x="23801" y="12827"/>
                  <a:pt x="23878" y="12789"/>
                  <a:pt x="23961" y="12750"/>
                </a:cubicBezTo>
              </a:path>
              <a:path w="4490" h="3250">
                <a:moveTo>
                  <a:pt x="23837" y="13221"/>
                </a:moveTo>
                <a:cubicBezTo>
                  <a:pt x="23951" y="13198"/>
                  <a:pt x="24143" y="13242"/>
                  <a:pt x="24036" y="13419"/>
                </a:cubicBezTo>
                <a:cubicBezTo>
                  <a:pt x="23975" y="13519"/>
                  <a:pt x="23836" y="13529"/>
                  <a:pt x="23738" y="13543"/>
                </a:cubicBezTo>
                <a:cubicBezTo>
                  <a:pt x="23851" y="13474"/>
                  <a:pt x="23955" y="13432"/>
                  <a:pt x="24085" y="13494"/>
                </a:cubicBezTo>
                <a:cubicBezTo>
                  <a:pt x="24093" y="13502"/>
                  <a:pt x="24102" y="13511"/>
                  <a:pt x="24110" y="13519"/>
                </a:cubicBezTo>
              </a:path>
              <a:path w="4490" h="3250">
                <a:moveTo>
                  <a:pt x="24036" y="13146"/>
                </a:moveTo>
                <a:cubicBezTo>
                  <a:pt x="24095" y="13221"/>
                  <a:pt x="24087" y="13295"/>
                  <a:pt x="24209" y="13295"/>
                </a:cubicBezTo>
                <a:cubicBezTo>
                  <a:pt x="24287" y="13270"/>
                  <a:pt x="24314" y="13259"/>
                  <a:pt x="24333" y="13196"/>
                </a:cubicBezTo>
              </a:path>
              <a:path w="4490" h="3250">
                <a:moveTo>
                  <a:pt x="24333" y="12973"/>
                </a:moveTo>
                <a:cubicBezTo>
                  <a:pt x="24333" y="13133"/>
                  <a:pt x="24337" y="13292"/>
                  <a:pt x="24358" y="13444"/>
                </a:cubicBezTo>
                <a:cubicBezTo>
                  <a:pt x="24358" y="13486"/>
                  <a:pt x="24358" y="13511"/>
                  <a:pt x="24358" y="13469"/>
                </a:cubicBezTo>
              </a:path>
              <a:path w="4490" h="3250">
                <a:moveTo>
                  <a:pt x="20241" y="12626"/>
                </a:moveTo>
                <a:cubicBezTo>
                  <a:pt x="20266" y="12587"/>
                  <a:pt x="20231" y="12601"/>
                  <a:pt x="20265" y="12576"/>
                </a:cubicBezTo>
                <a:cubicBezTo>
                  <a:pt x="20320" y="12548"/>
                  <a:pt x="20343" y="12540"/>
                  <a:pt x="20389" y="12551"/>
                </a:cubicBezTo>
                <a:cubicBezTo>
                  <a:pt x="20426" y="12746"/>
                  <a:pt x="20425" y="12881"/>
                  <a:pt x="20265" y="13022"/>
                </a:cubicBezTo>
                <a:cubicBezTo>
                  <a:pt x="20231" y="13022"/>
                  <a:pt x="20218" y="13013"/>
                  <a:pt x="20216" y="12973"/>
                </a:cubicBezTo>
                <a:cubicBezTo>
                  <a:pt x="20304" y="12847"/>
                  <a:pt x="20405" y="12842"/>
                  <a:pt x="20563" y="12849"/>
                </a:cubicBezTo>
                <a:cubicBezTo>
                  <a:pt x="20571" y="12849"/>
                  <a:pt x="20580" y="12849"/>
                  <a:pt x="20588" y="12849"/>
                </a:cubicBezTo>
              </a:path>
              <a:path w="4490" h="3250">
                <a:moveTo>
                  <a:pt x="20513" y="12452"/>
                </a:moveTo>
                <a:cubicBezTo>
                  <a:pt x="20544" y="12492"/>
                  <a:pt x="20592" y="12629"/>
                  <a:pt x="20662" y="12626"/>
                </a:cubicBezTo>
                <a:cubicBezTo>
                  <a:pt x="20779" y="12621"/>
                  <a:pt x="20783" y="12512"/>
                  <a:pt x="20811" y="12427"/>
                </a:cubicBezTo>
              </a:path>
              <a:path w="4490" h="3250">
                <a:moveTo>
                  <a:pt x="20638" y="12229"/>
                </a:moveTo>
                <a:cubicBezTo>
                  <a:pt x="20672" y="12385"/>
                  <a:pt x="20734" y="12548"/>
                  <a:pt x="20786" y="12700"/>
                </a:cubicBezTo>
                <a:cubicBezTo>
                  <a:pt x="20794" y="12717"/>
                  <a:pt x="20803" y="12733"/>
                  <a:pt x="20811" y="12750"/>
                </a:cubicBezTo>
              </a:path>
              <a:path w="4490" h="3250">
                <a:moveTo>
                  <a:pt x="20960" y="12402"/>
                </a:moveTo>
                <a:cubicBezTo>
                  <a:pt x="20978" y="12492"/>
                  <a:pt x="21016" y="12564"/>
                  <a:pt x="21059" y="12650"/>
                </a:cubicBezTo>
                <a:cubicBezTo>
                  <a:pt x="21043" y="12558"/>
                  <a:pt x="20992" y="12415"/>
                  <a:pt x="21059" y="12328"/>
                </a:cubicBezTo>
                <a:cubicBezTo>
                  <a:pt x="21121" y="12248"/>
                  <a:pt x="21216" y="12448"/>
                  <a:pt x="21233" y="12477"/>
                </a:cubicBezTo>
                <a:cubicBezTo>
                  <a:pt x="21233" y="12502"/>
                  <a:pt x="21233" y="12510"/>
                  <a:pt x="21208" y="12502"/>
                </a:cubicBezTo>
                <a:cubicBezTo>
                  <a:pt x="21208" y="12470"/>
                  <a:pt x="21191" y="12221"/>
                  <a:pt x="21258" y="12254"/>
                </a:cubicBezTo>
                <a:cubicBezTo>
                  <a:pt x="21327" y="12288"/>
                  <a:pt x="21470" y="12509"/>
                  <a:pt x="21406" y="12477"/>
                </a:cubicBezTo>
              </a:path>
              <a:path w="4490" h="3250">
                <a:moveTo>
                  <a:pt x="21233" y="11981"/>
                </a:moveTo>
                <a:cubicBezTo>
                  <a:pt x="21259" y="11946"/>
                  <a:pt x="21349" y="11891"/>
                  <a:pt x="21406" y="11881"/>
                </a:cubicBezTo>
                <a:cubicBezTo>
                  <a:pt x="21479" y="11868"/>
                  <a:pt x="21409" y="12041"/>
                  <a:pt x="21406" y="12055"/>
                </a:cubicBezTo>
                <a:cubicBezTo>
                  <a:pt x="21472" y="12044"/>
                  <a:pt x="21540" y="12023"/>
                  <a:pt x="21605" y="12005"/>
                </a:cubicBezTo>
              </a:path>
              <a:path w="4490" h="3250">
                <a:moveTo>
                  <a:pt x="20340" y="13196"/>
                </a:moveTo>
                <a:cubicBezTo>
                  <a:pt x="20549" y="13052"/>
                  <a:pt x="20701" y="12983"/>
                  <a:pt x="20960" y="12923"/>
                </a:cubicBezTo>
                <a:cubicBezTo>
                  <a:pt x="21359" y="12830"/>
                  <a:pt x="21897" y="12760"/>
                  <a:pt x="22200" y="12452"/>
                </a:cubicBezTo>
                <a:cubicBezTo>
                  <a:pt x="22402" y="12247"/>
                  <a:pt x="22388" y="11979"/>
                  <a:pt x="22200" y="11782"/>
                </a:cubicBezTo>
                <a:cubicBezTo>
                  <a:pt x="21989" y="11561"/>
                  <a:pt x="21580" y="11601"/>
                  <a:pt x="21307" y="11633"/>
                </a:cubicBezTo>
                <a:cubicBezTo>
                  <a:pt x="20771" y="11697"/>
                  <a:pt x="20278" y="11991"/>
                  <a:pt x="19993" y="12452"/>
                </a:cubicBezTo>
                <a:cubicBezTo>
                  <a:pt x="19857" y="12672"/>
                  <a:pt x="19731" y="13127"/>
                  <a:pt x="20117" y="13171"/>
                </a:cubicBezTo>
                <a:cubicBezTo>
                  <a:pt x="20463" y="13146"/>
                  <a:pt x="20578" y="13138"/>
                  <a:pt x="20786" y="130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40840" y="5875200"/>
            <a:ext cx="536400" cy="482760"/>
          </a:xfrm>
          <a:custGeom>
            <a:avLst/>
            <a:gdLst/>
            <a:ahLst/>
            <a:rect l="l" t="t" r="r" b="b"/>
            <a:pathLst>
              <a:path w="1489" h="1341">
                <a:moveTo>
                  <a:pt x="23788" y="16321"/>
                </a:moveTo>
                <a:cubicBezTo>
                  <a:pt x="23771" y="16478"/>
                  <a:pt x="23782" y="16638"/>
                  <a:pt x="23763" y="16793"/>
                </a:cubicBezTo>
                <a:cubicBezTo>
                  <a:pt x="23744" y="16867"/>
                  <a:pt x="23736" y="16874"/>
                  <a:pt x="23738" y="16917"/>
                </a:cubicBezTo>
              </a:path>
              <a:path w="1489" h="1341">
                <a:moveTo>
                  <a:pt x="24135" y="16520"/>
                </a:moveTo>
                <a:cubicBezTo>
                  <a:pt x="24135" y="16561"/>
                  <a:pt x="24135" y="16569"/>
                  <a:pt x="24135" y="16594"/>
                </a:cubicBezTo>
              </a:path>
              <a:path w="1489" h="1341">
                <a:moveTo>
                  <a:pt x="24135" y="16545"/>
                </a:moveTo>
                <a:cubicBezTo>
                  <a:pt x="24165" y="16644"/>
                  <a:pt x="24150" y="16700"/>
                  <a:pt x="24259" y="16619"/>
                </a:cubicBezTo>
                <a:cubicBezTo>
                  <a:pt x="24319" y="16560"/>
                  <a:pt x="24342" y="16532"/>
                  <a:pt x="24358" y="16470"/>
                </a:cubicBezTo>
                <a:cubicBezTo>
                  <a:pt x="24381" y="16448"/>
                  <a:pt x="24389" y="16443"/>
                  <a:pt x="24383" y="16421"/>
                </a:cubicBezTo>
                <a:cubicBezTo>
                  <a:pt x="24383" y="16493"/>
                  <a:pt x="24362" y="16644"/>
                  <a:pt x="24482" y="16644"/>
                </a:cubicBezTo>
                <a:cubicBezTo>
                  <a:pt x="24593" y="16644"/>
                  <a:pt x="24720" y="16468"/>
                  <a:pt x="24631" y="16371"/>
                </a:cubicBezTo>
                <a:cubicBezTo>
                  <a:pt x="24581" y="16371"/>
                  <a:pt x="24565" y="16371"/>
                  <a:pt x="24532" y="16371"/>
                </a:cubicBezTo>
              </a:path>
              <a:path w="1489" h="1341">
                <a:moveTo>
                  <a:pt x="23192" y="17462"/>
                </a:moveTo>
                <a:cubicBezTo>
                  <a:pt x="23257" y="17452"/>
                  <a:pt x="23317" y="17413"/>
                  <a:pt x="23341" y="17438"/>
                </a:cubicBezTo>
              </a:path>
              <a:path w="1489" h="1341">
                <a:moveTo>
                  <a:pt x="23168" y="17587"/>
                </a:moveTo>
                <a:cubicBezTo>
                  <a:pt x="23219" y="17587"/>
                  <a:pt x="23251" y="17580"/>
                  <a:pt x="23292" y="17562"/>
                </a:cubicBezTo>
                <a:cubicBezTo>
                  <a:pt x="23308" y="17554"/>
                  <a:pt x="23325" y="17545"/>
                  <a:pt x="23341" y="17537"/>
                </a:cubicBezTo>
              </a:path>
              <a:path w="1489" h="1341">
                <a:moveTo>
                  <a:pt x="23713" y="17165"/>
                </a:moveTo>
                <a:cubicBezTo>
                  <a:pt x="23654" y="17185"/>
                  <a:pt x="23606" y="17378"/>
                  <a:pt x="23589" y="17438"/>
                </a:cubicBezTo>
                <a:cubicBezTo>
                  <a:pt x="23570" y="17506"/>
                  <a:pt x="23551" y="17591"/>
                  <a:pt x="23540" y="17661"/>
                </a:cubicBezTo>
                <a:cubicBezTo>
                  <a:pt x="23679" y="17635"/>
                  <a:pt x="23768" y="17593"/>
                  <a:pt x="23837" y="17462"/>
                </a:cubicBezTo>
                <a:cubicBezTo>
                  <a:pt x="23837" y="17454"/>
                  <a:pt x="23837" y="17446"/>
                  <a:pt x="23837" y="17438"/>
                </a:cubicBezTo>
                <a:cubicBezTo>
                  <a:pt x="23775" y="17432"/>
                  <a:pt x="23596" y="17490"/>
                  <a:pt x="23688" y="17611"/>
                </a:cubicBezTo>
                <a:cubicBezTo>
                  <a:pt x="23751" y="17611"/>
                  <a:pt x="23778" y="17604"/>
                  <a:pt x="23812" y="17562"/>
                </a:cubicBezTo>
              </a:path>
              <a:path w="1489" h="1341">
                <a:moveTo>
                  <a:pt x="24110" y="17363"/>
                </a:moveTo>
                <a:cubicBezTo>
                  <a:pt x="24110" y="17406"/>
                  <a:pt x="24120" y="17401"/>
                  <a:pt x="24085" y="17413"/>
                </a:cubicBezTo>
              </a:path>
              <a:path w="1489" h="1341">
                <a:moveTo>
                  <a:pt x="24011" y="17115"/>
                </a:moveTo>
                <a:cubicBezTo>
                  <a:pt x="24011" y="17050"/>
                  <a:pt x="23990" y="17276"/>
                  <a:pt x="23986" y="17314"/>
                </a:cubicBezTo>
                <a:cubicBezTo>
                  <a:pt x="23975" y="17421"/>
                  <a:pt x="23993" y="17518"/>
                  <a:pt x="24110" y="17537"/>
                </a:cubicBezTo>
                <a:cubicBezTo>
                  <a:pt x="24254" y="17560"/>
                  <a:pt x="24291" y="17430"/>
                  <a:pt x="24358" y="17338"/>
                </a:cubicBezTo>
                <a:cubicBezTo>
                  <a:pt x="24366" y="17330"/>
                  <a:pt x="24375" y="17322"/>
                  <a:pt x="24383" y="17314"/>
                </a:cubicBezTo>
                <a:cubicBezTo>
                  <a:pt x="24322" y="17329"/>
                  <a:pt x="24297" y="17371"/>
                  <a:pt x="24284" y="17438"/>
                </a:cubicBezTo>
                <a:cubicBezTo>
                  <a:pt x="24267" y="17525"/>
                  <a:pt x="24309" y="17501"/>
                  <a:pt x="24358" y="174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56320" y="3303720"/>
            <a:ext cx="1224000" cy="2689200"/>
          </a:xfrm>
          <a:custGeom>
            <a:avLst/>
            <a:gdLst/>
            <a:ahLst/>
            <a:rect l="l" t="t" r="r" b="b"/>
            <a:pathLst>
              <a:path w="3399" h="7467">
                <a:moveTo>
                  <a:pt x="23986" y="16644"/>
                </a:moveTo>
                <a:cubicBezTo>
                  <a:pt x="23994" y="16644"/>
                  <a:pt x="24003" y="16644"/>
                  <a:pt x="24011" y="16644"/>
                </a:cubicBezTo>
              </a:path>
              <a:path w="3399" h="7467">
                <a:moveTo>
                  <a:pt x="20712" y="9277"/>
                </a:moveTo>
                <a:cubicBezTo>
                  <a:pt x="20831" y="9231"/>
                  <a:pt x="20934" y="9194"/>
                  <a:pt x="21059" y="9178"/>
                </a:cubicBezTo>
              </a:path>
              <a:path w="3399" h="7467">
                <a:moveTo>
                  <a:pt x="21580" y="10939"/>
                </a:moveTo>
                <a:cubicBezTo>
                  <a:pt x="21661" y="10923"/>
                  <a:pt x="21741" y="10897"/>
                  <a:pt x="21828" y="10889"/>
                </a:cubicBezTo>
              </a:path>
              <a:path w="3399" h="7467">
                <a:moveTo>
                  <a:pt x="21605" y="11137"/>
                </a:moveTo>
                <a:cubicBezTo>
                  <a:pt x="21713" y="11114"/>
                  <a:pt x="21798" y="11099"/>
                  <a:pt x="21903" y="11063"/>
                </a:cubicBezTo>
              </a:path>
              <a:path w="3399" h="7467">
                <a:moveTo>
                  <a:pt x="23440" y="12452"/>
                </a:moveTo>
                <a:cubicBezTo>
                  <a:pt x="23638" y="12381"/>
                  <a:pt x="23907" y="12234"/>
                  <a:pt x="24110" y="12278"/>
                </a:cubicBezTo>
              </a:path>
              <a:path w="3399" h="7467">
                <a:moveTo>
                  <a:pt x="23217" y="13419"/>
                </a:moveTo>
                <a:cubicBezTo>
                  <a:pt x="23317" y="13396"/>
                  <a:pt x="23416" y="13373"/>
                  <a:pt x="23515" y="13345"/>
                </a:cubicBezTo>
              </a:path>
              <a:path w="3399" h="7467">
                <a:moveTo>
                  <a:pt x="23267" y="13519"/>
                </a:moveTo>
                <a:cubicBezTo>
                  <a:pt x="23414" y="13494"/>
                  <a:pt x="23462" y="13487"/>
                  <a:pt x="23540" y="134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62640" y="1741320"/>
            <a:ext cx="4036680" cy="4795920"/>
          </a:xfrm>
          <a:custGeom>
            <a:avLst/>
            <a:gdLst/>
            <a:ahLst/>
            <a:rect l="l" t="t" r="r" b="b"/>
            <a:pathLst>
              <a:path w="11213" h="13321">
                <a:moveTo>
                  <a:pt x="12700" y="5035"/>
                </a:moveTo>
                <a:cubicBezTo>
                  <a:pt x="12692" y="5035"/>
                  <a:pt x="12683" y="5035"/>
                  <a:pt x="12675" y="5035"/>
                </a:cubicBezTo>
              </a:path>
              <a:path w="11213" h="13321">
                <a:moveTo>
                  <a:pt x="12675" y="5035"/>
                </a:moveTo>
                <a:lnTo>
                  <a:pt x="12675" y="5035"/>
                </a:lnTo>
              </a:path>
              <a:path w="11213" h="13321">
                <a:moveTo>
                  <a:pt x="14858" y="5159"/>
                </a:moveTo>
                <a:cubicBezTo>
                  <a:pt x="15026" y="5136"/>
                  <a:pt x="15128" y="5093"/>
                  <a:pt x="15280" y="5011"/>
                </a:cubicBezTo>
              </a:path>
              <a:path w="11213" h="13321">
                <a:moveTo>
                  <a:pt x="15106" y="5159"/>
                </a:moveTo>
                <a:cubicBezTo>
                  <a:pt x="15328" y="5069"/>
                  <a:pt x="15485" y="5004"/>
                  <a:pt x="15652" y="4837"/>
                </a:cubicBezTo>
              </a:path>
              <a:path w="11213" h="13321">
                <a:moveTo>
                  <a:pt x="14808" y="7640"/>
                </a:moveTo>
                <a:cubicBezTo>
                  <a:pt x="14864" y="7775"/>
                  <a:pt x="14928" y="7891"/>
                  <a:pt x="15007" y="8012"/>
                </a:cubicBezTo>
              </a:path>
              <a:path w="11213" h="13321">
                <a:moveTo>
                  <a:pt x="15007" y="8012"/>
                </a:moveTo>
                <a:lnTo>
                  <a:pt x="15007" y="8012"/>
                </a:lnTo>
              </a:path>
              <a:path w="11213" h="13321">
                <a:moveTo>
                  <a:pt x="14808" y="7987"/>
                </a:moveTo>
                <a:cubicBezTo>
                  <a:pt x="15002" y="7877"/>
                  <a:pt x="15079" y="7831"/>
                  <a:pt x="15205" y="7739"/>
                </a:cubicBezTo>
              </a:path>
              <a:path w="11213" h="13321">
                <a:moveTo>
                  <a:pt x="23143" y="16867"/>
                </a:moveTo>
                <a:cubicBezTo>
                  <a:pt x="23286" y="16822"/>
                  <a:pt x="23423" y="16770"/>
                  <a:pt x="23564" y="16718"/>
                </a:cubicBezTo>
              </a:path>
              <a:path w="11213" h="13321">
                <a:moveTo>
                  <a:pt x="23862" y="17289"/>
                </a:moveTo>
                <a:cubicBezTo>
                  <a:pt x="23862" y="17317"/>
                  <a:pt x="23864" y="17328"/>
                  <a:pt x="23887" y="17338"/>
                </a:cubicBezTo>
              </a:path>
              <a:path w="11213" h="13321">
                <a:moveTo>
                  <a:pt x="22994" y="18033"/>
                </a:moveTo>
                <a:cubicBezTo>
                  <a:pt x="23068" y="17976"/>
                  <a:pt x="23116" y="17953"/>
                  <a:pt x="23192" y="17909"/>
                </a:cubicBezTo>
              </a:path>
              <a:path w="11213" h="13321">
                <a:moveTo>
                  <a:pt x="22994" y="18157"/>
                </a:moveTo>
                <a:cubicBezTo>
                  <a:pt x="23087" y="18121"/>
                  <a:pt x="23177" y="18092"/>
                  <a:pt x="23267" y="18058"/>
                </a:cubicBezTo>
              </a:path>
              <a:path w="11213" h="13321">
                <a:moveTo>
                  <a:pt x="22399" y="12229"/>
                </a:moveTo>
                <a:cubicBezTo>
                  <a:pt x="22474" y="12221"/>
                  <a:pt x="22546" y="12210"/>
                  <a:pt x="22622" y="12204"/>
                </a:cubicBezTo>
              </a:path>
              <a:path w="11213" h="13321">
                <a:moveTo>
                  <a:pt x="22473" y="12378"/>
                </a:moveTo>
                <a:cubicBezTo>
                  <a:pt x="22649" y="12327"/>
                  <a:pt x="22709" y="12310"/>
                  <a:pt x="22820" y="12254"/>
                </a:cubicBezTo>
              </a:path>
              <a:path w="11213" h="13321">
                <a:moveTo>
                  <a:pt x="23292" y="12005"/>
                </a:moveTo>
                <a:cubicBezTo>
                  <a:pt x="23265" y="12066"/>
                  <a:pt x="23249" y="12113"/>
                  <a:pt x="23242" y="12179"/>
                </a:cubicBezTo>
                <a:cubicBezTo>
                  <a:pt x="23381" y="12157"/>
                  <a:pt x="23404" y="12127"/>
                  <a:pt x="23515" y="120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11800" y="1697040"/>
            <a:ext cx="1285560" cy="1633680"/>
          </a:xfrm>
          <a:custGeom>
            <a:avLst/>
            <a:gdLst/>
            <a:ahLst/>
            <a:rect l="l" t="t" r="r" b="b"/>
            <a:pathLst>
              <a:path w="3572" h="4540">
                <a:moveTo>
                  <a:pt x="12353" y="5234"/>
                </a:moveTo>
                <a:cubicBezTo>
                  <a:pt x="12328" y="5234"/>
                  <a:pt x="12320" y="5234"/>
                  <a:pt x="12328" y="5209"/>
                </a:cubicBezTo>
                <a:cubicBezTo>
                  <a:pt x="12355" y="5345"/>
                  <a:pt x="12438" y="5468"/>
                  <a:pt x="12477" y="5606"/>
                </a:cubicBezTo>
                <a:cubicBezTo>
                  <a:pt x="12477" y="5614"/>
                  <a:pt x="12477" y="5623"/>
                  <a:pt x="12477" y="5631"/>
                </a:cubicBezTo>
              </a:path>
              <a:path w="3572" h="4540">
                <a:moveTo>
                  <a:pt x="12353" y="5358"/>
                </a:moveTo>
                <a:cubicBezTo>
                  <a:pt x="12353" y="5247"/>
                  <a:pt x="12346" y="5143"/>
                  <a:pt x="12378" y="5035"/>
                </a:cubicBezTo>
                <a:cubicBezTo>
                  <a:pt x="12404" y="4946"/>
                  <a:pt x="12540" y="4911"/>
                  <a:pt x="12576" y="4936"/>
                </a:cubicBezTo>
              </a:path>
              <a:path w="3572" h="4540">
                <a:moveTo>
                  <a:pt x="12254" y="5482"/>
                </a:moveTo>
                <a:cubicBezTo>
                  <a:pt x="12394" y="5402"/>
                  <a:pt x="12580" y="5260"/>
                  <a:pt x="12750" y="5259"/>
                </a:cubicBezTo>
                <a:cubicBezTo>
                  <a:pt x="12821" y="5259"/>
                  <a:pt x="12851" y="5498"/>
                  <a:pt x="12824" y="5432"/>
                </a:cubicBezTo>
                <a:cubicBezTo>
                  <a:pt x="12824" y="5416"/>
                  <a:pt x="12824" y="5399"/>
                  <a:pt x="12824" y="5383"/>
                </a:cubicBezTo>
              </a:path>
              <a:path w="3572" h="4540">
                <a:moveTo>
                  <a:pt x="13097" y="5184"/>
                </a:moveTo>
                <a:cubicBezTo>
                  <a:pt x="12938" y="5144"/>
                  <a:pt x="12962" y="5303"/>
                  <a:pt x="12948" y="5432"/>
                </a:cubicBezTo>
                <a:cubicBezTo>
                  <a:pt x="13067" y="5393"/>
                  <a:pt x="13063" y="5337"/>
                  <a:pt x="13122" y="5234"/>
                </a:cubicBezTo>
                <a:cubicBezTo>
                  <a:pt x="13171" y="5383"/>
                  <a:pt x="13288" y="5473"/>
                  <a:pt x="13246" y="5655"/>
                </a:cubicBezTo>
                <a:cubicBezTo>
                  <a:pt x="13174" y="5774"/>
                  <a:pt x="13155" y="5814"/>
                  <a:pt x="13047" y="5804"/>
                </a:cubicBezTo>
              </a:path>
              <a:path w="3572" h="4540">
                <a:moveTo>
                  <a:pt x="13271" y="5135"/>
                </a:moveTo>
                <a:cubicBezTo>
                  <a:pt x="13299" y="5197"/>
                  <a:pt x="13387" y="5439"/>
                  <a:pt x="13494" y="5333"/>
                </a:cubicBezTo>
                <a:cubicBezTo>
                  <a:pt x="13524" y="5244"/>
                  <a:pt x="13536" y="5203"/>
                  <a:pt x="13543" y="5135"/>
                </a:cubicBezTo>
                <a:cubicBezTo>
                  <a:pt x="13502" y="5064"/>
                  <a:pt x="13545" y="5192"/>
                  <a:pt x="13593" y="5259"/>
                </a:cubicBezTo>
                <a:cubicBezTo>
                  <a:pt x="13697" y="5404"/>
                  <a:pt x="13687" y="5176"/>
                  <a:pt x="13692" y="5135"/>
                </a:cubicBezTo>
              </a:path>
              <a:path w="3572" h="4540">
                <a:moveTo>
                  <a:pt x="13717" y="5159"/>
                </a:moveTo>
                <a:cubicBezTo>
                  <a:pt x="13762" y="5249"/>
                  <a:pt x="13769" y="5027"/>
                  <a:pt x="13841" y="4986"/>
                </a:cubicBezTo>
              </a:path>
              <a:path w="3572" h="4540">
                <a:moveTo>
                  <a:pt x="14114" y="5060"/>
                </a:moveTo>
                <a:cubicBezTo>
                  <a:pt x="14163" y="5021"/>
                  <a:pt x="14175" y="4978"/>
                  <a:pt x="14188" y="4911"/>
                </a:cubicBezTo>
                <a:cubicBezTo>
                  <a:pt x="14089" y="4961"/>
                  <a:pt x="14002" y="5174"/>
                  <a:pt x="14163" y="5259"/>
                </a:cubicBezTo>
                <a:cubicBezTo>
                  <a:pt x="14205" y="5259"/>
                  <a:pt x="14246" y="5259"/>
                  <a:pt x="14288" y="5259"/>
                </a:cubicBezTo>
              </a:path>
              <a:path w="3572" h="4540">
                <a:moveTo>
                  <a:pt x="14957" y="5060"/>
                </a:moveTo>
                <a:cubicBezTo>
                  <a:pt x="15014" y="5135"/>
                  <a:pt x="15018" y="5147"/>
                  <a:pt x="15056" y="5184"/>
                </a:cubicBezTo>
                <a:cubicBezTo>
                  <a:pt x="15069" y="5149"/>
                  <a:pt x="15079" y="4901"/>
                  <a:pt x="15106" y="4911"/>
                </a:cubicBezTo>
                <a:cubicBezTo>
                  <a:pt x="15187" y="4942"/>
                  <a:pt x="15236" y="5066"/>
                  <a:pt x="15280" y="5135"/>
                </a:cubicBezTo>
              </a:path>
              <a:path w="3572" h="4540">
                <a:moveTo>
                  <a:pt x="15652" y="4713"/>
                </a:moveTo>
                <a:cubicBezTo>
                  <a:pt x="15695" y="4865"/>
                  <a:pt x="15753" y="5017"/>
                  <a:pt x="15801" y="5159"/>
                </a:cubicBezTo>
              </a:path>
              <a:path w="3572" h="4540">
                <a:moveTo>
                  <a:pt x="13146" y="8458"/>
                </a:moveTo>
                <a:cubicBezTo>
                  <a:pt x="13097" y="8578"/>
                  <a:pt x="13090" y="8635"/>
                  <a:pt x="13097" y="8756"/>
                </a:cubicBezTo>
                <a:cubicBezTo>
                  <a:pt x="13145" y="8720"/>
                  <a:pt x="13145" y="8520"/>
                  <a:pt x="13196" y="8508"/>
                </a:cubicBezTo>
                <a:cubicBezTo>
                  <a:pt x="13263" y="8492"/>
                  <a:pt x="13319" y="9037"/>
                  <a:pt x="13295" y="9103"/>
                </a:cubicBezTo>
                <a:cubicBezTo>
                  <a:pt x="13203" y="9219"/>
                  <a:pt x="13180" y="9258"/>
                  <a:pt x="13072" y="9252"/>
                </a:cubicBezTo>
              </a:path>
              <a:path w="3572" h="4540">
                <a:moveTo>
                  <a:pt x="13246" y="8483"/>
                </a:moveTo>
                <a:cubicBezTo>
                  <a:pt x="13276" y="8535"/>
                  <a:pt x="13406" y="8884"/>
                  <a:pt x="13494" y="8781"/>
                </a:cubicBezTo>
                <a:cubicBezTo>
                  <a:pt x="13553" y="8662"/>
                  <a:pt x="13572" y="8608"/>
                  <a:pt x="13568" y="8508"/>
                </a:cubicBezTo>
                <a:cubicBezTo>
                  <a:pt x="13469" y="8215"/>
                  <a:pt x="13578" y="8712"/>
                  <a:pt x="13692" y="8657"/>
                </a:cubicBezTo>
                <a:cubicBezTo>
                  <a:pt x="13811" y="8600"/>
                  <a:pt x="13726" y="8313"/>
                  <a:pt x="13767" y="8409"/>
                </a:cubicBezTo>
                <a:cubicBezTo>
                  <a:pt x="13783" y="8442"/>
                  <a:pt x="13800" y="8475"/>
                  <a:pt x="13816" y="8508"/>
                </a:cubicBezTo>
                <a:cubicBezTo>
                  <a:pt x="13816" y="8648"/>
                  <a:pt x="13786" y="8276"/>
                  <a:pt x="13791" y="8260"/>
                </a:cubicBezTo>
                <a:cubicBezTo>
                  <a:pt x="13842" y="8209"/>
                  <a:pt x="13860" y="8193"/>
                  <a:pt x="13915" y="8210"/>
                </a:cubicBezTo>
              </a:path>
              <a:path w="3572" h="4540">
                <a:moveTo>
                  <a:pt x="14064" y="8334"/>
                </a:moveTo>
                <a:cubicBezTo>
                  <a:pt x="14142" y="8272"/>
                  <a:pt x="14126" y="8236"/>
                  <a:pt x="14139" y="8136"/>
                </a:cubicBezTo>
                <a:cubicBezTo>
                  <a:pt x="14062" y="8193"/>
                  <a:pt x="14044" y="8395"/>
                  <a:pt x="14163" y="8458"/>
                </a:cubicBezTo>
                <a:cubicBezTo>
                  <a:pt x="14328" y="8458"/>
                  <a:pt x="14398" y="8430"/>
                  <a:pt x="14461" y="8285"/>
                </a:cubicBezTo>
              </a:path>
              <a:path w="3572" h="4540">
                <a:moveTo>
                  <a:pt x="14610" y="7789"/>
                </a:moveTo>
                <a:cubicBezTo>
                  <a:pt x="14670" y="7869"/>
                  <a:pt x="14766" y="8073"/>
                  <a:pt x="14808" y="7987"/>
                </a:cubicBezTo>
              </a:path>
              <a:path w="3572" h="4540">
                <a:moveTo>
                  <a:pt x="14635" y="8012"/>
                </a:moveTo>
                <a:cubicBezTo>
                  <a:pt x="14760" y="7941"/>
                  <a:pt x="14890" y="7870"/>
                  <a:pt x="15007" y="7789"/>
                </a:cubicBezTo>
              </a:path>
              <a:path w="3572" h="4540">
                <a:moveTo>
                  <a:pt x="15230" y="7516"/>
                </a:moveTo>
                <a:cubicBezTo>
                  <a:pt x="15355" y="7437"/>
                  <a:pt x="15362" y="7420"/>
                  <a:pt x="15503" y="7441"/>
                </a:cubicBezTo>
                <a:cubicBezTo>
                  <a:pt x="15484" y="7582"/>
                  <a:pt x="15448" y="7699"/>
                  <a:pt x="15404" y="7838"/>
                </a:cubicBezTo>
                <a:cubicBezTo>
                  <a:pt x="15554" y="7810"/>
                  <a:pt x="15682" y="7738"/>
                  <a:pt x="15825" y="76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77000" y="3902040"/>
            <a:ext cx="1903320" cy="2741760"/>
          </a:xfrm>
          <a:custGeom>
            <a:avLst/>
            <a:gdLst/>
            <a:ahLst/>
            <a:rect l="l" t="t" r="r" b="b"/>
            <a:pathLst>
              <a:path w="5284" h="7616">
                <a:moveTo>
                  <a:pt x="19769" y="15801"/>
                </a:moveTo>
                <a:cubicBezTo>
                  <a:pt x="19835" y="15779"/>
                  <a:pt x="19772" y="15789"/>
                  <a:pt x="19869" y="15801"/>
                </a:cubicBezTo>
                <a:cubicBezTo>
                  <a:pt x="19900" y="15805"/>
                  <a:pt x="19968" y="15825"/>
                  <a:pt x="19968" y="15825"/>
                </a:cubicBezTo>
                <a:cubicBezTo>
                  <a:pt x="20023" y="15835"/>
                  <a:pt x="20096" y="15842"/>
                  <a:pt x="20141" y="15850"/>
                </a:cubicBezTo>
                <a:cubicBezTo>
                  <a:pt x="20196" y="15859"/>
                  <a:pt x="20263" y="15868"/>
                  <a:pt x="20315" y="15875"/>
                </a:cubicBezTo>
                <a:cubicBezTo>
                  <a:pt x="20815" y="15941"/>
                  <a:pt x="21447" y="15906"/>
                  <a:pt x="21927" y="15850"/>
                </a:cubicBezTo>
                <a:cubicBezTo>
                  <a:pt x="21965" y="15846"/>
                  <a:pt x="22024" y="15826"/>
                  <a:pt x="22027" y="15825"/>
                </a:cubicBezTo>
                <a:cubicBezTo>
                  <a:pt x="22091" y="15812"/>
                  <a:pt x="22143" y="15822"/>
                  <a:pt x="22200" y="15801"/>
                </a:cubicBezTo>
                <a:cubicBezTo>
                  <a:pt x="22150" y="15801"/>
                  <a:pt x="22151" y="15801"/>
                  <a:pt x="22101" y="15801"/>
                </a:cubicBezTo>
                <a:cubicBezTo>
                  <a:pt x="21933" y="15801"/>
                  <a:pt x="21757" y="15802"/>
                  <a:pt x="21605" y="15776"/>
                </a:cubicBezTo>
                <a:cubicBezTo>
                  <a:pt x="21548" y="15766"/>
                  <a:pt x="21507" y="15792"/>
                  <a:pt x="21456" y="15801"/>
                </a:cubicBezTo>
                <a:cubicBezTo>
                  <a:pt x="21386" y="15813"/>
                  <a:pt x="21300" y="15818"/>
                  <a:pt x="21233" y="15825"/>
                </a:cubicBezTo>
                <a:cubicBezTo>
                  <a:pt x="21139" y="15835"/>
                  <a:pt x="21052" y="15837"/>
                  <a:pt x="20960" y="15850"/>
                </a:cubicBezTo>
                <a:cubicBezTo>
                  <a:pt x="20897" y="15859"/>
                  <a:pt x="20851" y="15873"/>
                  <a:pt x="20786" y="15875"/>
                </a:cubicBezTo>
                <a:cubicBezTo>
                  <a:pt x="20706" y="15878"/>
                  <a:pt x="20641" y="15854"/>
                  <a:pt x="20563" y="15850"/>
                </a:cubicBezTo>
                <a:cubicBezTo>
                  <a:pt x="20480" y="15846"/>
                  <a:pt x="20419" y="15864"/>
                  <a:pt x="20340" y="15875"/>
                </a:cubicBezTo>
                <a:cubicBezTo>
                  <a:pt x="20261" y="15886"/>
                  <a:pt x="20117" y="15915"/>
                  <a:pt x="20042" y="15900"/>
                </a:cubicBezTo>
                <a:cubicBezTo>
                  <a:pt x="19980" y="15887"/>
                  <a:pt x="19961" y="15875"/>
                  <a:pt x="19893" y="15875"/>
                </a:cubicBezTo>
                <a:cubicBezTo>
                  <a:pt x="19827" y="15875"/>
                  <a:pt x="19811" y="15875"/>
                  <a:pt x="19745" y="15875"/>
                </a:cubicBezTo>
              </a:path>
              <a:path w="5284" h="7616">
                <a:moveTo>
                  <a:pt x="19720" y="15925"/>
                </a:moveTo>
                <a:cubicBezTo>
                  <a:pt x="19708" y="15899"/>
                  <a:pt x="19677" y="15856"/>
                  <a:pt x="19670" y="15801"/>
                </a:cubicBezTo>
                <a:cubicBezTo>
                  <a:pt x="19658" y="15712"/>
                  <a:pt x="19675" y="15627"/>
                  <a:pt x="19695" y="15553"/>
                </a:cubicBezTo>
                <a:cubicBezTo>
                  <a:pt x="19709" y="15503"/>
                  <a:pt x="19705" y="15455"/>
                  <a:pt x="19720" y="15404"/>
                </a:cubicBezTo>
                <a:cubicBezTo>
                  <a:pt x="19738" y="15345"/>
                  <a:pt x="19743" y="15297"/>
                  <a:pt x="19745" y="15230"/>
                </a:cubicBezTo>
                <a:cubicBezTo>
                  <a:pt x="19751" y="14997"/>
                  <a:pt x="19752" y="14761"/>
                  <a:pt x="19769" y="14536"/>
                </a:cubicBezTo>
                <a:cubicBezTo>
                  <a:pt x="19781" y="14379"/>
                  <a:pt x="19801" y="14155"/>
                  <a:pt x="19794" y="14015"/>
                </a:cubicBezTo>
                <a:cubicBezTo>
                  <a:pt x="19791" y="13959"/>
                  <a:pt x="19772" y="13918"/>
                  <a:pt x="19769" y="13866"/>
                </a:cubicBezTo>
                <a:cubicBezTo>
                  <a:pt x="19761" y="13735"/>
                  <a:pt x="19754" y="13586"/>
                  <a:pt x="19745" y="13469"/>
                </a:cubicBezTo>
                <a:cubicBezTo>
                  <a:pt x="19741" y="13409"/>
                  <a:pt x="19725" y="13349"/>
                  <a:pt x="19720" y="13295"/>
                </a:cubicBezTo>
                <a:cubicBezTo>
                  <a:pt x="19714" y="13230"/>
                  <a:pt x="19700" y="13156"/>
                  <a:pt x="19695" y="13097"/>
                </a:cubicBezTo>
                <a:cubicBezTo>
                  <a:pt x="19690" y="13038"/>
                  <a:pt x="19675" y="12977"/>
                  <a:pt x="19670" y="12923"/>
                </a:cubicBezTo>
                <a:cubicBezTo>
                  <a:pt x="19663" y="12849"/>
                  <a:pt x="19651" y="12792"/>
                  <a:pt x="19645" y="12725"/>
                </a:cubicBezTo>
                <a:cubicBezTo>
                  <a:pt x="19639" y="12655"/>
                  <a:pt x="19627" y="12594"/>
                  <a:pt x="19621" y="12526"/>
                </a:cubicBezTo>
                <a:cubicBezTo>
                  <a:pt x="19614" y="12443"/>
                  <a:pt x="19602" y="12355"/>
                  <a:pt x="19596" y="12278"/>
                </a:cubicBezTo>
                <a:cubicBezTo>
                  <a:pt x="19589" y="12189"/>
                  <a:pt x="19615" y="12110"/>
                  <a:pt x="19621" y="12030"/>
                </a:cubicBezTo>
                <a:cubicBezTo>
                  <a:pt x="19632" y="11874"/>
                  <a:pt x="19635" y="11709"/>
                  <a:pt x="19645" y="11559"/>
                </a:cubicBezTo>
                <a:cubicBezTo>
                  <a:pt x="19649" y="11495"/>
                  <a:pt x="19667" y="11410"/>
                  <a:pt x="19670" y="11361"/>
                </a:cubicBezTo>
                <a:cubicBezTo>
                  <a:pt x="19682" y="11189"/>
                  <a:pt x="19670" y="11012"/>
                  <a:pt x="19670" y="10840"/>
                </a:cubicBezTo>
                <a:cubicBezTo>
                  <a:pt x="19671" y="10842"/>
                  <a:pt x="19691" y="10880"/>
                  <a:pt x="19695" y="10914"/>
                </a:cubicBezTo>
                <a:cubicBezTo>
                  <a:pt x="19704" y="10998"/>
                  <a:pt x="19715" y="11078"/>
                  <a:pt x="19720" y="11162"/>
                </a:cubicBezTo>
                <a:cubicBezTo>
                  <a:pt x="19731" y="11351"/>
                  <a:pt x="19732" y="11551"/>
                  <a:pt x="19745" y="11733"/>
                </a:cubicBezTo>
                <a:cubicBezTo>
                  <a:pt x="19754" y="11857"/>
                  <a:pt x="19760" y="11987"/>
                  <a:pt x="19769" y="12105"/>
                </a:cubicBezTo>
                <a:cubicBezTo>
                  <a:pt x="19782" y="12276"/>
                  <a:pt x="19775" y="12461"/>
                  <a:pt x="19745" y="12626"/>
                </a:cubicBezTo>
                <a:cubicBezTo>
                  <a:pt x="19730" y="12710"/>
                  <a:pt x="19730" y="12789"/>
                  <a:pt x="19720" y="12874"/>
                </a:cubicBezTo>
                <a:cubicBezTo>
                  <a:pt x="19706" y="12991"/>
                  <a:pt x="19695" y="13099"/>
                  <a:pt x="19695" y="13221"/>
                </a:cubicBezTo>
                <a:cubicBezTo>
                  <a:pt x="19695" y="13358"/>
                  <a:pt x="19711" y="13485"/>
                  <a:pt x="19720" y="13618"/>
                </a:cubicBezTo>
                <a:cubicBezTo>
                  <a:pt x="19725" y="13691"/>
                  <a:pt x="19741" y="13774"/>
                  <a:pt x="19745" y="13841"/>
                </a:cubicBezTo>
                <a:cubicBezTo>
                  <a:pt x="19751" y="13940"/>
                  <a:pt x="19763" y="14043"/>
                  <a:pt x="19769" y="14139"/>
                </a:cubicBezTo>
                <a:cubicBezTo>
                  <a:pt x="19780" y="14299"/>
                  <a:pt x="19754" y="14453"/>
                  <a:pt x="19745" y="14610"/>
                </a:cubicBezTo>
                <a:cubicBezTo>
                  <a:pt x="19727" y="14921"/>
                  <a:pt x="19745" y="15257"/>
                  <a:pt x="19720" y="15553"/>
                </a:cubicBezTo>
                <a:cubicBezTo>
                  <a:pt x="19714" y="15626"/>
                  <a:pt x="19720" y="15702"/>
                  <a:pt x="19720" y="15776"/>
                </a:cubicBezTo>
              </a:path>
              <a:path w="5284" h="7616">
                <a:moveTo>
                  <a:pt x="19769" y="13395"/>
                </a:moveTo>
                <a:cubicBezTo>
                  <a:pt x="19802" y="13395"/>
                  <a:pt x="19786" y="13395"/>
                  <a:pt x="19819" y="13395"/>
                </a:cubicBezTo>
                <a:cubicBezTo>
                  <a:pt x="19925" y="13395"/>
                  <a:pt x="20018" y="13387"/>
                  <a:pt x="20117" y="13370"/>
                </a:cubicBezTo>
                <a:cubicBezTo>
                  <a:pt x="20246" y="13348"/>
                  <a:pt x="20386" y="13366"/>
                  <a:pt x="20513" y="13345"/>
                </a:cubicBezTo>
                <a:cubicBezTo>
                  <a:pt x="20560" y="13337"/>
                  <a:pt x="20616" y="13327"/>
                  <a:pt x="20662" y="13320"/>
                </a:cubicBezTo>
                <a:cubicBezTo>
                  <a:pt x="20722" y="13311"/>
                  <a:pt x="20779" y="13305"/>
                  <a:pt x="20836" y="13295"/>
                </a:cubicBezTo>
                <a:cubicBezTo>
                  <a:pt x="20902" y="13284"/>
                  <a:pt x="20989" y="13324"/>
                  <a:pt x="21034" y="13320"/>
                </a:cubicBezTo>
                <a:cubicBezTo>
                  <a:pt x="21120" y="13313"/>
                  <a:pt x="21167" y="13317"/>
                  <a:pt x="21258" y="13320"/>
                </a:cubicBezTo>
                <a:cubicBezTo>
                  <a:pt x="21329" y="13322"/>
                  <a:pt x="21387" y="13337"/>
                  <a:pt x="21456" y="13345"/>
                </a:cubicBezTo>
                <a:cubicBezTo>
                  <a:pt x="21564" y="13358"/>
                  <a:pt x="21672" y="13355"/>
                  <a:pt x="21779" y="13370"/>
                </a:cubicBezTo>
                <a:cubicBezTo>
                  <a:pt x="21869" y="13383"/>
                  <a:pt x="21962" y="13383"/>
                  <a:pt x="22051" y="13395"/>
                </a:cubicBezTo>
                <a:cubicBezTo>
                  <a:pt x="22096" y="13401"/>
                  <a:pt x="22188" y="13417"/>
                  <a:pt x="22200" y="13419"/>
                </a:cubicBezTo>
                <a:cubicBezTo>
                  <a:pt x="22228" y="13424"/>
                  <a:pt x="22269" y="13419"/>
                  <a:pt x="22299" y="13419"/>
                </a:cubicBezTo>
              </a:path>
              <a:path w="5284" h="7616">
                <a:moveTo>
                  <a:pt x="22448" y="14560"/>
                </a:moveTo>
                <a:cubicBezTo>
                  <a:pt x="22448" y="14458"/>
                  <a:pt x="22453" y="14574"/>
                  <a:pt x="22448" y="14610"/>
                </a:cubicBezTo>
                <a:cubicBezTo>
                  <a:pt x="22427" y="14744"/>
                  <a:pt x="22384" y="14903"/>
                  <a:pt x="22423" y="15032"/>
                </a:cubicBezTo>
                <a:cubicBezTo>
                  <a:pt x="22461" y="15155"/>
                  <a:pt x="22559" y="15089"/>
                  <a:pt x="22622" y="15032"/>
                </a:cubicBezTo>
                <a:cubicBezTo>
                  <a:pt x="22694" y="14967"/>
                  <a:pt x="22690" y="14933"/>
                  <a:pt x="22671" y="14858"/>
                </a:cubicBezTo>
                <a:cubicBezTo>
                  <a:pt x="22558" y="14929"/>
                  <a:pt x="22557" y="14956"/>
                  <a:pt x="22572" y="15081"/>
                </a:cubicBezTo>
                <a:cubicBezTo>
                  <a:pt x="22572" y="15106"/>
                  <a:pt x="22572" y="15114"/>
                  <a:pt x="22597" y="15106"/>
                </a:cubicBezTo>
              </a:path>
              <a:path w="5284" h="7616">
                <a:moveTo>
                  <a:pt x="22820" y="14858"/>
                </a:moveTo>
                <a:cubicBezTo>
                  <a:pt x="22843" y="14927"/>
                  <a:pt x="22862" y="14985"/>
                  <a:pt x="22870" y="15056"/>
                </a:cubicBezTo>
                <a:cubicBezTo>
                  <a:pt x="22876" y="14968"/>
                  <a:pt x="22883" y="14734"/>
                  <a:pt x="23044" y="14858"/>
                </a:cubicBezTo>
                <a:cubicBezTo>
                  <a:pt x="23092" y="14895"/>
                  <a:pt x="23093" y="15024"/>
                  <a:pt x="23093" y="14982"/>
                </a:cubicBezTo>
                <a:cubicBezTo>
                  <a:pt x="23099" y="14905"/>
                  <a:pt x="23122" y="14714"/>
                  <a:pt x="23267" y="14784"/>
                </a:cubicBezTo>
                <a:cubicBezTo>
                  <a:pt x="23359" y="14828"/>
                  <a:pt x="23366" y="14921"/>
                  <a:pt x="23366" y="15007"/>
                </a:cubicBezTo>
              </a:path>
              <a:path w="5284" h="7616">
                <a:moveTo>
                  <a:pt x="20638" y="13519"/>
                </a:moveTo>
                <a:cubicBezTo>
                  <a:pt x="20638" y="13651"/>
                  <a:pt x="20598" y="13784"/>
                  <a:pt x="20613" y="13915"/>
                </a:cubicBezTo>
                <a:cubicBezTo>
                  <a:pt x="20621" y="13940"/>
                  <a:pt x="20630" y="13965"/>
                  <a:pt x="20638" y="13990"/>
                </a:cubicBezTo>
                <a:cubicBezTo>
                  <a:pt x="20738" y="13965"/>
                  <a:pt x="20923" y="13925"/>
                  <a:pt x="20935" y="13791"/>
                </a:cubicBezTo>
                <a:cubicBezTo>
                  <a:pt x="20907" y="13791"/>
                  <a:pt x="20897" y="13789"/>
                  <a:pt x="20886" y="13767"/>
                </a:cubicBezTo>
                <a:cubicBezTo>
                  <a:pt x="20835" y="13784"/>
                  <a:pt x="20787" y="13856"/>
                  <a:pt x="20811" y="13940"/>
                </a:cubicBezTo>
                <a:cubicBezTo>
                  <a:pt x="20854" y="13983"/>
                  <a:pt x="20885" y="13980"/>
                  <a:pt x="20935" y="13915"/>
                </a:cubicBezTo>
              </a:path>
              <a:path w="5284" h="7616">
                <a:moveTo>
                  <a:pt x="21084" y="13767"/>
                </a:moveTo>
                <a:cubicBezTo>
                  <a:pt x="21090" y="13783"/>
                  <a:pt x="21134" y="13952"/>
                  <a:pt x="21134" y="13891"/>
                </a:cubicBezTo>
                <a:cubicBezTo>
                  <a:pt x="21156" y="13852"/>
                  <a:pt x="21160" y="13764"/>
                  <a:pt x="21233" y="13767"/>
                </a:cubicBezTo>
                <a:cubicBezTo>
                  <a:pt x="21306" y="13770"/>
                  <a:pt x="21335" y="13812"/>
                  <a:pt x="21357" y="13866"/>
                </a:cubicBezTo>
                <a:cubicBezTo>
                  <a:pt x="21344" y="13800"/>
                  <a:pt x="21313" y="13747"/>
                  <a:pt x="21382" y="13692"/>
                </a:cubicBezTo>
                <a:cubicBezTo>
                  <a:pt x="21484" y="13611"/>
                  <a:pt x="21573" y="13727"/>
                  <a:pt x="21605" y="13816"/>
                </a:cubicBezTo>
                <a:cubicBezTo>
                  <a:pt x="21605" y="13841"/>
                  <a:pt x="21605" y="13849"/>
                  <a:pt x="21605" y="13866"/>
                </a:cubicBezTo>
              </a:path>
              <a:path w="5284" h="7616">
                <a:moveTo>
                  <a:pt x="18901" y="14312"/>
                </a:moveTo>
                <a:cubicBezTo>
                  <a:pt x="18901" y="14442"/>
                  <a:pt x="18864" y="14556"/>
                  <a:pt x="18852" y="14684"/>
                </a:cubicBezTo>
                <a:cubicBezTo>
                  <a:pt x="18840" y="14802"/>
                  <a:pt x="18825" y="14799"/>
                  <a:pt x="18876" y="14883"/>
                </a:cubicBezTo>
                <a:cubicBezTo>
                  <a:pt x="18936" y="14856"/>
                  <a:pt x="19034" y="14840"/>
                  <a:pt x="19075" y="14784"/>
                </a:cubicBezTo>
                <a:cubicBezTo>
                  <a:pt x="19101" y="14748"/>
                  <a:pt x="19116" y="14702"/>
                  <a:pt x="19124" y="14660"/>
                </a:cubicBezTo>
                <a:cubicBezTo>
                  <a:pt x="19070" y="14660"/>
                  <a:pt x="19041" y="14672"/>
                  <a:pt x="19000" y="14709"/>
                </a:cubicBezTo>
                <a:cubicBezTo>
                  <a:pt x="18973" y="14734"/>
                  <a:pt x="18955" y="14848"/>
                  <a:pt x="18976" y="14883"/>
                </a:cubicBezTo>
                <a:cubicBezTo>
                  <a:pt x="19006" y="14932"/>
                  <a:pt x="19055" y="14821"/>
                  <a:pt x="19100" y="14784"/>
                </a:cubicBezTo>
              </a:path>
              <a:path w="5284" h="7616">
                <a:moveTo>
                  <a:pt x="19273" y="14635"/>
                </a:moveTo>
                <a:cubicBezTo>
                  <a:pt x="19273" y="14703"/>
                  <a:pt x="19270" y="14722"/>
                  <a:pt x="19298" y="14759"/>
                </a:cubicBezTo>
                <a:cubicBezTo>
                  <a:pt x="19298" y="14833"/>
                  <a:pt x="19298" y="14636"/>
                  <a:pt x="19298" y="14635"/>
                </a:cubicBezTo>
                <a:cubicBezTo>
                  <a:pt x="19328" y="14538"/>
                  <a:pt x="19377" y="14623"/>
                  <a:pt x="19397" y="14684"/>
                </a:cubicBezTo>
                <a:cubicBezTo>
                  <a:pt x="19397" y="14692"/>
                  <a:pt x="19397" y="14701"/>
                  <a:pt x="19397" y="14709"/>
                </a:cubicBezTo>
                <a:cubicBezTo>
                  <a:pt x="19406" y="14655"/>
                  <a:pt x="19424" y="14611"/>
                  <a:pt x="19447" y="14560"/>
                </a:cubicBezTo>
                <a:cubicBezTo>
                  <a:pt x="19560" y="14585"/>
                  <a:pt x="19587" y="14615"/>
                  <a:pt x="19596" y="14734"/>
                </a:cubicBezTo>
                <a:cubicBezTo>
                  <a:pt x="19596" y="14742"/>
                  <a:pt x="19596" y="14751"/>
                  <a:pt x="19596" y="14759"/>
                </a:cubicBezTo>
              </a:path>
              <a:path w="5284" h="7616">
                <a:moveTo>
                  <a:pt x="22076" y="16594"/>
                </a:moveTo>
                <a:cubicBezTo>
                  <a:pt x="21999" y="16710"/>
                  <a:pt x="21974" y="16859"/>
                  <a:pt x="21927" y="16991"/>
                </a:cubicBezTo>
                <a:cubicBezTo>
                  <a:pt x="21891" y="17081"/>
                  <a:pt x="21875" y="17087"/>
                  <a:pt x="21878" y="17140"/>
                </a:cubicBezTo>
                <a:cubicBezTo>
                  <a:pt x="21941" y="16948"/>
                  <a:pt x="22002" y="16738"/>
                  <a:pt x="22076" y="16545"/>
                </a:cubicBezTo>
                <a:cubicBezTo>
                  <a:pt x="22120" y="16458"/>
                  <a:pt x="22127" y="16435"/>
                  <a:pt x="22175" y="16396"/>
                </a:cubicBezTo>
                <a:cubicBezTo>
                  <a:pt x="22258" y="16603"/>
                  <a:pt x="22283" y="16794"/>
                  <a:pt x="22299" y="17016"/>
                </a:cubicBezTo>
                <a:cubicBezTo>
                  <a:pt x="22299" y="17073"/>
                  <a:pt x="22299" y="17115"/>
                  <a:pt x="22299" y="17066"/>
                </a:cubicBezTo>
              </a:path>
              <a:path w="5284" h="7616">
                <a:moveTo>
                  <a:pt x="21878" y="16991"/>
                </a:moveTo>
                <a:cubicBezTo>
                  <a:pt x="22006" y="16924"/>
                  <a:pt x="22106" y="16856"/>
                  <a:pt x="22250" y="16842"/>
                </a:cubicBezTo>
              </a:path>
              <a:path w="5284" h="7616">
                <a:moveTo>
                  <a:pt x="22399" y="17140"/>
                </a:moveTo>
                <a:cubicBezTo>
                  <a:pt x="22399" y="17278"/>
                  <a:pt x="22389" y="17430"/>
                  <a:pt x="22349" y="17562"/>
                </a:cubicBezTo>
                <a:cubicBezTo>
                  <a:pt x="22341" y="17570"/>
                  <a:pt x="22332" y="17579"/>
                  <a:pt x="22324" y="17587"/>
                </a:cubicBezTo>
                <a:cubicBezTo>
                  <a:pt x="22500" y="17558"/>
                  <a:pt x="22662" y="17517"/>
                  <a:pt x="22845" y="17512"/>
                </a:cubicBezTo>
                <a:cubicBezTo>
                  <a:pt x="22954" y="17509"/>
                  <a:pt x="22888" y="17537"/>
                  <a:pt x="22969" y="17537"/>
                </a:cubicBezTo>
                <a:cubicBezTo>
                  <a:pt x="22969" y="17385"/>
                  <a:pt x="22964" y="17240"/>
                  <a:pt x="22994" y="17090"/>
                </a:cubicBezTo>
                <a:cubicBezTo>
                  <a:pt x="23013" y="17033"/>
                  <a:pt x="23022" y="17026"/>
                  <a:pt x="23019" y="16991"/>
                </a:cubicBezTo>
                <a:cubicBezTo>
                  <a:pt x="22867" y="17017"/>
                  <a:pt x="22698" y="17032"/>
                  <a:pt x="22547" y="17066"/>
                </a:cubicBezTo>
                <a:cubicBezTo>
                  <a:pt x="22431" y="17105"/>
                  <a:pt x="22411" y="17106"/>
                  <a:pt x="22349" y="17140"/>
                </a:cubicBezTo>
              </a:path>
              <a:path w="5284" h="7616">
                <a:moveTo>
                  <a:pt x="23068" y="16718"/>
                </a:moveTo>
                <a:cubicBezTo>
                  <a:pt x="23133" y="16676"/>
                  <a:pt x="23214" y="16619"/>
                  <a:pt x="23292" y="16669"/>
                </a:cubicBezTo>
                <a:cubicBezTo>
                  <a:pt x="23292" y="16677"/>
                  <a:pt x="23292" y="16686"/>
                  <a:pt x="23292" y="16694"/>
                </a:cubicBezTo>
              </a:path>
              <a:path w="5284" h="7616">
                <a:moveTo>
                  <a:pt x="23465" y="18033"/>
                </a:moveTo>
                <a:cubicBezTo>
                  <a:pt x="23541" y="18033"/>
                  <a:pt x="23567" y="18000"/>
                  <a:pt x="23639" y="18008"/>
                </a:cubicBezTo>
                <a:cubicBezTo>
                  <a:pt x="23671" y="18118"/>
                  <a:pt x="23625" y="18135"/>
                  <a:pt x="23540" y="18207"/>
                </a:cubicBezTo>
                <a:cubicBezTo>
                  <a:pt x="23582" y="18207"/>
                  <a:pt x="23695" y="18184"/>
                  <a:pt x="23713" y="18231"/>
                </a:cubicBezTo>
                <a:cubicBezTo>
                  <a:pt x="23749" y="18323"/>
                  <a:pt x="23579" y="18526"/>
                  <a:pt x="23490" y="18455"/>
                </a:cubicBezTo>
                <a:cubicBezTo>
                  <a:pt x="23490" y="18438"/>
                  <a:pt x="23490" y="18422"/>
                  <a:pt x="23490" y="18405"/>
                </a:cubicBezTo>
              </a:path>
              <a:path w="5284" h="7616">
                <a:moveTo>
                  <a:pt x="23887" y="18008"/>
                </a:moveTo>
                <a:cubicBezTo>
                  <a:pt x="23845" y="18036"/>
                  <a:pt x="23828" y="18162"/>
                  <a:pt x="23837" y="18231"/>
                </a:cubicBezTo>
                <a:cubicBezTo>
                  <a:pt x="23853" y="18352"/>
                  <a:pt x="23995" y="18315"/>
                  <a:pt x="24085" y="18281"/>
                </a:cubicBezTo>
                <a:cubicBezTo>
                  <a:pt x="24126" y="18240"/>
                  <a:pt x="24112" y="18226"/>
                  <a:pt x="24011" y="18231"/>
                </a:cubicBezTo>
              </a:path>
              <a:path w="5284" h="7616">
                <a:moveTo>
                  <a:pt x="23862" y="18157"/>
                </a:moveTo>
                <a:cubicBezTo>
                  <a:pt x="23845" y="18157"/>
                  <a:pt x="23829" y="18157"/>
                  <a:pt x="23812" y="18157"/>
                </a:cubicBezTo>
                <a:cubicBezTo>
                  <a:pt x="23825" y="18139"/>
                  <a:pt x="23920" y="18132"/>
                  <a:pt x="24011" y="18132"/>
                </a:cubicBezTo>
                <a:cubicBezTo>
                  <a:pt x="24011" y="18212"/>
                  <a:pt x="23991" y="18245"/>
                  <a:pt x="23986" y="18331"/>
                </a:cubicBezTo>
                <a:cubicBezTo>
                  <a:pt x="23986" y="18339"/>
                  <a:pt x="23986" y="18347"/>
                  <a:pt x="23986" y="18355"/>
                </a:cubicBezTo>
              </a:path>
              <a:path w="5284" h="7616">
                <a:moveTo>
                  <a:pt x="20241" y="14883"/>
                </a:moveTo>
                <a:cubicBezTo>
                  <a:pt x="20272" y="14789"/>
                  <a:pt x="20323" y="14748"/>
                  <a:pt x="20414" y="14709"/>
                </a:cubicBezTo>
                <a:cubicBezTo>
                  <a:pt x="20429" y="14807"/>
                  <a:pt x="20442" y="14936"/>
                  <a:pt x="20340" y="15007"/>
                </a:cubicBezTo>
                <a:cubicBezTo>
                  <a:pt x="20315" y="15007"/>
                  <a:pt x="20307" y="15007"/>
                  <a:pt x="20340" y="15007"/>
                </a:cubicBezTo>
                <a:cubicBezTo>
                  <a:pt x="20473" y="14988"/>
                  <a:pt x="20606" y="15023"/>
                  <a:pt x="20513" y="15205"/>
                </a:cubicBezTo>
                <a:cubicBezTo>
                  <a:pt x="20495" y="15240"/>
                  <a:pt x="20210" y="15447"/>
                  <a:pt x="20216" y="15354"/>
                </a:cubicBezTo>
                <a:cubicBezTo>
                  <a:pt x="20224" y="15329"/>
                  <a:pt x="20233" y="15305"/>
                  <a:pt x="20241" y="15280"/>
                </a:cubicBezTo>
              </a:path>
              <a:path w="5284" h="7616">
                <a:moveTo>
                  <a:pt x="20588" y="14660"/>
                </a:moveTo>
                <a:cubicBezTo>
                  <a:pt x="20610" y="14789"/>
                  <a:pt x="20673" y="14898"/>
                  <a:pt x="20687" y="15032"/>
                </a:cubicBezTo>
                <a:cubicBezTo>
                  <a:pt x="20687" y="15144"/>
                  <a:pt x="20681" y="15176"/>
                  <a:pt x="20737" y="15230"/>
                </a:cubicBezTo>
                <a:cubicBezTo>
                  <a:pt x="20888" y="15172"/>
                  <a:pt x="20986" y="15120"/>
                  <a:pt x="20960" y="14932"/>
                </a:cubicBezTo>
                <a:cubicBezTo>
                  <a:pt x="20952" y="14924"/>
                  <a:pt x="20943" y="14916"/>
                  <a:pt x="20935" y="14908"/>
                </a:cubicBezTo>
                <a:cubicBezTo>
                  <a:pt x="20814" y="14980"/>
                  <a:pt x="20818" y="15057"/>
                  <a:pt x="20811" y="15205"/>
                </a:cubicBezTo>
                <a:cubicBezTo>
                  <a:pt x="20811" y="15257"/>
                  <a:pt x="20830" y="15246"/>
                  <a:pt x="20886" y="15156"/>
                </a:cubicBezTo>
              </a:path>
              <a:path w="5284" h="7616">
                <a:moveTo>
                  <a:pt x="21183" y="14908"/>
                </a:moveTo>
                <a:cubicBezTo>
                  <a:pt x="21233" y="14979"/>
                  <a:pt x="21265" y="15044"/>
                  <a:pt x="21282" y="15131"/>
                </a:cubicBezTo>
                <a:cubicBezTo>
                  <a:pt x="21311" y="15073"/>
                  <a:pt x="21268" y="15080"/>
                  <a:pt x="21258" y="15007"/>
                </a:cubicBezTo>
                <a:cubicBezTo>
                  <a:pt x="21251" y="14952"/>
                  <a:pt x="21258" y="14890"/>
                  <a:pt x="21258" y="14833"/>
                </a:cubicBezTo>
                <a:cubicBezTo>
                  <a:pt x="21419" y="14833"/>
                  <a:pt x="21427" y="14861"/>
                  <a:pt x="21530" y="14982"/>
                </a:cubicBezTo>
                <a:cubicBezTo>
                  <a:pt x="21530" y="15119"/>
                  <a:pt x="21475" y="14848"/>
                  <a:pt x="21481" y="14808"/>
                </a:cubicBezTo>
                <a:cubicBezTo>
                  <a:pt x="21511" y="14779"/>
                  <a:pt x="21522" y="14765"/>
                  <a:pt x="21530" y="14734"/>
                </a:cubicBezTo>
                <a:cubicBezTo>
                  <a:pt x="21694" y="14775"/>
                  <a:pt x="21670" y="14849"/>
                  <a:pt x="21754" y="14982"/>
                </a:cubicBezTo>
                <a:cubicBezTo>
                  <a:pt x="21754" y="14923"/>
                  <a:pt x="21761" y="14882"/>
                  <a:pt x="21779" y="14833"/>
                </a:cubicBezTo>
              </a:path>
              <a:path w="5284" h="7616">
                <a:moveTo>
                  <a:pt x="21555" y="14288"/>
                </a:moveTo>
                <a:cubicBezTo>
                  <a:pt x="21576" y="14236"/>
                  <a:pt x="21630" y="14146"/>
                  <a:pt x="21704" y="14163"/>
                </a:cubicBezTo>
                <a:cubicBezTo>
                  <a:pt x="21834" y="14193"/>
                  <a:pt x="21697" y="14373"/>
                  <a:pt x="21679" y="14412"/>
                </a:cubicBezTo>
                <a:cubicBezTo>
                  <a:pt x="21679" y="14436"/>
                  <a:pt x="21679" y="14444"/>
                  <a:pt x="21654" y="14436"/>
                </a:cubicBezTo>
                <a:cubicBezTo>
                  <a:pt x="21721" y="14436"/>
                  <a:pt x="21819" y="14392"/>
                  <a:pt x="21878" y="14362"/>
                </a:cubicBezTo>
                <a:cubicBezTo>
                  <a:pt x="21916" y="14343"/>
                  <a:pt x="21929" y="14337"/>
                  <a:pt x="21977" y="14337"/>
                </a:cubicBezTo>
              </a:path>
              <a:path w="5284" h="7616">
                <a:moveTo>
                  <a:pt x="22101" y="14039"/>
                </a:moveTo>
                <a:cubicBezTo>
                  <a:pt x="22064" y="14023"/>
                  <a:pt x="22001" y="13975"/>
                  <a:pt x="21927" y="13965"/>
                </a:cubicBezTo>
                <a:cubicBezTo>
                  <a:pt x="21824" y="13951"/>
                  <a:pt x="21730" y="13986"/>
                  <a:pt x="21630" y="13990"/>
                </a:cubicBezTo>
                <a:cubicBezTo>
                  <a:pt x="21519" y="13994"/>
                  <a:pt x="21438" y="14024"/>
                  <a:pt x="21332" y="14039"/>
                </a:cubicBezTo>
                <a:cubicBezTo>
                  <a:pt x="21249" y="14051"/>
                  <a:pt x="21164" y="14055"/>
                  <a:pt x="21084" y="14089"/>
                </a:cubicBezTo>
                <a:cubicBezTo>
                  <a:pt x="21010" y="14121"/>
                  <a:pt x="20943" y="14141"/>
                  <a:pt x="20861" y="14163"/>
                </a:cubicBezTo>
                <a:cubicBezTo>
                  <a:pt x="20784" y="14183"/>
                  <a:pt x="20694" y="14226"/>
                  <a:pt x="20613" y="14238"/>
                </a:cubicBezTo>
                <a:cubicBezTo>
                  <a:pt x="20493" y="14256"/>
                  <a:pt x="20425" y="14288"/>
                  <a:pt x="20315" y="14337"/>
                </a:cubicBezTo>
                <a:cubicBezTo>
                  <a:pt x="20177" y="14399"/>
                  <a:pt x="20055" y="14455"/>
                  <a:pt x="19943" y="14560"/>
                </a:cubicBezTo>
                <a:cubicBezTo>
                  <a:pt x="19884" y="14616"/>
                  <a:pt x="19826" y="14693"/>
                  <a:pt x="19794" y="14759"/>
                </a:cubicBezTo>
                <a:cubicBezTo>
                  <a:pt x="19746" y="14858"/>
                  <a:pt x="19748" y="14950"/>
                  <a:pt x="19745" y="15056"/>
                </a:cubicBezTo>
                <a:cubicBezTo>
                  <a:pt x="19742" y="15176"/>
                  <a:pt x="19790" y="15253"/>
                  <a:pt x="19844" y="15354"/>
                </a:cubicBezTo>
                <a:cubicBezTo>
                  <a:pt x="19898" y="15455"/>
                  <a:pt x="19930" y="15486"/>
                  <a:pt x="20042" y="15528"/>
                </a:cubicBezTo>
                <a:cubicBezTo>
                  <a:pt x="20181" y="15580"/>
                  <a:pt x="20323" y="15559"/>
                  <a:pt x="20464" y="15553"/>
                </a:cubicBezTo>
                <a:cubicBezTo>
                  <a:pt x="20647" y="15545"/>
                  <a:pt x="20855" y="15535"/>
                  <a:pt x="21034" y="15503"/>
                </a:cubicBezTo>
                <a:cubicBezTo>
                  <a:pt x="21143" y="15483"/>
                  <a:pt x="21227" y="15459"/>
                  <a:pt x="21332" y="15429"/>
                </a:cubicBezTo>
                <a:cubicBezTo>
                  <a:pt x="21414" y="15406"/>
                  <a:pt x="21499" y="15400"/>
                  <a:pt x="21580" y="15379"/>
                </a:cubicBezTo>
                <a:cubicBezTo>
                  <a:pt x="21681" y="15353"/>
                  <a:pt x="21755" y="15316"/>
                  <a:pt x="21853" y="15280"/>
                </a:cubicBezTo>
                <a:cubicBezTo>
                  <a:pt x="21936" y="15249"/>
                  <a:pt x="22022" y="15221"/>
                  <a:pt x="22101" y="15180"/>
                </a:cubicBezTo>
                <a:cubicBezTo>
                  <a:pt x="22157" y="15151"/>
                  <a:pt x="22224" y="15118"/>
                  <a:pt x="22275" y="15081"/>
                </a:cubicBezTo>
                <a:cubicBezTo>
                  <a:pt x="22306" y="15059"/>
                  <a:pt x="22325" y="14991"/>
                  <a:pt x="22349" y="14957"/>
                </a:cubicBezTo>
                <a:cubicBezTo>
                  <a:pt x="22385" y="14907"/>
                  <a:pt x="22450" y="14807"/>
                  <a:pt x="22448" y="14734"/>
                </a:cubicBezTo>
                <a:cubicBezTo>
                  <a:pt x="22445" y="14642"/>
                  <a:pt x="22443" y="14578"/>
                  <a:pt x="22448" y="14486"/>
                </a:cubicBezTo>
                <a:cubicBezTo>
                  <a:pt x="22452" y="14412"/>
                  <a:pt x="22430" y="14358"/>
                  <a:pt x="22423" y="14288"/>
                </a:cubicBezTo>
                <a:cubicBezTo>
                  <a:pt x="22417" y="14221"/>
                  <a:pt x="22439" y="14188"/>
                  <a:pt x="22399" y="14139"/>
                </a:cubicBezTo>
                <a:cubicBezTo>
                  <a:pt x="22361" y="14092"/>
                  <a:pt x="22280" y="14063"/>
                  <a:pt x="22225" y="14039"/>
                </a:cubicBezTo>
                <a:cubicBezTo>
                  <a:pt x="22180" y="14020"/>
                  <a:pt x="22105" y="14007"/>
                  <a:pt x="22051" y="14015"/>
                </a:cubicBezTo>
                <a:cubicBezTo>
                  <a:pt x="22023" y="14015"/>
                  <a:pt x="22013" y="14017"/>
                  <a:pt x="22002" y="14039"/>
                </a:cubicBezTo>
              </a:path>
              <a:path w="5284" h="7616">
                <a:moveTo>
                  <a:pt x="19149" y="11534"/>
                </a:moveTo>
                <a:cubicBezTo>
                  <a:pt x="19095" y="11425"/>
                  <a:pt x="19005" y="11517"/>
                  <a:pt x="18951" y="11584"/>
                </a:cubicBezTo>
                <a:cubicBezTo>
                  <a:pt x="18908" y="11647"/>
                  <a:pt x="18892" y="11659"/>
                  <a:pt x="18901" y="11708"/>
                </a:cubicBezTo>
                <a:cubicBezTo>
                  <a:pt x="18960" y="11732"/>
                  <a:pt x="19182" y="11755"/>
                  <a:pt x="19199" y="11807"/>
                </a:cubicBezTo>
                <a:cubicBezTo>
                  <a:pt x="19235" y="11915"/>
                  <a:pt x="19170" y="11936"/>
                  <a:pt x="19100" y="11981"/>
                </a:cubicBezTo>
                <a:cubicBezTo>
                  <a:pt x="18983" y="11865"/>
                  <a:pt x="19047" y="11783"/>
                  <a:pt x="19100" y="11633"/>
                </a:cubicBezTo>
                <a:cubicBezTo>
                  <a:pt x="19108" y="11608"/>
                  <a:pt x="19116" y="11584"/>
                  <a:pt x="19124" y="115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56080" y="3036960"/>
            <a:ext cx="214200" cy="231840"/>
          </a:xfrm>
          <a:custGeom>
            <a:avLst/>
            <a:gdLst/>
            <a:ahLst/>
            <a:rect l="l" t="t" r="r" b="b"/>
            <a:pathLst>
              <a:path w="596" h="646">
                <a:moveTo>
                  <a:pt x="12675" y="8558"/>
                </a:moveTo>
                <a:cubicBezTo>
                  <a:pt x="12655" y="8654"/>
                  <a:pt x="12553" y="8498"/>
                  <a:pt x="12477" y="8458"/>
                </a:cubicBezTo>
                <a:cubicBezTo>
                  <a:pt x="12452" y="8450"/>
                  <a:pt x="12427" y="8442"/>
                  <a:pt x="12402" y="8434"/>
                </a:cubicBezTo>
                <a:cubicBezTo>
                  <a:pt x="12308" y="8563"/>
                  <a:pt x="12532" y="8845"/>
                  <a:pt x="12601" y="8979"/>
                </a:cubicBezTo>
                <a:cubicBezTo>
                  <a:pt x="12617" y="9012"/>
                  <a:pt x="12634" y="9046"/>
                  <a:pt x="12650" y="9079"/>
                </a:cubicBezTo>
              </a:path>
              <a:path w="596" h="646">
                <a:moveTo>
                  <a:pt x="12402" y="8930"/>
                </a:moveTo>
                <a:cubicBezTo>
                  <a:pt x="12583" y="8842"/>
                  <a:pt x="12804" y="8639"/>
                  <a:pt x="12948" y="8855"/>
                </a:cubicBezTo>
                <a:cubicBezTo>
                  <a:pt x="12967" y="8913"/>
                  <a:pt x="12994" y="8938"/>
                  <a:pt x="12948" y="89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95840" y="5715000"/>
            <a:ext cx="1357200" cy="581040"/>
          </a:xfrm>
          <a:custGeom>
            <a:avLst/>
            <a:gdLst/>
            <a:ahLst/>
            <a:rect l="l" t="t" r="r" b="b"/>
            <a:pathLst>
              <a:path w="3771" h="1613">
                <a:moveTo>
                  <a:pt x="11088" y="16297"/>
                </a:moveTo>
                <a:cubicBezTo>
                  <a:pt x="11053" y="16478"/>
                  <a:pt x="10964" y="16684"/>
                  <a:pt x="10964" y="16867"/>
                </a:cubicBezTo>
                <a:cubicBezTo>
                  <a:pt x="10972" y="16892"/>
                  <a:pt x="10980" y="16917"/>
                  <a:pt x="10988" y="16942"/>
                </a:cubicBezTo>
                <a:cubicBezTo>
                  <a:pt x="11163" y="16942"/>
                  <a:pt x="11251" y="16936"/>
                  <a:pt x="11385" y="16818"/>
                </a:cubicBezTo>
                <a:cubicBezTo>
                  <a:pt x="11455" y="16757"/>
                  <a:pt x="11448" y="16694"/>
                  <a:pt x="11410" y="16619"/>
                </a:cubicBezTo>
                <a:cubicBezTo>
                  <a:pt x="11320" y="16574"/>
                  <a:pt x="11217" y="16618"/>
                  <a:pt x="11162" y="16718"/>
                </a:cubicBezTo>
                <a:cubicBezTo>
                  <a:pt x="11122" y="16791"/>
                  <a:pt x="11106" y="16940"/>
                  <a:pt x="11137" y="16942"/>
                </a:cubicBezTo>
              </a:path>
              <a:path w="3771" h="1613">
                <a:moveTo>
                  <a:pt x="12700" y="16594"/>
                </a:moveTo>
                <a:cubicBezTo>
                  <a:pt x="12700" y="16714"/>
                  <a:pt x="12690" y="16823"/>
                  <a:pt x="12675" y="16942"/>
                </a:cubicBezTo>
                <a:cubicBezTo>
                  <a:pt x="12675" y="16815"/>
                  <a:pt x="12666" y="16734"/>
                  <a:pt x="12725" y="16619"/>
                </a:cubicBezTo>
                <a:cubicBezTo>
                  <a:pt x="12819" y="16436"/>
                  <a:pt x="12959" y="16547"/>
                  <a:pt x="13047" y="16669"/>
                </a:cubicBezTo>
                <a:cubicBezTo>
                  <a:pt x="13089" y="16752"/>
                  <a:pt x="13097" y="16768"/>
                  <a:pt x="13122" y="16818"/>
                </a:cubicBezTo>
                <a:cubicBezTo>
                  <a:pt x="13098" y="16700"/>
                  <a:pt x="13087" y="16638"/>
                  <a:pt x="13146" y="16520"/>
                </a:cubicBezTo>
                <a:cubicBezTo>
                  <a:pt x="13193" y="16450"/>
                  <a:pt x="13205" y="16425"/>
                  <a:pt x="13271" y="16446"/>
                </a:cubicBezTo>
                <a:cubicBezTo>
                  <a:pt x="13378" y="16553"/>
                  <a:pt x="13334" y="16947"/>
                  <a:pt x="13444" y="16842"/>
                </a:cubicBezTo>
                <a:cubicBezTo>
                  <a:pt x="13444" y="16817"/>
                  <a:pt x="13444" y="16793"/>
                  <a:pt x="13444" y="16768"/>
                </a:cubicBezTo>
              </a:path>
              <a:path w="3771" h="1613">
                <a:moveTo>
                  <a:pt x="13593" y="16073"/>
                </a:moveTo>
                <a:cubicBezTo>
                  <a:pt x="13602" y="16037"/>
                  <a:pt x="13614" y="16028"/>
                  <a:pt x="13643" y="15999"/>
                </a:cubicBezTo>
                <a:cubicBezTo>
                  <a:pt x="13764" y="16097"/>
                  <a:pt x="13695" y="16191"/>
                  <a:pt x="13643" y="16321"/>
                </a:cubicBezTo>
                <a:cubicBezTo>
                  <a:pt x="13607" y="16412"/>
                  <a:pt x="13590" y="16417"/>
                  <a:pt x="13593" y="16470"/>
                </a:cubicBezTo>
                <a:cubicBezTo>
                  <a:pt x="13630" y="16409"/>
                  <a:pt x="13706" y="16359"/>
                  <a:pt x="13791" y="16371"/>
                </a:cubicBezTo>
                <a:cubicBezTo>
                  <a:pt x="13866" y="16381"/>
                  <a:pt x="13918" y="16412"/>
                  <a:pt x="13990" y="16421"/>
                </a:cubicBezTo>
              </a:path>
              <a:path w="3771" h="1613">
                <a:moveTo>
                  <a:pt x="10716" y="17487"/>
                </a:moveTo>
                <a:cubicBezTo>
                  <a:pt x="10954" y="17430"/>
                  <a:pt x="11192" y="17403"/>
                  <a:pt x="11435" y="17363"/>
                </a:cubicBezTo>
                <a:cubicBezTo>
                  <a:pt x="11939" y="17279"/>
                  <a:pt x="12438" y="17252"/>
                  <a:pt x="12948" y="17214"/>
                </a:cubicBezTo>
                <a:cubicBezTo>
                  <a:pt x="13287" y="17189"/>
                  <a:pt x="13627" y="17137"/>
                  <a:pt x="13965" y="17115"/>
                </a:cubicBezTo>
                <a:cubicBezTo>
                  <a:pt x="14079" y="17108"/>
                  <a:pt x="14197" y="17115"/>
                  <a:pt x="14312" y="17115"/>
                </a:cubicBezTo>
                <a:cubicBezTo>
                  <a:pt x="14304" y="16974"/>
                  <a:pt x="14280" y="16837"/>
                  <a:pt x="14288" y="16694"/>
                </a:cubicBezTo>
                <a:cubicBezTo>
                  <a:pt x="14301" y="16472"/>
                  <a:pt x="14293" y="16270"/>
                  <a:pt x="14288" y="16049"/>
                </a:cubicBezTo>
                <a:cubicBezTo>
                  <a:pt x="14287" y="15991"/>
                  <a:pt x="14288" y="15933"/>
                  <a:pt x="14288" y="15875"/>
                </a:cubicBezTo>
                <a:cubicBezTo>
                  <a:pt x="14182" y="15889"/>
                  <a:pt x="14069" y="15917"/>
                  <a:pt x="13965" y="15925"/>
                </a:cubicBezTo>
                <a:cubicBezTo>
                  <a:pt x="13853" y="15934"/>
                  <a:pt x="13752" y="15906"/>
                  <a:pt x="13643" y="15900"/>
                </a:cubicBezTo>
                <a:cubicBezTo>
                  <a:pt x="13538" y="15894"/>
                  <a:pt x="13444" y="15919"/>
                  <a:pt x="13345" y="15925"/>
                </a:cubicBezTo>
                <a:cubicBezTo>
                  <a:pt x="13154" y="15936"/>
                  <a:pt x="12963" y="15934"/>
                  <a:pt x="12774" y="15949"/>
                </a:cubicBezTo>
                <a:cubicBezTo>
                  <a:pt x="12650" y="15959"/>
                  <a:pt x="12525" y="15971"/>
                  <a:pt x="12402" y="15974"/>
                </a:cubicBezTo>
                <a:cubicBezTo>
                  <a:pt x="12251" y="15977"/>
                  <a:pt x="12109" y="15999"/>
                  <a:pt x="11956" y="15999"/>
                </a:cubicBezTo>
                <a:cubicBezTo>
                  <a:pt x="11763" y="15999"/>
                  <a:pt x="11572" y="16013"/>
                  <a:pt x="11385" y="16024"/>
                </a:cubicBezTo>
                <a:cubicBezTo>
                  <a:pt x="11305" y="16029"/>
                  <a:pt x="11258" y="16043"/>
                  <a:pt x="11187" y="16049"/>
                </a:cubicBezTo>
                <a:cubicBezTo>
                  <a:pt x="11103" y="16057"/>
                  <a:pt x="11023" y="16062"/>
                  <a:pt x="10939" y="16073"/>
                </a:cubicBezTo>
                <a:cubicBezTo>
                  <a:pt x="10843" y="16085"/>
                  <a:pt x="10734" y="16115"/>
                  <a:pt x="10641" y="16123"/>
                </a:cubicBezTo>
                <a:cubicBezTo>
                  <a:pt x="10583" y="16123"/>
                  <a:pt x="10575" y="16123"/>
                  <a:pt x="10542" y="16123"/>
                </a:cubicBezTo>
                <a:cubicBezTo>
                  <a:pt x="10542" y="16374"/>
                  <a:pt x="10548" y="16619"/>
                  <a:pt x="10567" y="16867"/>
                </a:cubicBezTo>
                <a:cubicBezTo>
                  <a:pt x="10576" y="16992"/>
                  <a:pt x="10572" y="17095"/>
                  <a:pt x="10567" y="17214"/>
                </a:cubicBezTo>
                <a:cubicBezTo>
                  <a:pt x="10563" y="17310"/>
                  <a:pt x="10571" y="17432"/>
                  <a:pt x="10592" y="17487"/>
                </a:cubicBezTo>
                <a:cubicBezTo>
                  <a:pt x="10600" y="17487"/>
                  <a:pt x="10608" y="17487"/>
                  <a:pt x="10616" y="174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24200" y="3071880"/>
            <a:ext cx="884160" cy="2670120"/>
          </a:xfrm>
          <a:custGeom>
            <a:avLst/>
            <a:gdLst/>
            <a:ahLst/>
            <a:rect l="l" t="t" r="r" b="b"/>
            <a:pathLst>
              <a:path w="2456" h="7417">
                <a:moveTo>
                  <a:pt x="12700" y="8558"/>
                </a:moveTo>
                <a:cubicBezTo>
                  <a:pt x="12733" y="8550"/>
                  <a:pt x="12766" y="8541"/>
                  <a:pt x="12799" y="8533"/>
                </a:cubicBezTo>
              </a:path>
              <a:path w="2456" h="7417">
                <a:moveTo>
                  <a:pt x="12799" y="8533"/>
                </a:moveTo>
                <a:lnTo>
                  <a:pt x="12799" y="8533"/>
                </a:lnTo>
              </a:path>
              <a:path w="2456" h="7417">
                <a:moveTo>
                  <a:pt x="10542" y="15429"/>
                </a:moveTo>
                <a:cubicBezTo>
                  <a:pt x="10572" y="15621"/>
                  <a:pt x="10635" y="15800"/>
                  <a:pt x="10517" y="15949"/>
                </a:cubicBezTo>
              </a:path>
              <a:path w="2456" h="7417">
                <a:moveTo>
                  <a:pt x="10344" y="15776"/>
                </a:moveTo>
                <a:cubicBezTo>
                  <a:pt x="10513" y="15710"/>
                  <a:pt x="10664" y="15664"/>
                  <a:pt x="10840" y="156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43200" y="4848120"/>
            <a:ext cx="1017720" cy="1216080"/>
          </a:xfrm>
          <a:custGeom>
            <a:avLst/>
            <a:gdLst/>
            <a:ahLst/>
            <a:rect l="l" t="t" r="r" b="b"/>
            <a:pathLst>
              <a:path w="2829" h="3374">
                <a:moveTo>
                  <a:pt x="11261" y="14089"/>
                </a:moveTo>
                <a:cubicBezTo>
                  <a:pt x="11284" y="14136"/>
                  <a:pt x="11429" y="13978"/>
                  <a:pt x="11509" y="14139"/>
                </a:cubicBezTo>
                <a:cubicBezTo>
                  <a:pt x="11664" y="14448"/>
                  <a:pt x="11364" y="14771"/>
                  <a:pt x="11063" y="14784"/>
                </a:cubicBezTo>
                <a:cubicBezTo>
                  <a:pt x="11038" y="14767"/>
                  <a:pt x="11013" y="14751"/>
                  <a:pt x="10988" y="14734"/>
                </a:cubicBezTo>
                <a:cubicBezTo>
                  <a:pt x="11126" y="14573"/>
                  <a:pt x="11265" y="14534"/>
                  <a:pt x="11460" y="14684"/>
                </a:cubicBezTo>
                <a:cubicBezTo>
                  <a:pt x="11468" y="14701"/>
                  <a:pt x="11477" y="14717"/>
                  <a:pt x="11485" y="14734"/>
                </a:cubicBezTo>
              </a:path>
              <a:path w="2829" h="3374">
                <a:moveTo>
                  <a:pt x="11733" y="14163"/>
                </a:moveTo>
                <a:cubicBezTo>
                  <a:pt x="11733" y="14254"/>
                  <a:pt x="11733" y="14345"/>
                  <a:pt x="11733" y="14436"/>
                </a:cubicBezTo>
                <a:cubicBezTo>
                  <a:pt x="11859" y="14479"/>
                  <a:pt x="11903" y="14448"/>
                  <a:pt x="12030" y="14412"/>
                </a:cubicBezTo>
              </a:path>
              <a:path w="2829" h="3374">
                <a:moveTo>
                  <a:pt x="12080" y="13940"/>
                </a:moveTo>
                <a:cubicBezTo>
                  <a:pt x="12054" y="14242"/>
                  <a:pt x="12011" y="14564"/>
                  <a:pt x="11931" y="14858"/>
                </a:cubicBezTo>
                <a:cubicBezTo>
                  <a:pt x="11914" y="14899"/>
                  <a:pt x="11898" y="14941"/>
                  <a:pt x="11881" y="14982"/>
                </a:cubicBezTo>
              </a:path>
              <a:path w="2829" h="3374">
                <a:moveTo>
                  <a:pt x="11137" y="15304"/>
                </a:moveTo>
                <a:cubicBezTo>
                  <a:pt x="11146" y="15295"/>
                  <a:pt x="11456" y="15093"/>
                  <a:pt x="11410" y="15280"/>
                </a:cubicBezTo>
                <a:cubicBezTo>
                  <a:pt x="11394" y="15345"/>
                  <a:pt x="11288" y="15423"/>
                  <a:pt x="11261" y="15478"/>
                </a:cubicBezTo>
                <a:cubicBezTo>
                  <a:pt x="11334" y="15453"/>
                  <a:pt x="11582" y="15491"/>
                  <a:pt x="11460" y="15677"/>
                </a:cubicBezTo>
                <a:cubicBezTo>
                  <a:pt x="11379" y="15800"/>
                  <a:pt x="11276" y="15797"/>
                  <a:pt x="11162" y="15776"/>
                </a:cubicBezTo>
                <a:cubicBezTo>
                  <a:pt x="11162" y="15652"/>
                  <a:pt x="11180" y="15601"/>
                  <a:pt x="11286" y="15553"/>
                </a:cubicBezTo>
              </a:path>
              <a:path w="2829" h="3374">
                <a:moveTo>
                  <a:pt x="11782" y="15081"/>
                </a:moveTo>
                <a:cubicBezTo>
                  <a:pt x="11764" y="15265"/>
                  <a:pt x="11689" y="15495"/>
                  <a:pt x="11708" y="15677"/>
                </a:cubicBezTo>
                <a:cubicBezTo>
                  <a:pt x="11724" y="15718"/>
                  <a:pt x="11741" y="15760"/>
                  <a:pt x="11757" y="15801"/>
                </a:cubicBezTo>
                <a:cubicBezTo>
                  <a:pt x="11998" y="15815"/>
                  <a:pt x="12098" y="15743"/>
                  <a:pt x="12229" y="15553"/>
                </a:cubicBezTo>
                <a:cubicBezTo>
                  <a:pt x="12029" y="15496"/>
                  <a:pt x="11925" y="15596"/>
                  <a:pt x="11931" y="15825"/>
                </a:cubicBezTo>
                <a:cubicBezTo>
                  <a:pt x="11953" y="15890"/>
                  <a:pt x="11951" y="15915"/>
                  <a:pt x="12005" y="15900"/>
                </a:cubicBezTo>
              </a:path>
              <a:path w="2829" h="3374">
                <a:moveTo>
                  <a:pt x="10120" y="16297"/>
                </a:moveTo>
                <a:cubicBezTo>
                  <a:pt x="10965" y="16088"/>
                  <a:pt x="11774" y="15949"/>
                  <a:pt x="12650" y="15949"/>
                </a:cubicBezTo>
                <a:cubicBezTo>
                  <a:pt x="12770" y="15949"/>
                  <a:pt x="12784" y="15961"/>
                  <a:pt x="12898" y="15999"/>
                </a:cubicBezTo>
              </a:path>
              <a:path w="2829" h="3374">
                <a:moveTo>
                  <a:pt x="12030" y="16321"/>
                </a:moveTo>
                <a:cubicBezTo>
                  <a:pt x="11993" y="16297"/>
                  <a:pt x="11945" y="16330"/>
                  <a:pt x="11906" y="16421"/>
                </a:cubicBezTo>
                <a:cubicBezTo>
                  <a:pt x="11843" y="16569"/>
                  <a:pt x="11824" y="16694"/>
                  <a:pt x="11832" y="16842"/>
                </a:cubicBezTo>
                <a:cubicBezTo>
                  <a:pt x="12021" y="16815"/>
                  <a:pt x="12264" y="16771"/>
                  <a:pt x="12254" y="16520"/>
                </a:cubicBezTo>
                <a:cubicBezTo>
                  <a:pt x="12247" y="16342"/>
                  <a:pt x="12200" y="16340"/>
                  <a:pt x="12080" y="16321"/>
                </a:cubicBezTo>
              </a:path>
              <a:path w="2829" h="3374">
                <a:moveTo>
                  <a:pt x="11633" y="13643"/>
                </a:moveTo>
                <a:cubicBezTo>
                  <a:pt x="11608" y="13574"/>
                  <a:pt x="11596" y="13533"/>
                  <a:pt x="11559" y="13469"/>
                </a:cubicBezTo>
                <a:cubicBezTo>
                  <a:pt x="11557" y="13493"/>
                  <a:pt x="11559" y="13836"/>
                  <a:pt x="11559" y="137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60720" y="4875120"/>
            <a:ext cx="3876480" cy="90720"/>
          </a:xfrm>
          <a:custGeom>
            <a:avLst/>
            <a:gdLst/>
            <a:ahLst/>
            <a:rect l="l" t="t" r="r" b="b"/>
            <a:pathLst>
              <a:path w="10766" h="249">
                <a:moveTo>
                  <a:pt x="6003" y="13791"/>
                </a:moveTo>
                <a:cubicBezTo>
                  <a:pt x="6161" y="13780"/>
                  <a:pt x="6312" y="13769"/>
                  <a:pt x="6474" y="13767"/>
                </a:cubicBezTo>
                <a:cubicBezTo>
                  <a:pt x="6838" y="13763"/>
                  <a:pt x="7201" y="13791"/>
                  <a:pt x="7565" y="13791"/>
                </a:cubicBezTo>
                <a:cubicBezTo>
                  <a:pt x="8055" y="13791"/>
                  <a:pt x="8541" y="13782"/>
                  <a:pt x="9029" y="13742"/>
                </a:cubicBezTo>
                <a:cubicBezTo>
                  <a:pt x="9517" y="13702"/>
                  <a:pt x="10002" y="13638"/>
                  <a:pt x="10492" y="13618"/>
                </a:cubicBezTo>
                <a:cubicBezTo>
                  <a:pt x="10823" y="13605"/>
                  <a:pt x="11155" y="13580"/>
                  <a:pt x="11485" y="13568"/>
                </a:cubicBezTo>
                <a:cubicBezTo>
                  <a:pt x="11905" y="13552"/>
                  <a:pt x="12330" y="13547"/>
                  <a:pt x="12750" y="13543"/>
                </a:cubicBezTo>
                <a:cubicBezTo>
                  <a:pt x="13190" y="13539"/>
                  <a:pt x="13625" y="13564"/>
                  <a:pt x="14064" y="13568"/>
                </a:cubicBezTo>
                <a:cubicBezTo>
                  <a:pt x="14532" y="13573"/>
                  <a:pt x="15012" y="13612"/>
                  <a:pt x="15478" y="13593"/>
                </a:cubicBezTo>
                <a:cubicBezTo>
                  <a:pt x="15726" y="13583"/>
                  <a:pt x="15954" y="13583"/>
                  <a:pt x="16197" y="13593"/>
                </a:cubicBezTo>
                <a:cubicBezTo>
                  <a:pt x="16387" y="13601"/>
                  <a:pt x="16578" y="13593"/>
                  <a:pt x="16768" y="135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 Find the area of the rect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 Find the area of the squa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 Add the areas togeth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3657600"/>
            <a:ext cx="1295640" cy="1981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1520" y="2895480"/>
            <a:ext cx="6858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64720" y="5638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22080" y="4572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83480" y="3352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42080" y="2714760"/>
            <a:ext cx="1536840" cy="2955960"/>
          </a:xfrm>
          <a:custGeom>
            <a:avLst/>
            <a:gdLst/>
            <a:ahLst/>
            <a:rect l="l" t="t" r="r" b="b"/>
            <a:pathLst>
              <a:path w="4267" h="8211">
                <a:moveTo>
                  <a:pt x="18852" y="15677"/>
                </a:moveTo>
                <a:cubicBezTo>
                  <a:pt x="18865" y="15673"/>
                  <a:pt x="18882" y="15654"/>
                  <a:pt x="18926" y="15652"/>
                </a:cubicBezTo>
                <a:cubicBezTo>
                  <a:pt x="19051" y="15647"/>
                  <a:pt x="19188" y="15638"/>
                  <a:pt x="19298" y="15627"/>
                </a:cubicBezTo>
                <a:cubicBezTo>
                  <a:pt x="19379" y="15619"/>
                  <a:pt x="19478" y="15608"/>
                  <a:pt x="19546" y="15602"/>
                </a:cubicBezTo>
                <a:cubicBezTo>
                  <a:pt x="19669" y="15590"/>
                  <a:pt x="19801" y="15588"/>
                  <a:pt x="19918" y="15577"/>
                </a:cubicBezTo>
                <a:cubicBezTo>
                  <a:pt x="19964" y="15573"/>
                  <a:pt x="20033" y="15577"/>
                  <a:pt x="20092" y="15577"/>
                </a:cubicBezTo>
                <a:cubicBezTo>
                  <a:pt x="20159" y="15577"/>
                  <a:pt x="20206" y="15596"/>
                  <a:pt x="20265" y="15602"/>
                </a:cubicBezTo>
                <a:cubicBezTo>
                  <a:pt x="20344" y="15610"/>
                  <a:pt x="20390" y="15583"/>
                  <a:pt x="20464" y="15577"/>
                </a:cubicBezTo>
                <a:cubicBezTo>
                  <a:pt x="20663" y="15560"/>
                  <a:pt x="20869" y="15589"/>
                  <a:pt x="21059" y="15602"/>
                </a:cubicBezTo>
                <a:cubicBezTo>
                  <a:pt x="21425" y="15627"/>
                  <a:pt x="21815" y="15614"/>
                  <a:pt x="22175" y="15577"/>
                </a:cubicBezTo>
                <a:cubicBezTo>
                  <a:pt x="22325" y="15561"/>
                  <a:pt x="22484" y="15581"/>
                  <a:pt x="22622" y="15553"/>
                </a:cubicBezTo>
                <a:cubicBezTo>
                  <a:pt x="22630" y="15553"/>
                  <a:pt x="22639" y="15553"/>
                  <a:pt x="22647" y="15553"/>
                </a:cubicBezTo>
              </a:path>
              <a:path w="4267" h="8211">
                <a:moveTo>
                  <a:pt x="22498" y="15429"/>
                </a:moveTo>
                <a:cubicBezTo>
                  <a:pt x="22492" y="15267"/>
                  <a:pt x="22493" y="15115"/>
                  <a:pt x="22473" y="14957"/>
                </a:cubicBezTo>
                <a:cubicBezTo>
                  <a:pt x="22465" y="14897"/>
                  <a:pt x="22457" y="14844"/>
                  <a:pt x="22448" y="14784"/>
                </a:cubicBezTo>
                <a:cubicBezTo>
                  <a:pt x="22426" y="14632"/>
                  <a:pt x="22418" y="14467"/>
                  <a:pt x="22399" y="14312"/>
                </a:cubicBezTo>
                <a:cubicBezTo>
                  <a:pt x="22388" y="14221"/>
                  <a:pt x="22384" y="14149"/>
                  <a:pt x="22374" y="14064"/>
                </a:cubicBezTo>
                <a:cubicBezTo>
                  <a:pt x="22362" y="13966"/>
                  <a:pt x="22354" y="13865"/>
                  <a:pt x="22349" y="13767"/>
                </a:cubicBezTo>
                <a:cubicBezTo>
                  <a:pt x="22337" y="13525"/>
                  <a:pt x="22365" y="13283"/>
                  <a:pt x="22374" y="13047"/>
                </a:cubicBezTo>
                <a:cubicBezTo>
                  <a:pt x="22380" y="12899"/>
                  <a:pt x="22394" y="12744"/>
                  <a:pt x="22399" y="12601"/>
                </a:cubicBezTo>
                <a:cubicBezTo>
                  <a:pt x="22404" y="12473"/>
                  <a:pt x="22408" y="12354"/>
                  <a:pt x="22423" y="12229"/>
                </a:cubicBezTo>
                <a:cubicBezTo>
                  <a:pt x="22433" y="12145"/>
                  <a:pt x="22436" y="12064"/>
                  <a:pt x="22448" y="11981"/>
                </a:cubicBezTo>
                <a:cubicBezTo>
                  <a:pt x="22459" y="11898"/>
                  <a:pt x="22462" y="11816"/>
                  <a:pt x="22473" y="11733"/>
                </a:cubicBezTo>
                <a:cubicBezTo>
                  <a:pt x="22485" y="11644"/>
                  <a:pt x="22496" y="11556"/>
                  <a:pt x="22498" y="11460"/>
                </a:cubicBezTo>
                <a:cubicBezTo>
                  <a:pt x="22499" y="11376"/>
                  <a:pt x="22498" y="11318"/>
                  <a:pt x="22498" y="11237"/>
                </a:cubicBezTo>
                <a:cubicBezTo>
                  <a:pt x="22498" y="11002"/>
                  <a:pt x="22483" y="10769"/>
                  <a:pt x="22473" y="10542"/>
                </a:cubicBezTo>
                <a:cubicBezTo>
                  <a:pt x="22468" y="10428"/>
                  <a:pt x="22460" y="10330"/>
                  <a:pt x="22448" y="10220"/>
                </a:cubicBezTo>
                <a:cubicBezTo>
                  <a:pt x="22437" y="10121"/>
                  <a:pt x="22434" y="10021"/>
                  <a:pt x="22423" y="9922"/>
                </a:cubicBezTo>
                <a:cubicBezTo>
                  <a:pt x="22402" y="9735"/>
                  <a:pt x="22383" y="9537"/>
                  <a:pt x="22374" y="9351"/>
                </a:cubicBezTo>
                <a:cubicBezTo>
                  <a:pt x="22359" y="9032"/>
                  <a:pt x="22398" y="8705"/>
                  <a:pt x="22423" y="8409"/>
                </a:cubicBezTo>
                <a:cubicBezTo>
                  <a:pt x="22435" y="8264"/>
                  <a:pt x="22406" y="8128"/>
                  <a:pt x="22399" y="7987"/>
                </a:cubicBezTo>
                <a:cubicBezTo>
                  <a:pt x="22397" y="7946"/>
                  <a:pt x="22400" y="7904"/>
                  <a:pt x="22399" y="7863"/>
                </a:cubicBezTo>
                <a:cubicBezTo>
                  <a:pt x="22364" y="7872"/>
                  <a:pt x="22336" y="7878"/>
                  <a:pt x="22299" y="7888"/>
                </a:cubicBezTo>
                <a:cubicBezTo>
                  <a:pt x="22258" y="7899"/>
                  <a:pt x="22216" y="7903"/>
                  <a:pt x="22175" y="7913"/>
                </a:cubicBezTo>
                <a:cubicBezTo>
                  <a:pt x="22138" y="7922"/>
                  <a:pt x="22116" y="7931"/>
                  <a:pt x="22076" y="7938"/>
                </a:cubicBezTo>
                <a:cubicBezTo>
                  <a:pt x="22037" y="7945"/>
                  <a:pt x="22020" y="7958"/>
                  <a:pt x="21977" y="7962"/>
                </a:cubicBezTo>
                <a:cubicBezTo>
                  <a:pt x="21887" y="7971"/>
                  <a:pt x="21789" y="7982"/>
                  <a:pt x="21704" y="7987"/>
                </a:cubicBezTo>
                <a:cubicBezTo>
                  <a:pt x="21532" y="7997"/>
                  <a:pt x="21348" y="8005"/>
                  <a:pt x="21183" y="8012"/>
                </a:cubicBezTo>
                <a:cubicBezTo>
                  <a:pt x="21018" y="8019"/>
                  <a:pt x="20579" y="7928"/>
                  <a:pt x="20464" y="8037"/>
                </a:cubicBezTo>
                <a:cubicBezTo>
                  <a:pt x="20434" y="8065"/>
                  <a:pt x="20448" y="8057"/>
                  <a:pt x="20439" y="8111"/>
                </a:cubicBezTo>
                <a:cubicBezTo>
                  <a:pt x="20430" y="8166"/>
                  <a:pt x="20459" y="8189"/>
                  <a:pt x="20464" y="8235"/>
                </a:cubicBezTo>
                <a:cubicBezTo>
                  <a:pt x="20468" y="8275"/>
                  <a:pt x="20480" y="8319"/>
                  <a:pt x="20489" y="8359"/>
                </a:cubicBezTo>
                <a:cubicBezTo>
                  <a:pt x="20505" y="8430"/>
                  <a:pt x="20530" y="8489"/>
                  <a:pt x="20538" y="8558"/>
                </a:cubicBezTo>
                <a:cubicBezTo>
                  <a:pt x="20564" y="8778"/>
                  <a:pt x="20523" y="9016"/>
                  <a:pt x="20513" y="9227"/>
                </a:cubicBezTo>
                <a:cubicBezTo>
                  <a:pt x="20510" y="9294"/>
                  <a:pt x="20514" y="9328"/>
                  <a:pt x="20513" y="9401"/>
                </a:cubicBezTo>
                <a:cubicBezTo>
                  <a:pt x="20509" y="9634"/>
                  <a:pt x="20480" y="9898"/>
                  <a:pt x="20489" y="10120"/>
                </a:cubicBezTo>
                <a:cubicBezTo>
                  <a:pt x="20491" y="10172"/>
                  <a:pt x="20513" y="10158"/>
                  <a:pt x="20513" y="10195"/>
                </a:cubicBezTo>
                <a:cubicBezTo>
                  <a:pt x="20467" y="10202"/>
                  <a:pt x="20396" y="10211"/>
                  <a:pt x="20340" y="10220"/>
                </a:cubicBezTo>
                <a:cubicBezTo>
                  <a:pt x="20291" y="10228"/>
                  <a:pt x="20265" y="10241"/>
                  <a:pt x="20216" y="10244"/>
                </a:cubicBezTo>
                <a:cubicBezTo>
                  <a:pt x="20043" y="10255"/>
                  <a:pt x="19894" y="10262"/>
                  <a:pt x="19745" y="10269"/>
                </a:cubicBezTo>
                <a:cubicBezTo>
                  <a:pt x="19457" y="10282"/>
                  <a:pt x="19099" y="10274"/>
                  <a:pt x="18852" y="10244"/>
                </a:cubicBezTo>
              </a:path>
              <a:path w="4267" h="8211">
                <a:moveTo>
                  <a:pt x="18827" y="10220"/>
                </a:moveTo>
                <a:cubicBezTo>
                  <a:pt x="18848" y="10268"/>
                  <a:pt x="18856" y="10319"/>
                  <a:pt x="18876" y="10368"/>
                </a:cubicBezTo>
                <a:cubicBezTo>
                  <a:pt x="18893" y="10408"/>
                  <a:pt x="18921" y="10447"/>
                  <a:pt x="18926" y="10492"/>
                </a:cubicBezTo>
                <a:cubicBezTo>
                  <a:pt x="18957" y="10750"/>
                  <a:pt x="18919" y="11034"/>
                  <a:pt x="18901" y="11286"/>
                </a:cubicBezTo>
                <a:cubicBezTo>
                  <a:pt x="18894" y="11381"/>
                  <a:pt x="18889" y="11466"/>
                  <a:pt x="18876" y="11559"/>
                </a:cubicBezTo>
                <a:cubicBezTo>
                  <a:pt x="18861" y="11673"/>
                  <a:pt x="18837" y="11792"/>
                  <a:pt x="18827" y="11906"/>
                </a:cubicBezTo>
                <a:cubicBezTo>
                  <a:pt x="18820" y="11980"/>
                  <a:pt x="18808" y="12061"/>
                  <a:pt x="18802" y="12129"/>
                </a:cubicBezTo>
                <a:cubicBezTo>
                  <a:pt x="18796" y="12203"/>
                  <a:pt x="18782" y="12286"/>
                  <a:pt x="18777" y="12353"/>
                </a:cubicBezTo>
                <a:cubicBezTo>
                  <a:pt x="18770" y="12454"/>
                  <a:pt x="18758" y="12550"/>
                  <a:pt x="18752" y="12650"/>
                </a:cubicBezTo>
                <a:cubicBezTo>
                  <a:pt x="18747" y="12726"/>
                  <a:pt x="18733" y="12804"/>
                  <a:pt x="18728" y="12874"/>
                </a:cubicBezTo>
                <a:cubicBezTo>
                  <a:pt x="18709" y="13113"/>
                  <a:pt x="18740" y="13362"/>
                  <a:pt x="18752" y="13593"/>
                </a:cubicBezTo>
                <a:cubicBezTo>
                  <a:pt x="18766" y="13849"/>
                  <a:pt x="18762" y="14111"/>
                  <a:pt x="18777" y="14362"/>
                </a:cubicBezTo>
                <a:cubicBezTo>
                  <a:pt x="18790" y="14582"/>
                  <a:pt x="18789" y="14826"/>
                  <a:pt x="18802" y="15032"/>
                </a:cubicBezTo>
                <a:cubicBezTo>
                  <a:pt x="18809" y="15144"/>
                  <a:pt x="18820" y="15282"/>
                  <a:pt x="18827" y="15379"/>
                </a:cubicBezTo>
                <a:cubicBezTo>
                  <a:pt x="18834" y="15484"/>
                  <a:pt x="18844" y="15635"/>
                  <a:pt x="18852" y="15701"/>
                </a:cubicBezTo>
                <a:cubicBezTo>
                  <a:pt x="18852" y="15726"/>
                  <a:pt x="18852" y="15734"/>
                  <a:pt x="18852" y="15751"/>
                </a:cubicBezTo>
              </a:path>
              <a:path w="4267" h="8211">
                <a:moveTo>
                  <a:pt x="20563" y="10145"/>
                </a:moveTo>
                <a:cubicBezTo>
                  <a:pt x="20637" y="10145"/>
                  <a:pt x="20691" y="10126"/>
                  <a:pt x="20762" y="10120"/>
                </a:cubicBezTo>
                <a:cubicBezTo>
                  <a:pt x="20878" y="10111"/>
                  <a:pt x="20993" y="10107"/>
                  <a:pt x="21109" y="10096"/>
                </a:cubicBezTo>
                <a:cubicBezTo>
                  <a:pt x="21125" y="10096"/>
                  <a:pt x="21142" y="10096"/>
                  <a:pt x="21158" y="10096"/>
                </a:cubicBezTo>
              </a:path>
              <a:path w="4267" h="8211">
                <a:moveTo>
                  <a:pt x="20638" y="10145"/>
                </a:moveTo>
                <a:cubicBezTo>
                  <a:pt x="20751" y="10145"/>
                  <a:pt x="20873" y="10131"/>
                  <a:pt x="20985" y="10120"/>
                </a:cubicBezTo>
                <a:cubicBezTo>
                  <a:pt x="21036" y="10115"/>
                  <a:pt x="21348" y="10143"/>
                  <a:pt x="21307" y="10145"/>
                </a:cubicBezTo>
                <a:cubicBezTo>
                  <a:pt x="21266" y="10145"/>
                  <a:pt x="21224" y="10145"/>
                  <a:pt x="21183" y="10145"/>
                </a:cubicBezTo>
              </a:path>
              <a:path w="4267" h="8211">
                <a:moveTo>
                  <a:pt x="20489" y="10195"/>
                </a:moveTo>
                <a:cubicBezTo>
                  <a:pt x="20820" y="10195"/>
                  <a:pt x="21152" y="10178"/>
                  <a:pt x="21481" y="10220"/>
                </a:cubicBezTo>
                <a:cubicBezTo>
                  <a:pt x="21811" y="10262"/>
                  <a:pt x="21339" y="10268"/>
                  <a:pt x="21307" y="10269"/>
                </a:cubicBezTo>
                <a:cubicBezTo>
                  <a:pt x="21116" y="10269"/>
                  <a:pt x="21058" y="10270"/>
                  <a:pt x="20935" y="10244"/>
                </a:cubicBezTo>
                <a:cubicBezTo>
                  <a:pt x="20794" y="10244"/>
                  <a:pt x="21067" y="10225"/>
                  <a:pt x="21208" y="10220"/>
                </a:cubicBezTo>
                <a:cubicBezTo>
                  <a:pt x="21451" y="10212"/>
                  <a:pt x="21687" y="10221"/>
                  <a:pt x="21927" y="10244"/>
                </a:cubicBezTo>
                <a:cubicBezTo>
                  <a:pt x="22026" y="10244"/>
                  <a:pt x="21878" y="10244"/>
                  <a:pt x="21779" y="10244"/>
                </a:cubicBezTo>
                <a:cubicBezTo>
                  <a:pt x="21458" y="10244"/>
                  <a:pt x="21793" y="10230"/>
                  <a:pt x="21878" y="10220"/>
                </a:cubicBezTo>
                <a:cubicBezTo>
                  <a:pt x="22076" y="10198"/>
                  <a:pt x="22125" y="10189"/>
                  <a:pt x="22250" y="10195"/>
                </a:cubicBezTo>
                <a:cubicBezTo>
                  <a:pt x="22299" y="10195"/>
                  <a:pt x="22315" y="10195"/>
                  <a:pt x="22250" y="10195"/>
                </a:cubicBezTo>
                <a:cubicBezTo>
                  <a:pt x="22117" y="10203"/>
                  <a:pt x="21786" y="10308"/>
                  <a:pt x="21903" y="10244"/>
                </a:cubicBezTo>
                <a:cubicBezTo>
                  <a:pt x="21984" y="10199"/>
                  <a:pt x="22408" y="10129"/>
                  <a:pt x="22324" y="10145"/>
                </a:cubicBezTo>
                <a:cubicBezTo>
                  <a:pt x="22143" y="10180"/>
                  <a:pt x="21860" y="10296"/>
                  <a:pt x="21679" y="10269"/>
                </a:cubicBezTo>
                <a:cubicBezTo>
                  <a:pt x="21696" y="10261"/>
                  <a:pt x="21712" y="10252"/>
                  <a:pt x="21729" y="10244"/>
                </a:cubicBezTo>
                <a:cubicBezTo>
                  <a:pt x="22002" y="10198"/>
                  <a:pt x="22271" y="10159"/>
                  <a:pt x="22547" y="10145"/>
                </a:cubicBezTo>
                <a:cubicBezTo>
                  <a:pt x="22290" y="10153"/>
                  <a:pt x="22035" y="10171"/>
                  <a:pt x="21779" y="10195"/>
                </a:cubicBezTo>
                <a:cubicBezTo>
                  <a:pt x="21605" y="10212"/>
                  <a:pt x="21597" y="10221"/>
                  <a:pt x="21506" y="10220"/>
                </a:cubicBezTo>
                <a:cubicBezTo>
                  <a:pt x="21802" y="10177"/>
                  <a:pt x="22125" y="10071"/>
                  <a:pt x="22423" y="10071"/>
                </a:cubicBezTo>
                <a:cubicBezTo>
                  <a:pt x="22464" y="10091"/>
                  <a:pt x="22491" y="10100"/>
                  <a:pt x="22448" y="10096"/>
                </a:cubicBezTo>
              </a:path>
              <a:path w="4267" h="8211">
                <a:moveTo>
                  <a:pt x="20017" y="12750"/>
                </a:moveTo>
                <a:cubicBezTo>
                  <a:pt x="20030" y="12750"/>
                  <a:pt x="19722" y="12910"/>
                  <a:pt x="19670" y="12973"/>
                </a:cubicBezTo>
                <a:cubicBezTo>
                  <a:pt x="19516" y="13159"/>
                  <a:pt x="20007" y="13241"/>
                  <a:pt x="20042" y="13395"/>
                </a:cubicBezTo>
                <a:cubicBezTo>
                  <a:pt x="20026" y="13436"/>
                  <a:pt x="20009" y="13478"/>
                  <a:pt x="19993" y="13519"/>
                </a:cubicBezTo>
                <a:cubicBezTo>
                  <a:pt x="19968" y="13535"/>
                  <a:pt x="19943" y="13552"/>
                  <a:pt x="19918" y="13568"/>
                </a:cubicBezTo>
                <a:cubicBezTo>
                  <a:pt x="19848" y="13329"/>
                  <a:pt x="19955" y="13160"/>
                  <a:pt x="20042" y="12923"/>
                </a:cubicBezTo>
              </a:path>
              <a:path w="4267" h="8211">
                <a:moveTo>
                  <a:pt x="20340" y="12675"/>
                </a:moveTo>
                <a:cubicBezTo>
                  <a:pt x="20248" y="12767"/>
                  <a:pt x="20219" y="12792"/>
                  <a:pt x="20191" y="12874"/>
                </a:cubicBezTo>
                <a:cubicBezTo>
                  <a:pt x="20304" y="12958"/>
                  <a:pt x="20638" y="13050"/>
                  <a:pt x="20563" y="13246"/>
                </a:cubicBezTo>
                <a:cubicBezTo>
                  <a:pt x="20462" y="13347"/>
                  <a:pt x="20426" y="13380"/>
                  <a:pt x="20315" y="13345"/>
                </a:cubicBezTo>
                <a:cubicBezTo>
                  <a:pt x="20334" y="13173"/>
                  <a:pt x="20482" y="12927"/>
                  <a:pt x="20464" y="12774"/>
                </a:cubicBezTo>
                <a:cubicBezTo>
                  <a:pt x="20456" y="12766"/>
                  <a:pt x="20447" y="12758"/>
                  <a:pt x="20439" y="12750"/>
                </a:cubicBezTo>
              </a:path>
              <a:path w="4267" h="8211">
                <a:moveTo>
                  <a:pt x="20935" y="12725"/>
                </a:moveTo>
                <a:cubicBezTo>
                  <a:pt x="20963" y="12725"/>
                  <a:pt x="20969" y="12723"/>
                  <a:pt x="20935" y="12700"/>
                </a:cubicBezTo>
                <a:cubicBezTo>
                  <a:pt x="20826" y="12747"/>
                  <a:pt x="20812" y="12958"/>
                  <a:pt x="20935" y="13047"/>
                </a:cubicBezTo>
                <a:cubicBezTo>
                  <a:pt x="21054" y="13047"/>
                  <a:pt x="21100" y="13031"/>
                  <a:pt x="21134" y="12923"/>
                </a:cubicBezTo>
              </a:path>
              <a:path w="4267" h="8211">
                <a:moveTo>
                  <a:pt x="21233" y="12650"/>
                </a:moveTo>
                <a:cubicBezTo>
                  <a:pt x="21258" y="12798"/>
                  <a:pt x="21266" y="12847"/>
                  <a:pt x="21258" y="12948"/>
                </a:cubicBezTo>
                <a:cubicBezTo>
                  <a:pt x="21258" y="13039"/>
                  <a:pt x="21236" y="12863"/>
                  <a:pt x="21258" y="12774"/>
                </a:cubicBezTo>
                <a:cubicBezTo>
                  <a:pt x="21309" y="12568"/>
                  <a:pt x="21437" y="12766"/>
                  <a:pt x="21506" y="12849"/>
                </a:cubicBezTo>
                <a:cubicBezTo>
                  <a:pt x="21482" y="12679"/>
                  <a:pt x="21480" y="12629"/>
                  <a:pt x="21555" y="12477"/>
                </a:cubicBezTo>
                <a:cubicBezTo>
                  <a:pt x="21764" y="12529"/>
                  <a:pt x="21724" y="12590"/>
                  <a:pt x="21803" y="12774"/>
                </a:cubicBezTo>
                <a:cubicBezTo>
                  <a:pt x="21803" y="12766"/>
                  <a:pt x="21803" y="12758"/>
                  <a:pt x="21803" y="12750"/>
                </a:cubicBezTo>
              </a:path>
              <a:path w="4267" h="8211">
                <a:moveTo>
                  <a:pt x="21580" y="12055"/>
                </a:moveTo>
                <a:cubicBezTo>
                  <a:pt x="21619" y="11959"/>
                  <a:pt x="21704" y="11949"/>
                  <a:pt x="21803" y="11931"/>
                </a:cubicBezTo>
                <a:cubicBezTo>
                  <a:pt x="21812" y="12056"/>
                  <a:pt x="21767" y="12114"/>
                  <a:pt x="21729" y="12229"/>
                </a:cubicBezTo>
                <a:cubicBezTo>
                  <a:pt x="21841" y="12178"/>
                  <a:pt x="21930" y="12156"/>
                  <a:pt x="22051" y="12129"/>
                </a:cubicBezTo>
              </a:path>
              <a:path w="4267" h="8211">
                <a:moveTo>
                  <a:pt x="19794" y="13940"/>
                </a:moveTo>
                <a:cubicBezTo>
                  <a:pt x="20285" y="13796"/>
                  <a:pt x="20719" y="13616"/>
                  <a:pt x="21158" y="13345"/>
                </a:cubicBezTo>
                <a:cubicBezTo>
                  <a:pt x="21630" y="13053"/>
                  <a:pt x="22015" y="12761"/>
                  <a:pt x="22399" y="12378"/>
                </a:cubicBezTo>
                <a:cubicBezTo>
                  <a:pt x="22284" y="11857"/>
                  <a:pt x="21995" y="11720"/>
                  <a:pt x="21406" y="11782"/>
                </a:cubicBezTo>
                <a:cubicBezTo>
                  <a:pt x="20610" y="11866"/>
                  <a:pt x="19719" y="12254"/>
                  <a:pt x="19298" y="12973"/>
                </a:cubicBezTo>
                <a:cubicBezTo>
                  <a:pt x="18642" y="14093"/>
                  <a:pt x="20093" y="13723"/>
                  <a:pt x="20613" y="13643"/>
                </a:cubicBezTo>
              </a:path>
              <a:path w="4267" h="8211">
                <a:moveTo>
                  <a:pt x="19124" y="10616"/>
                </a:moveTo>
                <a:cubicBezTo>
                  <a:pt x="19103" y="10648"/>
                  <a:pt x="19107" y="10644"/>
                  <a:pt x="19075" y="10666"/>
                </a:cubicBezTo>
                <a:cubicBezTo>
                  <a:pt x="19053" y="10601"/>
                  <a:pt x="19140" y="10679"/>
                  <a:pt x="19025" y="10641"/>
                </a:cubicBezTo>
                <a:cubicBezTo>
                  <a:pt x="19033" y="10641"/>
                  <a:pt x="19042" y="10641"/>
                  <a:pt x="19050" y="10641"/>
                </a:cubicBezTo>
                <a:cubicBezTo>
                  <a:pt x="19430" y="10641"/>
                  <a:pt x="19821" y="10653"/>
                  <a:pt x="20191" y="10616"/>
                </a:cubicBezTo>
                <a:cubicBezTo>
                  <a:pt x="20283" y="10607"/>
                  <a:pt x="20377" y="10603"/>
                  <a:pt x="20464" y="10592"/>
                </a:cubicBezTo>
                <a:cubicBezTo>
                  <a:pt x="20571" y="10579"/>
                  <a:pt x="20684" y="10580"/>
                  <a:pt x="20786" y="10567"/>
                </a:cubicBezTo>
                <a:cubicBezTo>
                  <a:pt x="20921" y="10550"/>
                  <a:pt x="21054" y="10578"/>
                  <a:pt x="21183" y="10592"/>
                </a:cubicBezTo>
                <a:cubicBezTo>
                  <a:pt x="21265" y="10601"/>
                  <a:pt x="21340" y="10574"/>
                  <a:pt x="21406" y="10567"/>
                </a:cubicBezTo>
                <a:cubicBezTo>
                  <a:pt x="21495" y="10557"/>
                  <a:pt x="21587" y="10590"/>
                  <a:pt x="21679" y="10592"/>
                </a:cubicBezTo>
                <a:cubicBezTo>
                  <a:pt x="21767" y="10594"/>
                  <a:pt x="21846" y="10608"/>
                  <a:pt x="21927" y="10616"/>
                </a:cubicBezTo>
                <a:cubicBezTo>
                  <a:pt x="22039" y="10627"/>
                  <a:pt x="22146" y="10604"/>
                  <a:pt x="22250" y="10592"/>
                </a:cubicBezTo>
                <a:cubicBezTo>
                  <a:pt x="22316" y="10584"/>
                  <a:pt x="22340" y="10609"/>
                  <a:pt x="22399" y="10616"/>
                </a:cubicBezTo>
                <a:cubicBezTo>
                  <a:pt x="22446" y="10622"/>
                  <a:pt x="22499" y="10616"/>
                  <a:pt x="22547" y="10616"/>
                </a:cubicBezTo>
              </a:path>
              <a:path w="4267" h="8211">
                <a:moveTo>
                  <a:pt x="20241" y="10815"/>
                </a:moveTo>
                <a:cubicBezTo>
                  <a:pt x="20173" y="10781"/>
                  <a:pt x="20051" y="10772"/>
                  <a:pt x="19968" y="10790"/>
                </a:cubicBezTo>
                <a:cubicBezTo>
                  <a:pt x="19918" y="10815"/>
                  <a:pt x="19902" y="10823"/>
                  <a:pt x="19893" y="10864"/>
                </a:cubicBezTo>
                <a:cubicBezTo>
                  <a:pt x="19945" y="10994"/>
                  <a:pt x="20097" y="10947"/>
                  <a:pt x="20216" y="10988"/>
                </a:cubicBezTo>
                <a:cubicBezTo>
                  <a:pt x="20304" y="11032"/>
                  <a:pt x="20337" y="11037"/>
                  <a:pt x="20315" y="11112"/>
                </a:cubicBezTo>
                <a:cubicBezTo>
                  <a:pt x="20193" y="11198"/>
                  <a:pt x="20121" y="11208"/>
                  <a:pt x="19993" y="11137"/>
                </a:cubicBezTo>
                <a:cubicBezTo>
                  <a:pt x="20013" y="11085"/>
                  <a:pt x="20069" y="10903"/>
                  <a:pt x="20117" y="10889"/>
                </a:cubicBezTo>
                <a:cubicBezTo>
                  <a:pt x="20142" y="10889"/>
                  <a:pt x="20166" y="10889"/>
                  <a:pt x="20191" y="10889"/>
                </a:cubicBezTo>
              </a:path>
              <a:path w="4267" h="8211">
                <a:moveTo>
                  <a:pt x="20662" y="11063"/>
                </a:moveTo>
                <a:cubicBezTo>
                  <a:pt x="20707" y="11048"/>
                  <a:pt x="20689" y="11024"/>
                  <a:pt x="20662" y="10988"/>
                </a:cubicBezTo>
                <a:cubicBezTo>
                  <a:pt x="20615" y="11009"/>
                  <a:pt x="20442" y="11138"/>
                  <a:pt x="20563" y="11212"/>
                </a:cubicBezTo>
                <a:cubicBezTo>
                  <a:pt x="20689" y="11289"/>
                  <a:pt x="20787" y="11195"/>
                  <a:pt x="20886" y="11137"/>
                </a:cubicBezTo>
              </a:path>
              <a:path w="4267" h="8211">
                <a:moveTo>
                  <a:pt x="20935" y="11013"/>
                </a:moveTo>
                <a:cubicBezTo>
                  <a:pt x="20947" y="11073"/>
                  <a:pt x="20968" y="11128"/>
                  <a:pt x="20985" y="11187"/>
                </a:cubicBezTo>
                <a:cubicBezTo>
                  <a:pt x="20968" y="11087"/>
                  <a:pt x="20933" y="11037"/>
                  <a:pt x="21084" y="11063"/>
                </a:cubicBezTo>
                <a:cubicBezTo>
                  <a:pt x="21124" y="11083"/>
                  <a:pt x="21141" y="11081"/>
                  <a:pt x="21134" y="11112"/>
                </a:cubicBezTo>
                <a:cubicBezTo>
                  <a:pt x="21177" y="11002"/>
                  <a:pt x="21178" y="10934"/>
                  <a:pt x="21307" y="11013"/>
                </a:cubicBezTo>
                <a:cubicBezTo>
                  <a:pt x="21356" y="11043"/>
                  <a:pt x="21413" y="11150"/>
                  <a:pt x="21357" y="11187"/>
                </a:cubicBezTo>
                <a:cubicBezTo>
                  <a:pt x="21349" y="11187"/>
                  <a:pt x="21340" y="11187"/>
                  <a:pt x="21332" y="11187"/>
                </a:cubicBezTo>
              </a:path>
              <a:path w="4267" h="8211">
                <a:moveTo>
                  <a:pt x="21481" y="9575"/>
                </a:moveTo>
                <a:cubicBezTo>
                  <a:pt x="21395" y="9575"/>
                  <a:pt x="21253" y="9554"/>
                  <a:pt x="21208" y="9599"/>
                </a:cubicBezTo>
                <a:cubicBezTo>
                  <a:pt x="21168" y="9639"/>
                  <a:pt x="21183" y="9693"/>
                  <a:pt x="21183" y="9748"/>
                </a:cubicBezTo>
                <a:cubicBezTo>
                  <a:pt x="21183" y="9756"/>
                  <a:pt x="21183" y="9765"/>
                  <a:pt x="21183" y="9773"/>
                </a:cubicBezTo>
                <a:cubicBezTo>
                  <a:pt x="21246" y="9773"/>
                  <a:pt x="21326" y="9745"/>
                  <a:pt x="21382" y="9748"/>
                </a:cubicBezTo>
                <a:cubicBezTo>
                  <a:pt x="21475" y="9754"/>
                  <a:pt x="21604" y="9816"/>
                  <a:pt x="21506" y="9922"/>
                </a:cubicBezTo>
                <a:cubicBezTo>
                  <a:pt x="21434" y="10000"/>
                  <a:pt x="21316" y="9956"/>
                  <a:pt x="21233" y="9947"/>
                </a:cubicBezTo>
              </a:path>
              <a:path w="4267" h="8211">
                <a:moveTo>
                  <a:pt x="20960" y="8682"/>
                </a:moveTo>
                <a:cubicBezTo>
                  <a:pt x="20951" y="8715"/>
                  <a:pt x="20908" y="8761"/>
                  <a:pt x="20935" y="8731"/>
                </a:cubicBezTo>
                <a:cubicBezTo>
                  <a:pt x="21025" y="8641"/>
                  <a:pt x="21046" y="8611"/>
                  <a:pt x="21134" y="8607"/>
                </a:cubicBezTo>
                <a:cubicBezTo>
                  <a:pt x="21198" y="8830"/>
                  <a:pt x="21154" y="8954"/>
                  <a:pt x="20960" y="9103"/>
                </a:cubicBezTo>
                <a:cubicBezTo>
                  <a:pt x="20943" y="9111"/>
                  <a:pt x="20927" y="9120"/>
                  <a:pt x="20910" y="9128"/>
                </a:cubicBezTo>
                <a:cubicBezTo>
                  <a:pt x="20944" y="8959"/>
                  <a:pt x="21037" y="8878"/>
                  <a:pt x="21233" y="8954"/>
                </a:cubicBezTo>
                <a:cubicBezTo>
                  <a:pt x="21265" y="8966"/>
                  <a:pt x="21236" y="9100"/>
                  <a:pt x="21258" y="8930"/>
                </a:cubicBezTo>
              </a:path>
              <a:path w="4267" h="8211">
                <a:moveTo>
                  <a:pt x="21406" y="8434"/>
                </a:moveTo>
                <a:cubicBezTo>
                  <a:pt x="21363" y="8458"/>
                  <a:pt x="21316" y="8473"/>
                  <a:pt x="21307" y="8508"/>
                </a:cubicBezTo>
                <a:cubicBezTo>
                  <a:pt x="21287" y="8585"/>
                  <a:pt x="21263" y="8603"/>
                  <a:pt x="21307" y="8632"/>
                </a:cubicBezTo>
                <a:cubicBezTo>
                  <a:pt x="21363" y="8656"/>
                  <a:pt x="21551" y="8637"/>
                  <a:pt x="21580" y="8706"/>
                </a:cubicBezTo>
                <a:cubicBezTo>
                  <a:pt x="21667" y="8912"/>
                  <a:pt x="21358" y="8825"/>
                  <a:pt x="21307" y="8806"/>
                </a:cubicBezTo>
              </a:path>
              <a:path w="4267" h="8211">
                <a:moveTo>
                  <a:pt x="21754" y="8359"/>
                </a:moveTo>
                <a:cubicBezTo>
                  <a:pt x="21785" y="8405"/>
                  <a:pt x="21679" y="8425"/>
                  <a:pt x="21679" y="8533"/>
                </a:cubicBezTo>
                <a:cubicBezTo>
                  <a:pt x="21687" y="8566"/>
                  <a:pt x="21696" y="8599"/>
                  <a:pt x="21704" y="8632"/>
                </a:cubicBezTo>
                <a:cubicBezTo>
                  <a:pt x="21904" y="8632"/>
                  <a:pt x="21924" y="8524"/>
                  <a:pt x="21952" y="8334"/>
                </a:cubicBezTo>
              </a:path>
              <a:path w="4267" h="8211">
                <a:moveTo>
                  <a:pt x="21927" y="8260"/>
                </a:moveTo>
                <a:cubicBezTo>
                  <a:pt x="21948" y="8335"/>
                  <a:pt x="21989" y="8404"/>
                  <a:pt x="22002" y="8483"/>
                </a:cubicBezTo>
                <a:cubicBezTo>
                  <a:pt x="22002" y="8436"/>
                  <a:pt x="22006" y="8266"/>
                  <a:pt x="22027" y="8260"/>
                </a:cubicBezTo>
                <a:cubicBezTo>
                  <a:pt x="22075" y="8247"/>
                  <a:pt x="22116" y="8334"/>
                  <a:pt x="22126" y="8359"/>
                </a:cubicBezTo>
                <a:cubicBezTo>
                  <a:pt x="22126" y="8254"/>
                  <a:pt x="22149" y="8179"/>
                  <a:pt x="22200" y="8086"/>
                </a:cubicBezTo>
                <a:cubicBezTo>
                  <a:pt x="22271" y="8170"/>
                  <a:pt x="22303" y="8203"/>
                  <a:pt x="22324" y="8310"/>
                </a:cubicBezTo>
              </a:path>
              <a:path w="4267" h="8211">
                <a:moveTo>
                  <a:pt x="22200" y="7714"/>
                </a:moveTo>
                <a:cubicBezTo>
                  <a:pt x="22222" y="7681"/>
                  <a:pt x="22407" y="7507"/>
                  <a:pt x="22423" y="7665"/>
                </a:cubicBezTo>
                <a:cubicBezTo>
                  <a:pt x="22398" y="7743"/>
                  <a:pt x="22388" y="7770"/>
                  <a:pt x="22349" y="7813"/>
                </a:cubicBezTo>
                <a:cubicBezTo>
                  <a:pt x="22434" y="7805"/>
                  <a:pt x="22513" y="7785"/>
                  <a:pt x="22597" y="7764"/>
                </a:cubicBezTo>
              </a:path>
              <a:path w="4267" h="8211">
                <a:moveTo>
                  <a:pt x="20836" y="9327"/>
                </a:moveTo>
                <a:cubicBezTo>
                  <a:pt x="21205" y="9217"/>
                  <a:pt x="21444" y="9094"/>
                  <a:pt x="21779" y="8880"/>
                </a:cubicBezTo>
                <a:cubicBezTo>
                  <a:pt x="22249" y="8579"/>
                  <a:pt x="22740" y="8305"/>
                  <a:pt x="22994" y="7813"/>
                </a:cubicBezTo>
                <a:cubicBezTo>
                  <a:pt x="22471" y="7442"/>
                  <a:pt x="21981" y="7516"/>
                  <a:pt x="21357" y="7764"/>
                </a:cubicBezTo>
                <a:cubicBezTo>
                  <a:pt x="20631" y="8053"/>
                  <a:pt x="20228" y="8476"/>
                  <a:pt x="20365" y="9203"/>
                </a:cubicBezTo>
                <a:cubicBezTo>
                  <a:pt x="20990" y="9106"/>
                  <a:pt x="21318" y="8916"/>
                  <a:pt x="21878" y="85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05800" y="1751040"/>
            <a:ext cx="455400" cy="1266840"/>
          </a:xfrm>
          <a:custGeom>
            <a:avLst/>
            <a:gdLst/>
            <a:ahLst/>
            <a:rect l="l" t="t" r="r" b="b"/>
            <a:pathLst>
              <a:path w="1266" h="3523">
                <a:moveTo>
                  <a:pt x="21952" y="5085"/>
                </a:moveTo>
                <a:cubicBezTo>
                  <a:pt x="21960" y="5085"/>
                  <a:pt x="21969" y="5085"/>
                  <a:pt x="21977" y="5085"/>
                </a:cubicBezTo>
              </a:path>
              <a:path w="1266" h="3523">
                <a:moveTo>
                  <a:pt x="22647" y="4862"/>
                </a:moveTo>
                <a:cubicBezTo>
                  <a:pt x="22526" y="4862"/>
                  <a:pt x="22438" y="4897"/>
                  <a:pt x="22349" y="4986"/>
                </a:cubicBezTo>
                <a:cubicBezTo>
                  <a:pt x="22325" y="5034"/>
                  <a:pt x="22316" y="5048"/>
                  <a:pt x="22324" y="5085"/>
                </a:cubicBezTo>
                <a:cubicBezTo>
                  <a:pt x="22486" y="5146"/>
                  <a:pt x="22639" y="5157"/>
                  <a:pt x="22671" y="5333"/>
                </a:cubicBezTo>
                <a:cubicBezTo>
                  <a:pt x="22588" y="5333"/>
                  <a:pt x="22525" y="5331"/>
                  <a:pt x="22448" y="5308"/>
                </a:cubicBezTo>
                <a:cubicBezTo>
                  <a:pt x="22482" y="5152"/>
                  <a:pt x="22592" y="5060"/>
                  <a:pt x="22647" y="4911"/>
                </a:cubicBezTo>
                <a:cubicBezTo>
                  <a:pt x="22647" y="4869"/>
                  <a:pt x="22630" y="4866"/>
                  <a:pt x="22572" y="4911"/>
                </a:cubicBezTo>
              </a:path>
              <a:path w="1266" h="3523">
                <a:moveTo>
                  <a:pt x="21406" y="8384"/>
                </a:moveTo>
                <a:cubicBezTo>
                  <a:pt x="21520" y="8338"/>
                  <a:pt x="21552" y="8324"/>
                  <a:pt x="21630" y="83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77000" y="1562040"/>
            <a:ext cx="839880" cy="2125800"/>
          </a:xfrm>
          <a:custGeom>
            <a:avLst/>
            <a:gdLst/>
            <a:ahLst/>
            <a:rect l="l" t="t" r="r" b="b"/>
            <a:pathLst>
              <a:path w="2332" h="5904">
                <a:moveTo>
                  <a:pt x="18827" y="10244"/>
                </a:moveTo>
                <a:lnTo>
                  <a:pt x="18827" y="10244"/>
                </a:lnTo>
              </a:path>
              <a:path w="2332" h="5904">
                <a:moveTo>
                  <a:pt x="18827" y="10244"/>
                </a:moveTo>
                <a:cubicBezTo>
                  <a:pt x="18827" y="10236"/>
                  <a:pt x="18827" y="10228"/>
                  <a:pt x="18827" y="10220"/>
                </a:cubicBezTo>
              </a:path>
              <a:path w="2332" h="5904">
                <a:moveTo>
                  <a:pt x="18827" y="10220"/>
                </a:moveTo>
                <a:lnTo>
                  <a:pt x="18827" y="10220"/>
                </a:lnTo>
              </a:path>
              <a:path w="2332" h="5904">
                <a:moveTo>
                  <a:pt x="20910" y="4390"/>
                </a:moveTo>
                <a:cubicBezTo>
                  <a:pt x="21043" y="4369"/>
                  <a:pt x="21077" y="4365"/>
                  <a:pt x="21158" y="4341"/>
                </a:cubicBezTo>
              </a:path>
              <a:path w="2332" h="5904">
                <a:moveTo>
                  <a:pt x="20861" y="4589"/>
                </a:moveTo>
                <a:cubicBezTo>
                  <a:pt x="21004" y="4589"/>
                  <a:pt x="21063" y="4584"/>
                  <a:pt x="21158" y="4539"/>
                </a:cubicBezTo>
              </a:path>
              <a:path w="2332" h="5904">
                <a:moveTo>
                  <a:pt x="21158" y="4539"/>
                </a:moveTo>
                <a:lnTo>
                  <a:pt x="21158" y="4539"/>
                </a:lnTo>
              </a:path>
              <a:path w="2332" h="5904">
                <a:moveTo>
                  <a:pt x="19546" y="7466"/>
                </a:moveTo>
                <a:lnTo>
                  <a:pt x="19546" y="7466"/>
                </a:lnTo>
                <a:lnTo>
                  <a:pt x="19546" y="7466"/>
                </a:lnTo>
              </a:path>
              <a:path w="2332" h="5904">
                <a:moveTo>
                  <a:pt x="19273" y="8062"/>
                </a:moveTo>
                <a:cubicBezTo>
                  <a:pt x="19358" y="8014"/>
                  <a:pt x="19438" y="7963"/>
                  <a:pt x="19521" y="79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34040" y="1643040"/>
            <a:ext cx="884160" cy="893880"/>
          </a:xfrm>
          <a:custGeom>
            <a:avLst/>
            <a:gdLst/>
            <a:ahLst/>
            <a:rect l="l" t="t" r="r" b="b"/>
            <a:pathLst>
              <a:path w="2456" h="2482">
                <a:moveTo>
                  <a:pt x="19050" y="4614"/>
                </a:moveTo>
                <a:cubicBezTo>
                  <a:pt x="19227" y="4580"/>
                  <a:pt x="19321" y="4551"/>
                  <a:pt x="19496" y="4589"/>
                </a:cubicBezTo>
              </a:path>
              <a:path w="2456" h="2482">
                <a:moveTo>
                  <a:pt x="17041" y="7045"/>
                </a:moveTo>
                <a:cubicBezTo>
                  <a:pt x="17223" y="6957"/>
                  <a:pt x="17311" y="6938"/>
                  <a:pt x="17512" y="69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46760" y="3330720"/>
            <a:ext cx="1019160" cy="54000"/>
          </a:xfrm>
          <a:custGeom>
            <a:avLst/>
            <a:gdLst/>
            <a:ahLst/>
            <a:rect l="l" t="t" r="r" b="b"/>
            <a:pathLst>
              <a:path w="2829" h="150">
                <a:moveTo>
                  <a:pt x="13742" y="9401"/>
                </a:moveTo>
                <a:cubicBezTo>
                  <a:pt x="13851" y="9373"/>
                  <a:pt x="13963" y="9353"/>
                  <a:pt x="14089" y="9351"/>
                </a:cubicBezTo>
                <a:cubicBezTo>
                  <a:pt x="14397" y="9346"/>
                  <a:pt x="14701" y="9344"/>
                  <a:pt x="15007" y="9351"/>
                </a:cubicBezTo>
                <a:cubicBezTo>
                  <a:pt x="15283" y="9357"/>
                  <a:pt x="15551" y="9308"/>
                  <a:pt x="15825" y="9302"/>
                </a:cubicBezTo>
                <a:cubicBezTo>
                  <a:pt x="15945" y="9299"/>
                  <a:pt x="16055" y="9282"/>
                  <a:pt x="16173" y="9277"/>
                </a:cubicBezTo>
                <a:cubicBezTo>
                  <a:pt x="16247" y="9274"/>
                  <a:pt x="16304" y="9262"/>
                  <a:pt x="16371" y="9252"/>
                </a:cubicBezTo>
                <a:cubicBezTo>
                  <a:pt x="16434" y="9243"/>
                  <a:pt x="16506" y="9252"/>
                  <a:pt x="16570" y="925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89760" y="2320920"/>
            <a:ext cx="482400" cy="366840"/>
          </a:xfrm>
          <a:custGeom>
            <a:avLst/>
            <a:gdLst/>
            <a:ahLst/>
            <a:rect l="l" t="t" r="r" b="b"/>
            <a:pathLst>
              <a:path w="1340" h="1018">
                <a:moveTo>
                  <a:pt x="17140" y="6722"/>
                </a:moveTo>
                <a:cubicBezTo>
                  <a:pt x="17114" y="6901"/>
                  <a:pt x="17046" y="7080"/>
                  <a:pt x="16966" y="7243"/>
                </a:cubicBezTo>
                <a:cubicBezTo>
                  <a:pt x="16950" y="7268"/>
                  <a:pt x="16933" y="7292"/>
                  <a:pt x="16917" y="7317"/>
                </a:cubicBezTo>
                <a:cubicBezTo>
                  <a:pt x="16962" y="7112"/>
                  <a:pt x="17062" y="6875"/>
                  <a:pt x="17140" y="6672"/>
                </a:cubicBezTo>
                <a:cubicBezTo>
                  <a:pt x="17199" y="6535"/>
                  <a:pt x="17196" y="6505"/>
                  <a:pt x="17264" y="6449"/>
                </a:cubicBezTo>
                <a:cubicBezTo>
                  <a:pt x="17325" y="6672"/>
                  <a:pt x="17393" y="6906"/>
                  <a:pt x="17388" y="7144"/>
                </a:cubicBezTo>
                <a:cubicBezTo>
                  <a:pt x="17364" y="7215"/>
                  <a:pt x="17358" y="7242"/>
                  <a:pt x="17314" y="7169"/>
                </a:cubicBezTo>
              </a:path>
              <a:path w="1340" h="1018">
                <a:moveTo>
                  <a:pt x="17661" y="7069"/>
                </a:moveTo>
                <a:cubicBezTo>
                  <a:pt x="17632" y="7212"/>
                  <a:pt x="17614" y="7342"/>
                  <a:pt x="17537" y="7466"/>
                </a:cubicBezTo>
                <a:cubicBezTo>
                  <a:pt x="17688" y="7441"/>
                  <a:pt x="17799" y="7360"/>
                  <a:pt x="17959" y="7342"/>
                </a:cubicBezTo>
                <a:cubicBezTo>
                  <a:pt x="18032" y="7334"/>
                  <a:pt x="18147" y="7322"/>
                  <a:pt x="18207" y="7367"/>
                </a:cubicBezTo>
                <a:cubicBezTo>
                  <a:pt x="18207" y="7240"/>
                  <a:pt x="18224" y="7134"/>
                  <a:pt x="18256" y="7020"/>
                </a:cubicBezTo>
                <a:cubicBezTo>
                  <a:pt x="18256" y="7012"/>
                  <a:pt x="18256" y="7003"/>
                  <a:pt x="18256" y="6995"/>
                </a:cubicBezTo>
                <a:cubicBezTo>
                  <a:pt x="18165" y="7064"/>
                  <a:pt x="17939" y="7070"/>
                  <a:pt x="17835" y="7094"/>
                </a:cubicBezTo>
                <a:cubicBezTo>
                  <a:pt x="17677" y="7134"/>
                  <a:pt x="17651" y="7137"/>
                  <a:pt x="17562" y="71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13720" y="1357200"/>
            <a:ext cx="642600" cy="500040"/>
          </a:xfrm>
          <a:custGeom>
            <a:avLst/>
            <a:gdLst/>
            <a:ahLst/>
            <a:rect l="l" t="t" r="r" b="b"/>
            <a:pathLst>
              <a:path w="1787" h="1390">
                <a:moveTo>
                  <a:pt x="19372" y="4093"/>
                </a:moveTo>
                <a:cubicBezTo>
                  <a:pt x="19253" y="4422"/>
                  <a:pt x="19097" y="4713"/>
                  <a:pt x="18926" y="5011"/>
                </a:cubicBezTo>
                <a:cubicBezTo>
                  <a:pt x="18926" y="5019"/>
                  <a:pt x="18926" y="5027"/>
                  <a:pt x="18926" y="5035"/>
                </a:cubicBezTo>
                <a:cubicBezTo>
                  <a:pt x="19003" y="4637"/>
                  <a:pt x="19155" y="4233"/>
                  <a:pt x="19348" y="3870"/>
                </a:cubicBezTo>
                <a:cubicBezTo>
                  <a:pt x="19407" y="3790"/>
                  <a:pt x="19432" y="3732"/>
                  <a:pt x="19422" y="3820"/>
                </a:cubicBezTo>
                <a:cubicBezTo>
                  <a:pt x="19464" y="4143"/>
                  <a:pt x="19543" y="4542"/>
                  <a:pt x="19422" y="4862"/>
                </a:cubicBezTo>
                <a:cubicBezTo>
                  <a:pt x="19414" y="4854"/>
                  <a:pt x="19405" y="4845"/>
                  <a:pt x="19397" y="4837"/>
                </a:cubicBezTo>
              </a:path>
              <a:path w="1787" h="1390">
                <a:moveTo>
                  <a:pt x="19769" y="4713"/>
                </a:moveTo>
                <a:cubicBezTo>
                  <a:pt x="19769" y="4682"/>
                  <a:pt x="19659" y="4958"/>
                  <a:pt x="19645" y="4986"/>
                </a:cubicBezTo>
                <a:cubicBezTo>
                  <a:pt x="19629" y="5019"/>
                  <a:pt x="19612" y="5052"/>
                  <a:pt x="19596" y="5085"/>
                </a:cubicBezTo>
                <a:cubicBezTo>
                  <a:pt x="19836" y="5085"/>
                  <a:pt x="20078" y="5069"/>
                  <a:pt x="20315" y="5110"/>
                </a:cubicBezTo>
                <a:cubicBezTo>
                  <a:pt x="20416" y="5127"/>
                  <a:pt x="20421" y="5143"/>
                  <a:pt x="20489" y="5159"/>
                </a:cubicBezTo>
                <a:cubicBezTo>
                  <a:pt x="20529" y="5014"/>
                  <a:pt x="20631" y="4925"/>
                  <a:pt x="20712" y="4812"/>
                </a:cubicBezTo>
                <a:cubicBezTo>
                  <a:pt x="20712" y="4804"/>
                  <a:pt x="20712" y="4795"/>
                  <a:pt x="20712" y="4787"/>
                </a:cubicBezTo>
                <a:cubicBezTo>
                  <a:pt x="20490" y="4661"/>
                  <a:pt x="20215" y="4695"/>
                  <a:pt x="19968" y="4713"/>
                </a:cubicBezTo>
                <a:cubicBezTo>
                  <a:pt x="19881" y="4719"/>
                  <a:pt x="19734" y="4746"/>
                  <a:pt x="19819" y="47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46960" y="1347840"/>
            <a:ext cx="795240" cy="590400"/>
          </a:xfrm>
          <a:custGeom>
            <a:avLst/>
            <a:gdLst/>
            <a:ahLst/>
            <a:rect l="l" t="t" r="r" b="b"/>
            <a:pathLst>
              <a:path w="2209" h="1638">
                <a:moveTo>
                  <a:pt x="21605" y="3746"/>
                </a:moveTo>
                <a:cubicBezTo>
                  <a:pt x="21569" y="4027"/>
                  <a:pt x="21515" y="4289"/>
                  <a:pt x="21456" y="4564"/>
                </a:cubicBezTo>
                <a:cubicBezTo>
                  <a:pt x="21456" y="4581"/>
                  <a:pt x="21456" y="4597"/>
                  <a:pt x="21456" y="4614"/>
                </a:cubicBezTo>
              </a:path>
              <a:path w="2209" h="1638">
                <a:moveTo>
                  <a:pt x="22002" y="4341"/>
                </a:moveTo>
                <a:cubicBezTo>
                  <a:pt x="22002" y="4366"/>
                  <a:pt x="22002" y="4374"/>
                  <a:pt x="22002" y="4390"/>
                </a:cubicBezTo>
              </a:path>
              <a:path w="2209" h="1638">
                <a:moveTo>
                  <a:pt x="22423" y="4068"/>
                </a:moveTo>
                <a:cubicBezTo>
                  <a:pt x="22393" y="4179"/>
                  <a:pt x="22352" y="4305"/>
                  <a:pt x="22324" y="4415"/>
                </a:cubicBezTo>
                <a:cubicBezTo>
                  <a:pt x="22494" y="4379"/>
                  <a:pt x="22582" y="4300"/>
                  <a:pt x="22671" y="4142"/>
                </a:cubicBezTo>
                <a:cubicBezTo>
                  <a:pt x="22663" y="4150"/>
                  <a:pt x="22655" y="4159"/>
                  <a:pt x="22647" y="4167"/>
                </a:cubicBezTo>
                <a:cubicBezTo>
                  <a:pt x="22625" y="4299"/>
                  <a:pt x="22720" y="4448"/>
                  <a:pt x="22845" y="4266"/>
                </a:cubicBezTo>
                <a:cubicBezTo>
                  <a:pt x="22960" y="4098"/>
                  <a:pt x="22896" y="4020"/>
                  <a:pt x="22796" y="3919"/>
                </a:cubicBezTo>
              </a:path>
              <a:path w="2209" h="1638">
                <a:moveTo>
                  <a:pt x="21233" y="5035"/>
                </a:moveTo>
                <a:cubicBezTo>
                  <a:pt x="21233" y="5019"/>
                  <a:pt x="21233" y="5002"/>
                  <a:pt x="21233" y="4986"/>
                </a:cubicBezTo>
                <a:cubicBezTo>
                  <a:pt x="21221" y="5130"/>
                  <a:pt x="21188" y="5215"/>
                  <a:pt x="21134" y="5333"/>
                </a:cubicBezTo>
                <a:cubicBezTo>
                  <a:pt x="21134" y="5341"/>
                  <a:pt x="21134" y="5350"/>
                  <a:pt x="21134" y="5358"/>
                </a:cubicBezTo>
              </a:path>
              <a:path w="2209" h="1638">
                <a:moveTo>
                  <a:pt x="21530" y="4887"/>
                </a:moveTo>
                <a:cubicBezTo>
                  <a:pt x="21530" y="5015"/>
                  <a:pt x="21521" y="5133"/>
                  <a:pt x="21506" y="5259"/>
                </a:cubicBezTo>
              </a:path>
              <a:path w="2209" h="1638">
                <a:moveTo>
                  <a:pt x="20737" y="5234"/>
                </a:moveTo>
                <a:cubicBezTo>
                  <a:pt x="20799" y="5234"/>
                  <a:pt x="20829" y="5217"/>
                  <a:pt x="20886" y="5209"/>
                </a:cubicBezTo>
              </a:path>
              <a:path w="2209" h="1638">
                <a:moveTo>
                  <a:pt x="20687" y="5383"/>
                </a:moveTo>
                <a:cubicBezTo>
                  <a:pt x="20758" y="5362"/>
                  <a:pt x="20816" y="5342"/>
                  <a:pt x="20886" y="53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92920" y="2347920"/>
            <a:ext cx="9360" cy="196920"/>
          </a:xfrm>
          <a:custGeom>
            <a:avLst/>
            <a:gdLst/>
            <a:ahLst/>
            <a:rect l="l" t="t" r="r" b="b"/>
            <a:pathLst>
              <a:path w="26" h="546">
                <a:moveTo>
                  <a:pt x="19149" y="6524"/>
                </a:moveTo>
                <a:cubicBezTo>
                  <a:pt x="19167" y="6717"/>
                  <a:pt x="19173" y="6878"/>
                  <a:pt x="19149" y="70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89800" y="2705040"/>
            <a:ext cx="90360" cy="36720"/>
          </a:xfrm>
          <a:custGeom>
            <a:avLst/>
            <a:gdLst/>
            <a:ahLst/>
            <a:rect l="l" t="t" r="r" b="b"/>
            <a:pathLst>
              <a:path w="249" h="100">
                <a:moveTo>
                  <a:pt x="18306" y="7615"/>
                </a:moveTo>
                <a:cubicBezTo>
                  <a:pt x="18397" y="7586"/>
                  <a:pt x="18470" y="7560"/>
                  <a:pt x="18554" y="75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99160" y="2098800"/>
            <a:ext cx="946080" cy="696960"/>
          </a:xfrm>
          <a:custGeom>
            <a:avLst/>
            <a:gdLst/>
            <a:ahLst/>
            <a:rect l="l" t="t" r="r" b="b"/>
            <a:pathLst>
              <a:path w="2630" h="1936">
                <a:moveTo>
                  <a:pt x="20762" y="5879"/>
                </a:moveTo>
                <a:cubicBezTo>
                  <a:pt x="20818" y="5850"/>
                  <a:pt x="20842" y="5839"/>
                  <a:pt x="20886" y="5829"/>
                </a:cubicBezTo>
              </a:path>
              <a:path w="2630" h="1936">
                <a:moveTo>
                  <a:pt x="20662" y="5978"/>
                </a:moveTo>
                <a:cubicBezTo>
                  <a:pt x="20767" y="5953"/>
                  <a:pt x="20875" y="5947"/>
                  <a:pt x="20960" y="5879"/>
                </a:cubicBezTo>
              </a:path>
              <a:path w="2630" h="1936">
                <a:moveTo>
                  <a:pt x="18653" y="6772"/>
                </a:moveTo>
                <a:cubicBezTo>
                  <a:pt x="18776" y="6731"/>
                  <a:pt x="18798" y="6714"/>
                  <a:pt x="18876" y="6722"/>
                </a:cubicBezTo>
              </a:path>
              <a:path w="2630" h="1936">
                <a:moveTo>
                  <a:pt x="18653" y="6995"/>
                </a:moveTo>
                <a:cubicBezTo>
                  <a:pt x="18822" y="6946"/>
                  <a:pt x="18876" y="6932"/>
                  <a:pt x="18976" y="6871"/>
                </a:cubicBezTo>
              </a:path>
              <a:path w="2630" h="1936">
                <a:moveTo>
                  <a:pt x="18976" y="6871"/>
                </a:moveTo>
                <a:lnTo>
                  <a:pt x="18976" y="6871"/>
                </a:lnTo>
              </a:path>
              <a:path w="2630" h="1936">
                <a:moveTo>
                  <a:pt x="19645" y="6871"/>
                </a:moveTo>
                <a:lnTo>
                  <a:pt x="19645" y="6871"/>
                </a:lnTo>
                <a:lnTo>
                  <a:pt x="19645" y="6871"/>
                </a:lnTo>
              </a:path>
              <a:path w="2630" h="1936">
                <a:moveTo>
                  <a:pt x="18331" y="7764"/>
                </a:moveTo>
                <a:cubicBezTo>
                  <a:pt x="18426" y="7722"/>
                  <a:pt x="18513" y="7688"/>
                  <a:pt x="18604" y="76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72160" y="2938320"/>
            <a:ext cx="108000" cy="71640"/>
          </a:xfrm>
          <a:custGeom>
            <a:avLst/>
            <a:gdLst/>
            <a:ahLst/>
            <a:rect l="l" t="t" r="r" b="b"/>
            <a:pathLst>
              <a:path w="299" h="199">
                <a:moveTo>
                  <a:pt x="18256" y="8285"/>
                </a:moveTo>
                <a:cubicBezTo>
                  <a:pt x="18329" y="8227"/>
                  <a:pt x="18391" y="8195"/>
                  <a:pt x="18479" y="8161"/>
                </a:cubicBezTo>
              </a:path>
              <a:path w="299" h="199">
                <a:moveTo>
                  <a:pt x="18331" y="8359"/>
                </a:moveTo>
                <a:cubicBezTo>
                  <a:pt x="18433" y="8325"/>
                  <a:pt x="18484" y="8303"/>
                  <a:pt x="18554" y="8260"/>
                </a:cubicBezTo>
              </a:path>
              <a:path w="299" h="199">
                <a:moveTo>
                  <a:pt x="18554" y="8260"/>
                </a:moveTo>
                <a:lnTo>
                  <a:pt x="18554" y="8260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96080" y="2660760"/>
            <a:ext cx="214200" cy="349200"/>
          </a:xfrm>
          <a:custGeom>
            <a:avLst/>
            <a:gdLst/>
            <a:ahLst/>
            <a:rect l="l" t="t" r="r" b="b"/>
            <a:pathLst>
              <a:path w="597" h="968">
                <a:moveTo>
                  <a:pt x="19248" y="7392"/>
                </a:moveTo>
                <a:cubicBezTo>
                  <a:pt x="19170" y="7392"/>
                  <a:pt x="19103" y="7412"/>
                  <a:pt x="19025" y="7417"/>
                </a:cubicBezTo>
                <a:cubicBezTo>
                  <a:pt x="18974" y="7420"/>
                  <a:pt x="18983" y="7513"/>
                  <a:pt x="18976" y="7565"/>
                </a:cubicBezTo>
                <a:cubicBezTo>
                  <a:pt x="19076" y="7565"/>
                  <a:pt x="19178" y="7513"/>
                  <a:pt x="19273" y="7565"/>
                </a:cubicBezTo>
                <a:cubicBezTo>
                  <a:pt x="19438" y="7655"/>
                  <a:pt x="19097" y="7799"/>
                  <a:pt x="19050" y="7813"/>
                </a:cubicBezTo>
                <a:cubicBezTo>
                  <a:pt x="19009" y="7813"/>
                  <a:pt x="18992" y="7822"/>
                  <a:pt x="19000" y="7789"/>
                </a:cubicBezTo>
              </a:path>
              <a:path w="597" h="968">
                <a:moveTo>
                  <a:pt x="18876" y="8086"/>
                </a:moveTo>
                <a:cubicBezTo>
                  <a:pt x="18937" y="8074"/>
                  <a:pt x="18984" y="8062"/>
                  <a:pt x="19050" y="8062"/>
                </a:cubicBezTo>
                <a:cubicBezTo>
                  <a:pt x="19032" y="8179"/>
                  <a:pt x="18984" y="8255"/>
                  <a:pt x="18926" y="8359"/>
                </a:cubicBezTo>
                <a:cubicBezTo>
                  <a:pt x="19042" y="8359"/>
                  <a:pt x="19101" y="8320"/>
                  <a:pt x="19199" y="8260"/>
                </a:cubicBezTo>
              </a:path>
              <a:path w="597" h="968">
                <a:moveTo>
                  <a:pt x="19273" y="8062"/>
                </a:moveTo>
                <a:cubicBezTo>
                  <a:pt x="19265" y="8091"/>
                  <a:pt x="19255" y="8107"/>
                  <a:pt x="19248" y="8136"/>
                </a:cubicBezTo>
                <a:cubicBezTo>
                  <a:pt x="19309" y="8146"/>
                  <a:pt x="19444" y="8165"/>
                  <a:pt x="19472" y="8186"/>
                </a:cubicBezTo>
                <a:cubicBezTo>
                  <a:pt x="19415" y="8337"/>
                  <a:pt x="19329" y="8286"/>
                  <a:pt x="19248" y="81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70840" y="2384280"/>
            <a:ext cx="179280" cy="330480"/>
          </a:xfrm>
          <a:custGeom>
            <a:avLst/>
            <a:gdLst/>
            <a:ahLst/>
            <a:rect l="l" t="t" r="r" b="b"/>
            <a:pathLst>
              <a:path w="497" h="919">
                <a:moveTo>
                  <a:pt x="19943" y="6648"/>
                </a:moveTo>
                <a:cubicBezTo>
                  <a:pt x="19943" y="6693"/>
                  <a:pt x="19910" y="6898"/>
                  <a:pt x="19968" y="6921"/>
                </a:cubicBezTo>
                <a:cubicBezTo>
                  <a:pt x="20074" y="6963"/>
                  <a:pt x="20143" y="6808"/>
                  <a:pt x="20191" y="6747"/>
                </a:cubicBezTo>
                <a:cubicBezTo>
                  <a:pt x="20191" y="6820"/>
                  <a:pt x="20190" y="6844"/>
                  <a:pt x="20241" y="6871"/>
                </a:cubicBezTo>
                <a:cubicBezTo>
                  <a:pt x="20321" y="6858"/>
                  <a:pt x="20555" y="6680"/>
                  <a:pt x="20365" y="6623"/>
                </a:cubicBezTo>
                <a:cubicBezTo>
                  <a:pt x="20324" y="6631"/>
                  <a:pt x="20282" y="6640"/>
                  <a:pt x="20241" y="6648"/>
                </a:cubicBezTo>
              </a:path>
              <a:path w="497" h="919">
                <a:moveTo>
                  <a:pt x="20141" y="7169"/>
                </a:moveTo>
                <a:cubicBezTo>
                  <a:pt x="20082" y="7218"/>
                  <a:pt x="20018" y="7228"/>
                  <a:pt x="19968" y="7268"/>
                </a:cubicBezTo>
                <a:cubicBezTo>
                  <a:pt x="19938" y="7298"/>
                  <a:pt x="19927" y="7312"/>
                  <a:pt x="19918" y="7342"/>
                </a:cubicBezTo>
                <a:cubicBezTo>
                  <a:pt x="19977" y="7330"/>
                  <a:pt x="20071" y="7271"/>
                  <a:pt x="20117" y="7342"/>
                </a:cubicBezTo>
                <a:cubicBezTo>
                  <a:pt x="20211" y="7485"/>
                  <a:pt x="20086" y="7522"/>
                  <a:pt x="19968" y="7541"/>
                </a:cubicBezTo>
                <a:cubicBezTo>
                  <a:pt x="19951" y="7541"/>
                  <a:pt x="19935" y="7541"/>
                  <a:pt x="19918" y="75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24880" y="1946160"/>
            <a:ext cx="295200" cy="216000"/>
          </a:xfrm>
          <a:custGeom>
            <a:avLst/>
            <a:gdLst/>
            <a:ahLst/>
            <a:rect l="l" t="t" r="r" b="b"/>
            <a:pathLst>
              <a:path w="820" h="597">
                <a:moveTo>
                  <a:pt x="21679" y="5531"/>
                </a:moveTo>
                <a:cubicBezTo>
                  <a:pt x="21603" y="5559"/>
                  <a:pt x="21320" y="5653"/>
                  <a:pt x="21506" y="5779"/>
                </a:cubicBezTo>
                <a:cubicBezTo>
                  <a:pt x="21620" y="5856"/>
                  <a:pt x="21632" y="5791"/>
                  <a:pt x="21654" y="5904"/>
                </a:cubicBezTo>
                <a:cubicBezTo>
                  <a:pt x="21581" y="5977"/>
                  <a:pt x="21557" y="6002"/>
                  <a:pt x="21481" y="6003"/>
                </a:cubicBezTo>
                <a:cubicBezTo>
                  <a:pt x="21552" y="5850"/>
                  <a:pt x="21632" y="5751"/>
                  <a:pt x="21754" y="5631"/>
                </a:cubicBezTo>
              </a:path>
              <a:path w="820" h="597">
                <a:moveTo>
                  <a:pt x="22275" y="5407"/>
                </a:moveTo>
                <a:cubicBezTo>
                  <a:pt x="22152" y="5445"/>
                  <a:pt x="22100" y="5473"/>
                  <a:pt x="22002" y="5556"/>
                </a:cubicBezTo>
                <a:cubicBezTo>
                  <a:pt x="22042" y="5625"/>
                  <a:pt x="22279" y="5762"/>
                  <a:pt x="22275" y="5804"/>
                </a:cubicBezTo>
                <a:cubicBezTo>
                  <a:pt x="22218" y="5889"/>
                  <a:pt x="22190" y="5916"/>
                  <a:pt x="22101" y="5904"/>
                </a:cubicBezTo>
                <a:cubicBezTo>
                  <a:pt x="22036" y="5726"/>
                  <a:pt x="22206" y="5712"/>
                  <a:pt x="22225" y="5531"/>
                </a:cubicBezTo>
                <a:cubicBezTo>
                  <a:pt x="22217" y="5523"/>
                  <a:pt x="22208" y="5515"/>
                  <a:pt x="22200" y="55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99280" y="3071880"/>
            <a:ext cx="125640" cy="142920"/>
          </a:xfrm>
          <a:custGeom>
            <a:avLst/>
            <a:gdLst/>
            <a:ahLst/>
            <a:rect l="l" t="t" r="r" b="b"/>
            <a:pathLst>
              <a:path w="348" h="398">
                <a:moveTo>
                  <a:pt x="22597" y="8558"/>
                </a:moveTo>
                <a:cubicBezTo>
                  <a:pt x="22640" y="8558"/>
                  <a:pt x="22635" y="8568"/>
                  <a:pt x="22647" y="8533"/>
                </a:cubicBezTo>
                <a:cubicBezTo>
                  <a:pt x="22630" y="8540"/>
                  <a:pt x="22502" y="8602"/>
                  <a:pt x="22523" y="8632"/>
                </a:cubicBezTo>
                <a:cubicBezTo>
                  <a:pt x="22534" y="8647"/>
                  <a:pt x="22568" y="8695"/>
                  <a:pt x="22597" y="8706"/>
                </a:cubicBezTo>
                <a:cubicBezTo>
                  <a:pt x="22660" y="8729"/>
                  <a:pt x="22841" y="8709"/>
                  <a:pt x="22845" y="8806"/>
                </a:cubicBezTo>
                <a:cubicBezTo>
                  <a:pt x="22853" y="8983"/>
                  <a:pt x="22572" y="8900"/>
                  <a:pt x="22498" y="88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24160" y="4653000"/>
            <a:ext cx="731880" cy="1312920"/>
          </a:xfrm>
          <a:custGeom>
            <a:avLst/>
            <a:gdLst/>
            <a:ahLst/>
            <a:rect l="l" t="t" r="r" b="b"/>
            <a:pathLst>
              <a:path w="2035" h="3648">
                <a:moveTo>
                  <a:pt x="9699" y="13692"/>
                </a:moveTo>
                <a:cubicBezTo>
                  <a:pt x="9660" y="13731"/>
                  <a:pt x="9628" y="13748"/>
                  <a:pt x="9674" y="13742"/>
                </a:cubicBezTo>
                <a:cubicBezTo>
                  <a:pt x="9837" y="13648"/>
                  <a:pt x="10015" y="13738"/>
                  <a:pt x="9872" y="13965"/>
                </a:cubicBezTo>
                <a:cubicBezTo>
                  <a:pt x="9726" y="14196"/>
                  <a:pt x="9515" y="14161"/>
                  <a:pt x="9302" y="14139"/>
                </a:cubicBezTo>
                <a:cubicBezTo>
                  <a:pt x="9463" y="13993"/>
                  <a:pt x="9601" y="14108"/>
                  <a:pt x="9798" y="14213"/>
                </a:cubicBezTo>
                <a:cubicBezTo>
                  <a:pt x="9814" y="14221"/>
                  <a:pt x="9831" y="14230"/>
                  <a:pt x="9847" y="14238"/>
                </a:cubicBezTo>
              </a:path>
              <a:path w="2035" h="3648">
                <a:moveTo>
                  <a:pt x="10443" y="13742"/>
                </a:moveTo>
                <a:cubicBezTo>
                  <a:pt x="10369" y="13762"/>
                  <a:pt x="10295" y="13735"/>
                  <a:pt x="10244" y="13767"/>
                </a:cubicBezTo>
                <a:cubicBezTo>
                  <a:pt x="10178" y="13808"/>
                  <a:pt x="10147" y="13865"/>
                  <a:pt x="10096" y="13891"/>
                </a:cubicBezTo>
                <a:cubicBezTo>
                  <a:pt x="10199" y="13905"/>
                  <a:pt x="10447" y="13924"/>
                  <a:pt x="10492" y="14039"/>
                </a:cubicBezTo>
                <a:cubicBezTo>
                  <a:pt x="10618" y="14359"/>
                  <a:pt x="10063" y="14239"/>
                  <a:pt x="9971" y="14213"/>
                </a:cubicBezTo>
              </a:path>
              <a:path w="2035" h="3648">
                <a:moveTo>
                  <a:pt x="9699" y="14709"/>
                </a:moveTo>
                <a:cubicBezTo>
                  <a:pt x="9513" y="14682"/>
                  <a:pt x="9377" y="14755"/>
                  <a:pt x="9203" y="14833"/>
                </a:cubicBezTo>
                <a:cubicBezTo>
                  <a:pt x="9284" y="14976"/>
                  <a:pt x="9406" y="15074"/>
                  <a:pt x="9451" y="15230"/>
                </a:cubicBezTo>
                <a:cubicBezTo>
                  <a:pt x="9214" y="15190"/>
                  <a:pt x="9338" y="15048"/>
                  <a:pt x="9475" y="14908"/>
                </a:cubicBezTo>
                <a:cubicBezTo>
                  <a:pt x="9583" y="14818"/>
                  <a:pt x="9596" y="14814"/>
                  <a:pt x="9649" y="14759"/>
                </a:cubicBezTo>
              </a:path>
              <a:path w="2035" h="3648">
                <a:moveTo>
                  <a:pt x="10170" y="14610"/>
                </a:moveTo>
                <a:cubicBezTo>
                  <a:pt x="10012" y="14637"/>
                  <a:pt x="9954" y="14650"/>
                  <a:pt x="9872" y="14734"/>
                </a:cubicBezTo>
                <a:cubicBezTo>
                  <a:pt x="9940" y="14938"/>
                  <a:pt x="10232" y="15027"/>
                  <a:pt x="10269" y="15230"/>
                </a:cubicBezTo>
                <a:cubicBezTo>
                  <a:pt x="10253" y="15230"/>
                  <a:pt x="10236" y="15230"/>
                  <a:pt x="10220" y="15230"/>
                </a:cubicBezTo>
                <a:cubicBezTo>
                  <a:pt x="10016" y="15078"/>
                  <a:pt x="10184" y="14959"/>
                  <a:pt x="10344" y="14784"/>
                </a:cubicBezTo>
                <a:cubicBezTo>
                  <a:pt x="10352" y="14776"/>
                  <a:pt x="10360" y="14767"/>
                  <a:pt x="10368" y="14759"/>
                </a:cubicBezTo>
              </a:path>
              <a:path w="2035" h="3648">
                <a:moveTo>
                  <a:pt x="9079" y="15553"/>
                </a:moveTo>
                <a:cubicBezTo>
                  <a:pt x="9533" y="15521"/>
                  <a:pt x="10570" y="15256"/>
                  <a:pt x="10988" y="15478"/>
                </a:cubicBezTo>
                <a:cubicBezTo>
                  <a:pt x="10942" y="15478"/>
                  <a:pt x="10916" y="15490"/>
                  <a:pt x="10889" y="15528"/>
                </a:cubicBezTo>
              </a:path>
              <a:path w="2035" h="3648">
                <a:moveTo>
                  <a:pt x="10244" y="15677"/>
                </a:moveTo>
                <a:cubicBezTo>
                  <a:pt x="10391" y="15656"/>
                  <a:pt x="10479" y="15650"/>
                  <a:pt x="10616" y="15701"/>
                </a:cubicBezTo>
                <a:cubicBezTo>
                  <a:pt x="10509" y="15816"/>
                  <a:pt x="10441" y="15868"/>
                  <a:pt x="10294" y="15925"/>
                </a:cubicBezTo>
                <a:cubicBezTo>
                  <a:pt x="10458" y="15945"/>
                  <a:pt x="10570" y="15979"/>
                  <a:pt x="10691" y="16073"/>
                </a:cubicBezTo>
                <a:cubicBezTo>
                  <a:pt x="10478" y="16191"/>
                  <a:pt x="10373" y="16234"/>
                  <a:pt x="10170" y="16098"/>
                </a:cubicBezTo>
              </a:path>
              <a:path w="2035" h="3648">
                <a:moveTo>
                  <a:pt x="9723" y="12923"/>
                </a:moveTo>
                <a:cubicBezTo>
                  <a:pt x="9723" y="13050"/>
                  <a:pt x="9744" y="13249"/>
                  <a:pt x="9699" y="13370"/>
                </a:cubicBezTo>
                <a:cubicBezTo>
                  <a:pt x="9691" y="13370"/>
                  <a:pt x="9682" y="13370"/>
                  <a:pt x="9674" y="13370"/>
                </a:cubicBezTo>
              </a:path>
              <a:path w="2035" h="3648">
                <a:moveTo>
                  <a:pt x="8979" y="15875"/>
                </a:moveTo>
                <a:cubicBezTo>
                  <a:pt x="9002" y="16079"/>
                  <a:pt x="9011" y="16265"/>
                  <a:pt x="8979" y="16470"/>
                </a:cubicBezTo>
                <a:cubicBezTo>
                  <a:pt x="8960" y="16545"/>
                  <a:pt x="8952" y="16604"/>
                  <a:pt x="8954" y="165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27240" y="5276880"/>
            <a:ext cx="438120" cy="652320"/>
          </a:xfrm>
          <a:custGeom>
            <a:avLst/>
            <a:gdLst/>
            <a:ahLst/>
            <a:rect l="l" t="t" r="r" b="b"/>
            <a:pathLst>
              <a:path w="1216" h="1811">
                <a:moveTo>
                  <a:pt x="8657" y="14660"/>
                </a:moveTo>
                <a:cubicBezTo>
                  <a:pt x="8650" y="14870"/>
                  <a:pt x="8670" y="15074"/>
                  <a:pt x="8533" y="15230"/>
                </a:cubicBezTo>
              </a:path>
              <a:path w="1216" h="1811">
                <a:moveTo>
                  <a:pt x="8409" y="14982"/>
                </a:moveTo>
                <a:cubicBezTo>
                  <a:pt x="8667" y="14955"/>
                  <a:pt x="8921" y="14923"/>
                  <a:pt x="9178" y="14908"/>
                </a:cubicBezTo>
              </a:path>
              <a:path w="1216" h="1811">
                <a:moveTo>
                  <a:pt x="9178" y="14908"/>
                </a:moveTo>
                <a:lnTo>
                  <a:pt x="9178" y="14908"/>
                </a:lnTo>
              </a:path>
              <a:path w="1216" h="1811">
                <a:moveTo>
                  <a:pt x="9550" y="15850"/>
                </a:moveTo>
                <a:cubicBezTo>
                  <a:pt x="9597" y="16038"/>
                  <a:pt x="9606" y="16229"/>
                  <a:pt x="9624" y="16421"/>
                </a:cubicBezTo>
                <a:cubicBezTo>
                  <a:pt x="9624" y="16437"/>
                  <a:pt x="9624" y="16454"/>
                  <a:pt x="9624" y="164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89240" y="5599080"/>
            <a:ext cx="652680" cy="322200"/>
          </a:xfrm>
          <a:custGeom>
            <a:avLst/>
            <a:gdLst/>
            <a:ahLst/>
            <a:rect l="l" t="t" r="r" b="b"/>
            <a:pathLst>
              <a:path w="1811" h="894">
                <a:moveTo>
                  <a:pt x="11534" y="15949"/>
                </a:moveTo>
                <a:cubicBezTo>
                  <a:pt x="11568" y="15960"/>
                  <a:pt x="11568" y="15997"/>
                  <a:pt x="11584" y="15949"/>
                </a:cubicBezTo>
                <a:cubicBezTo>
                  <a:pt x="11444" y="16089"/>
                  <a:pt x="11410" y="16207"/>
                  <a:pt x="11361" y="16396"/>
                </a:cubicBezTo>
                <a:cubicBezTo>
                  <a:pt x="11643" y="16448"/>
                  <a:pt x="11599" y="16415"/>
                  <a:pt x="11807" y="16197"/>
                </a:cubicBezTo>
              </a:path>
              <a:path w="1811" h="894">
                <a:moveTo>
                  <a:pt x="11931" y="16098"/>
                </a:moveTo>
                <a:cubicBezTo>
                  <a:pt x="11926" y="16206"/>
                  <a:pt x="11919" y="16290"/>
                  <a:pt x="11906" y="16396"/>
                </a:cubicBezTo>
                <a:cubicBezTo>
                  <a:pt x="11906" y="16261"/>
                  <a:pt x="11902" y="16067"/>
                  <a:pt x="12055" y="15999"/>
                </a:cubicBezTo>
                <a:cubicBezTo>
                  <a:pt x="12187" y="15940"/>
                  <a:pt x="12217" y="16252"/>
                  <a:pt x="12229" y="16297"/>
                </a:cubicBezTo>
                <a:cubicBezTo>
                  <a:pt x="12229" y="16305"/>
                  <a:pt x="12229" y="16313"/>
                  <a:pt x="12229" y="16321"/>
                </a:cubicBezTo>
                <a:cubicBezTo>
                  <a:pt x="12229" y="16224"/>
                  <a:pt x="12226" y="15998"/>
                  <a:pt x="12353" y="15974"/>
                </a:cubicBezTo>
                <a:cubicBezTo>
                  <a:pt x="12520" y="15942"/>
                  <a:pt x="12526" y="16225"/>
                  <a:pt x="12526" y="16321"/>
                </a:cubicBezTo>
                <a:cubicBezTo>
                  <a:pt x="12526" y="16217"/>
                  <a:pt x="12545" y="16150"/>
                  <a:pt x="12601" y="16073"/>
                </a:cubicBezTo>
              </a:path>
              <a:path w="1811" h="894">
                <a:moveTo>
                  <a:pt x="12675" y="15553"/>
                </a:moveTo>
                <a:cubicBezTo>
                  <a:pt x="12726" y="15556"/>
                  <a:pt x="13034" y="15540"/>
                  <a:pt x="12874" y="15701"/>
                </a:cubicBezTo>
                <a:cubicBezTo>
                  <a:pt x="12833" y="15726"/>
                  <a:pt x="12791" y="15751"/>
                  <a:pt x="12750" y="15776"/>
                </a:cubicBezTo>
                <a:cubicBezTo>
                  <a:pt x="12686" y="15901"/>
                  <a:pt x="13080" y="15768"/>
                  <a:pt x="13171" y="157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19240" y="5510160"/>
            <a:ext cx="2028960" cy="687600"/>
          </a:xfrm>
          <a:custGeom>
            <a:avLst/>
            <a:gdLst/>
            <a:ahLst/>
            <a:rect l="l" t="t" r="r" b="b"/>
            <a:pathLst>
              <a:path w="5632" h="1911">
                <a:moveTo>
                  <a:pt x="8582" y="17214"/>
                </a:moveTo>
                <a:cubicBezTo>
                  <a:pt x="8974" y="17107"/>
                  <a:pt x="9367" y="17029"/>
                  <a:pt x="9773" y="16991"/>
                </a:cubicBezTo>
                <a:cubicBezTo>
                  <a:pt x="10342" y="16937"/>
                  <a:pt x="10915" y="16920"/>
                  <a:pt x="11485" y="16892"/>
                </a:cubicBezTo>
                <a:cubicBezTo>
                  <a:pt x="11880" y="16873"/>
                  <a:pt x="12241" y="16816"/>
                  <a:pt x="12626" y="16743"/>
                </a:cubicBezTo>
                <a:cubicBezTo>
                  <a:pt x="12862" y="16698"/>
                  <a:pt x="13018" y="16627"/>
                  <a:pt x="13221" y="16495"/>
                </a:cubicBezTo>
                <a:cubicBezTo>
                  <a:pt x="13425" y="16363"/>
                  <a:pt x="13772" y="16055"/>
                  <a:pt x="13742" y="15776"/>
                </a:cubicBezTo>
                <a:cubicBezTo>
                  <a:pt x="13730" y="15660"/>
                  <a:pt x="13605" y="15566"/>
                  <a:pt x="13519" y="15503"/>
                </a:cubicBezTo>
                <a:cubicBezTo>
                  <a:pt x="13378" y="15400"/>
                  <a:pt x="13220" y="15365"/>
                  <a:pt x="13047" y="15354"/>
                </a:cubicBezTo>
                <a:cubicBezTo>
                  <a:pt x="12831" y="15340"/>
                  <a:pt x="12619" y="15329"/>
                  <a:pt x="12402" y="15329"/>
                </a:cubicBezTo>
                <a:cubicBezTo>
                  <a:pt x="12203" y="15329"/>
                  <a:pt x="12008" y="15304"/>
                  <a:pt x="11807" y="15304"/>
                </a:cubicBezTo>
                <a:cubicBezTo>
                  <a:pt x="11541" y="15304"/>
                  <a:pt x="11272" y="15292"/>
                  <a:pt x="11013" y="15329"/>
                </a:cubicBezTo>
                <a:cubicBezTo>
                  <a:pt x="10893" y="15346"/>
                  <a:pt x="10762" y="15370"/>
                  <a:pt x="10641" y="15379"/>
                </a:cubicBezTo>
                <a:cubicBezTo>
                  <a:pt x="10447" y="15393"/>
                  <a:pt x="10265" y="15399"/>
                  <a:pt x="10071" y="15429"/>
                </a:cubicBezTo>
                <a:cubicBezTo>
                  <a:pt x="9796" y="15472"/>
                  <a:pt x="9524" y="15525"/>
                  <a:pt x="9252" y="15577"/>
                </a:cubicBezTo>
                <a:cubicBezTo>
                  <a:pt x="9043" y="15617"/>
                  <a:pt x="8831" y="15651"/>
                  <a:pt x="8632" y="15726"/>
                </a:cubicBezTo>
                <a:cubicBezTo>
                  <a:pt x="8458" y="15792"/>
                  <a:pt x="8358" y="15892"/>
                  <a:pt x="8260" y="16049"/>
                </a:cubicBezTo>
                <a:cubicBezTo>
                  <a:pt x="8197" y="16149"/>
                  <a:pt x="8101" y="16295"/>
                  <a:pt x="8111" y="16421"/>
                </a:cubicBezTo>
                <a:cubicBezTo>
                  <a:pt x="8123" y="16572"/>
                  <a:pt x="8261" y="16700"/>
                  <a:pt x="8359" y="16793"/>
                </a:cubicBezTo>
                <a:cubicBezTo>
                  <a:pt x="8435" y="16865"/>
                  <a:pt x="8583" y="16927"/>
                  <a:pt x="8682" y="16942"/>
                </a:cubicBezTo>
                <a:cubicBezTo>
                  <a:pt x="8865" y="16969"/>
                  <a:pt x="9090" y="17004"/>
                  <a:pt x="9277" y="16991"/>
                </a:cubicBezTo>
                <a:cubicBezTo>
                  <a:pt x="9360" y="16985"/>
                  <a:pt x="9442" y="16975"/>
                  <a:pt x="9525" y="169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is composite fig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2971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29718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29718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4952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486040" y="4952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1911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4864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4114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3800" y="2590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64160" y="4952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59040" y="4952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9920" y="3733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76720" y="4303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54760" y="2830680"/>
            <a:ext cx="2438280" cy="777600"/>
          </a:xfrm>
          <a:custGeom>
            <a:avLst/>
            <a:gdLst/>
            <a:ahLst/>
            <a:rect l="l" t="t" r="r" b="b"/>
            <a:pathLst>
              <a:path w="6773" h="2159">
                <a:moveTo>
                  <a:pt x="17959" y="8161"/>
                </a:moveTo>
                <a:cubicBezTo>
                  <a:pt x="18090" y="8108"/>
                  <a:pt x="18138" y="8089"/>
                  <a:pt x="18231" y="8062"/>
                </a:cubicBezTo>
              </a:path>
              <a:path w="6773" h="2159">
                <a:moveTo>
                  <a:pt x="19546" y="7913"/>
                </a:moveTo>
                <a:cubicBezTo>
                  <a:pt x="19679" y="7872"/>
                  <a:pt x="19770" y="7798"/>
                  <a:pt x="19769" y="7938"/>
                </a:cubicBezTo>
              </a:path>
              <a:path w="6773" h="2159">
                <a:moveTo>
                  <a:pt x="19968" y="7987"/>
                </a:moveTo>
                <a:lnTo>
                  <a:pt x="19968" y="7987"/>
                </a:lnTo>
              </a:path>
              <a:path w="6773" h="2159">
                <a:moveTo>
                  <a:pt x="20786" y="7938"/>
                </a:moveTo>
                <a:cubicBezTo>
                  <a:pt x="20786" y="7966"/>
                  <a:pt x="20789" y="7976"/>
                  <a:pt x="20811" y="7987"/>
                </a:cubicBezTo>
              </a:path>
              <a:path w="6773" h="2159">
                <a:moveTo>
                  <a:pt x="20811" y="7987"/>
                </a:moveTo>
                <a:lnTo>
                  <a:pt x="20811" y="7987"/>
                </a:lnTo>
              </a:path>
              <a:path w="6773" h="2159">
                <a:moveTo>
                  <a:pt x="14039" y="10021"/>
                </a:moveTo>
                <a:cubicBezTo>
                  <a:pt x="14213" y="9983"/>
                  <a:pt x="14384" y="9953"/>
                  <a:pt x="14560" y="9922"/>
                </a:cubicBezTo>
              </a:path>
              <a:path w="6773" h="2159">
                <a:moveTo>
                  <a:pt x="14412" y="9847"/>
                </a:moveTo>
                <a:cubicBezTo>
                  <a:pt x="14579" y="9834"/>
                  <a:pt x="14699" y="9806"/>
                  <a:pt x="14858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40080" y="2938320"/>
            <a:ext cx="2554200" cy="2035440"/>
          </a:xfrm>
          <a:custGeom>
            <a:avLst/>
            <a:gdLst/>
            <a:ahLst/>
            <a:rect l="l" t="t" r="r" b="b"/>
            <a:pathLst>
              <a:path w="7095" h="5656">
                <a:moveTo>
                  <a:pt x="9798" y="11336"/>
                </a:moveTo>
                <a:cubicBezTo>
                  <a:pt x="9889" y="11336"/>
                  <a:pt x="9797" y="11349"/>
                  <a:pt x="9922" y="11336"/>
                </a:cubicBezTo>
                <a:cubicBezTo>
                  <a:pt x="9971" y="11331"/>
                  <a:pt x="10047" y="11350"/>
                  <a:pt x="10096" y="11361"/>
                </a:cubicBezTo>
                <a:cubicBezTo>
                  <a:pt x="10154" y="11374"/>
                  <a:pt x="10199" y="11354"/>
                  <a:pt x="10244" y="11361"/>
                </a:cubicBezTo>
                <a:cubicBezTo>
                  <a:pt x="10308" y="11371"/>
                  <a:pt x="10347" y="11365"/>
                  <a:pt x="10418" y="11361"/>
                </a:cubicBezTo>
                <a:cubicBezTo>
                  <a:pt x="10475" y="11358"/>
                  <a:pt x="10516" y="11354"/>
                  <a:pt x="10567" y="11336"/>
                </a:cubicBezTo>
                <a:cubicBezTo>
                  <a:pt x="10620" y="11317"/>
                  <a:pt x="10665" y="11325"/>
                  <a:pt x="10716" y="11311"/>
                </a:cubicBezTo>
                <a:cubicBezTo>
                  <a:pt x="10779" y="11293"/>
                  <a:pt x="10796" y="11286"/>
                  <a:pt x="10864" y="11286"/>
                </a:cubicBezTo>
                <a:cubicBezTo>
                  <a:pt x="10959" y="11286"/>
                  <a:pt x="11113" y="11254"/>
                  <a:pt x="11187" y="11261"/>
                </a:cubicBezTo>
                <a:cubicBezTo>
                  <a:pt x="11248" y="11267"/>
                  <a:pt x="11295" y="11286"/>
                  <a:pt x="11361" y="11286"/>
                </a:cubicBezTo>
                <a:cubicBezTo>
                  <a:pt x="11386" y="11286"/>
                  <a:pt x="11605" y="11277"/>
                  <a:pt x="11584" y="11311"/>
                </a:cubicBezTo>
                <a:cubicBezTo>
                  <a:pt x="11543" y="11331"/>
                  <a:pt x="11537" y="11340"/>
                  <a:pt x="11509" y="11336"/>
                </a:cubicBezTo>
                <a:cubicBezTo>
                  <a:pt x="11592" y="11336"/>
                  <a:pt x="11674" y="11336"/>
                  <a:pt x="11757" y="11336"/>
                </a:cubicBezTo>
              </a:path>
              <a:path w="7095" h="5656">
                <a:moveTo>
                  <a:pt x="9922" y="8161"/>
                </a:moveTo>
                <a:cubicBezTo>
                  <a:pt x="9939" y="8200"/>
                  <a:pt x="9963" y="8237"/>
                  <a:pt x="9971" y="8310"/>
                </a:cubicBezTo>
                <a:cubicBezTo>
                  <a:pt x="9978" y="8372"/>
                  <a:pt x="9985" y="8423"/>
                  <a:pt x="9996" y="8483"/>
                </a:cubicBezTo>
                <a:cubicBezTo>
                  <a:pt x="10009" y="8556"/>
                  <a:pt x="10030" y="8633"/>
                  <a:pt x="10046" y="8706"/>
                </a:cubicBezTo>
                <a:cubicBezTo>
                  <a:pt x="10060" y="8769"/>
                  <a:pt x="10069" y="8810"/>
                  <a:pt x="10071" y="8880"/>
                </a:cubicBezTo>
                <a:cubicBezTo>
                  <a:pt x="10073" y="8952"/>
                  <a:pt x="10050" y="9015"/>
                  <a:pt x="10046" y="9079"/>
                </a:cubicBezTo>
                <a:cubicBezTo>
                  <a:pt x="10038" y="9193"/>
                  <a:pt x="10029" y="9326"/>
                  <a:pt x="10021" y="9426"/>
                </a:cubicBezTo>
                <a:cubicBezTo>
                  <a:pt x="10011" y="9543"/>
                  <a:pt x="10039" y="9673"/>
                  <a:pt x="10046" y="9773"/>
                </a:cubicBezTo>
                <a:cubicBezTo>
                  <a:pt x="10057" y="9937"/>
                  <a:pt x="10060" y="10111"/>
                  <a:pt x="10071" y="10269"/>
                </a:cubicBezTo>
                <a:cubicBezTo>
                  <a:pt x="10080" y="10400"/>
                  <a:pt x="10054" y="10514"/>
                  <a:pt x="10046" y="10641"/>
                </a:cubicBezTo>
                <a:cubicBezTo>
                  <a:pt x="10039" y="10767"/>
                  <a:pt x="10031" y="10890"/>
                  <a:pt x="10021" y="11013"/>
                </a:cubicBezTo>
                <a:cubicBezTo>
                  <a:pt x="10005" y="11200"/>
                  <a:pt x="10009" y="11403"/>
                  <a:pt x="9996" y="11584"/>
                </a:cubicBezTo>
                <a:cubicBezTo>
                  <a:pt x="9987" y="11705"/>
                  <a:pt x="9977" y="11841"/>
                  <a:pt x="9971" y="11956"/>
                </a:cubicBezTo>
                <a:cubicBezTo>
                  <a:pt x="9959" y="12179"/>
                  <a:pt x="9961" y="12405"/>
                  <a:pt x="9947" y="12626"/>
                </a:cubicBezTo>
                <a:cubicBezTo>
                  <a:pt x="9940" y="12739"/>
                  <a:pt x="9964" y="12839"/>
                  <a:pt x="9971" y="12948"/>
                </a:cubicBezTo>
                <a:cubicBezTo>
                  <a:pt x="9985" y="13149"/>
                  <a:pt x="10005" y="13403"/>
                  <a:pt x="9996" y="13593"/>
                </a:cubicBezTo>
                <a:cubicBezTo>
                  <a:pt x="9994" y="13640"/>
                  <a:pt x="9968" y="13680"/>
                  <a:pt x="9971" y="13717"/>
                </a:cubicBezTo>
                <a:cubicBezTo>
                  <a:pt x="9973" y="13739"/>
                  <a:pt x="9993" y="13787"/>
                  <a:pt x="9996" y="13816"/>
                </a:cubicBezTo>
              </a:path>
              <a:path w="7095" h="5656">
                <a:moveTo>
                  <a:pt x="9550" y="12328"/>
                </a:moveTo>
                <a:cubicBezTo>
                  <a:pt x="9482" y="12379"/>
                  <a:pt x="9402" y="12324"/>
                  <a:pt x="9327" y="12353"/>
                </a:cubicBezTo>
                <a:cubicBezTo>
                  <a:pt x="9303" y="12362"/>
                  <a:pt x="9373" y="12500"/>
                  <a:pt x="9376" y="12526"/>
                </a:cubicBezTo>
                <a:cubicBezTo>
                  <a:pt x="9376" y="12543"/>
                  <a:pt x="9376" y="12559"/>
                  <a:pt x="9376" y="12576"/>
                </a:cubicBezTo>
                <a:cubicBezTo>
                  <a:pt x="9451" y="12516"/>
                  <a:pt x="9556" y="12475"/>
                  <a:pt x="9599" y="12601"/>
                </a:cubicBezTo>
                <a:cubicBezTo>
                  <a:pt x="9651" y="12753"/>
                  <a:pt x="9494" y="12824"/>
                  <a:pt x="9376" y="12824"/>
                </a:cubicBezTo>
              </a:path>
              <a:path w="7095" h="5656">
                <a:moveTo>
                  <a:pt x="9302" y="9401"/>
                </a:moveTo>
                <a:cubicBezTo>
                  <a:pt x="9302" y="9520"/>
                  <a:pt x="9265" y="9630"/>
                  <a:pt x="9277" y="9748"/>
                </a:cubicBezTo>
                <a:cubicBezTo>
                  <a:pt x="9286" y="9833"/>
                  <a:pt x="9348" y="9947"/>
                  <a:pt x="9451" y="9947"/>
                </a:cubicBezTo>
                <a:cubicBezTo>
                  <a:pt x="9561" y="9947"/>
                  <a:pt x="9631" y="9857"/>
                  <a:pt x="9674" y="9773"/>
                </a:cubicBezTo>
                <a:cubicBezTo>
                  <a:pt x="9701" y="9719"/>
                  <a:pt x="9734" y="9587"/>
                  <a:pt x="9649" y="9575"/>
                </a:cubicBezTo>
                <a:cubicBezTo>
                  <a:pt x="9632" y="9575"/>
                  <a:pt x="9616" y="9575"/>
                  <a:pt x="9599" y="9575"/>
                </a:cubicBezTo>
                <a:cubicBezTo>
                  <a:pt x="9551" y="9591"/>
                  <a:pt x="9536" y="9713"/>
                  <a:pt x="9550" y="9773"/>
                </a:cubicBezTo>
                <a:cubicBezTo>
                  <a:pt x="9557" y="9802"/>
                  <a:pt x="9592" y="9835"/>
                  <a:pt x="9599" y="9872"/>
                </a:cubicBezTo>
              </a:path>
              <a:path w="7095" h="5656">
                <a:moveTo>
                  <a:pt x="13022" y="9575"/>
                </a:moveTo>
                <a:cubicBezTo>
                  <a:pt x="12791" y="9575"/>
                  <a:pt x="12758" y="9626"/>
                  <a:pt x="12576" y="9773"/>
                </a:cubicBezTo>
                <a:cubicBezTo>
                  <a:pt x="12622" y="9994"/>
                  <a:pt x="12855" y="10077"/>
                  <a:pt x="13047" y="10269"/>
                </a:cubicBezTo>
                <a:cubicBezTo>
                  <a:pt x="12852" y="10418"/>
                  <a:pt x="12596" y="10466"/>
                  <a:pt x="12774" y="10096"/>
                </a:cubicBezTo>
                <a:cubicBezTo>
                  <a:pt x="12843" y="9952"/>
                  <a:pt x="12955" y="9864"/>
                  <a:pt x="12998" y="9723"/>
                </a:cubicBezTo>
              </a:path>
              <a:path w="7095" h="5656">
                <a:moveTo>
                  <a:pt x="13097" y="9599"/>
                </a:moveTo>
                <a:cubicBezTo>
                  <a:pt x="13130" y="9783"/>
                  <a:pt x="13115" y="9922"/>
                  <a:pt x="13271" y="10021"/>
                </a:cubicBezTo>
                <a:cubicBezTo>
                  <a:pt x="13430" y="9808"/>
                  <a:pt x="13467" y="9668"/>
                  <a:pt x="13444" y="9401"/>
                </a:cubicBezTo>
                <a:cubicBezTo>
                  <a:pt x="13458" y="9714"/>
                  <a:pt x="13501" y="10032"/>
                  <a:pt x="13444" y="10344"/>
                </a:cubicBezTo>
                <a:cubicBezTo>
                  <a:pt x="13436" y="10352"/>
                  <a:pt x="13427" y="10360"/>
                  <a:pt x="13419" y="10368"/>
                </a:cubicBezTo>
              </a:path>
              <a:path w="7095" h="5656">
                <a:moveTo>
                  <a:pt x="14387" y="9599"/>
                </a:moveTo>
                <a:cubicBezTo>
                  <a:pt x="14451" y="9536"/>
                  <a:pt x="14380" y="9381"/>
                  <a:pt x="14312" y="9302"/>
                </a:cubicBezTo>
                <a:cubicBezTo>
                  <a:pt x="14304" y="9302"/>
                  <a:pt x="14296" y="9302"/>
                  <a:pt x="14288" y="9302"/>
                </a:cubicBezTo>
                <a:cubicBezTo>
                  <a:pt x="14121" y="9467"/>
                  <a:pt x="14187" y="9772"/>
                  <a:pt x="14213" y="10021"/>
                </a:cubicBezTo>
                <a:cubicBezTo>
                  <a:pt x="14216" y="10054"/>
                  <a:pt x="14218" y="10279"/>
                  <a:pt x="14263" y="10294"/>
                </a:cubicBezTo>
              </a:path>
              <a:path w="7095" h="5656">
                <a:moveTo>
                  <a:pt x="14709" y="9302"/>
                </a:moveTo>
                <a:cubicBezTo>
                  <a:pt x="14673" y="9560"/>
                  <a:pt x="14653" y="9833"/>
                  <a:pt x="14635" y="10096"/>
                </a:cubicBezTo>
                <a:cubicBezTo>
                  <a:pt x="14635" y="10137"/>
                  <a:pt x="14635" y="10179"/>
                  <a:pt x="14635" y="10220"/>
                </a:cubicBezTo>
                <a:cubicBezTo>
                  <a:pt x="14729" y="10237"/>
                  <a:pt x="14908" y="10241"/>
                  <a:pt x="14982" y="10145"/>
                </a:cubicBezTo>
                <a:cubicBezTo>
                  <a:pt x="14982" y="10129"/>
                  <a:pt x="14982" y="10112"/>
                  <a:pt x="14982" y="10096"/>
                </a:cubicBezTo>
              </a:path>
              <a:path w="7095" h="5656">
                <a:moveTo>
                  <a:pt x="15156" y="9227"/>
                </a:moveTo>
                <a:cubicBezTo>
                  <a:pt x="15226" y="9197"/>
                  <a:pt x="15527" y="9099"/>
                  <a:pt x="15478" y="9302"/>
                </a:cubicBezTo>
                <a:cubicBezTo>
                  <a:pt x="15456" y="9395"/>
                  <a:pt x="15321" y="9465"/>
                  <a:pt x="15255" y="9525"/>
                </a:cubicBezTo>
                <a:cubicBezTo>
                  <a:pt x="15384" y="9512"/>
                  <a:pt x="15539" y="9477"/>
                  <a:pt x="15652" y="9500"/>
                </a:cubicBezTo>
              </a:path>
              <a:path w="7095" h="5656">
                <a:moveTo>
                  <a:pt x="12452" y="10492"/>
                </a:moveTo>
                <a:cubicBezTo>
                  <a:pt x="12752" y="10539"/>
                  <a:pt x="13011" y="10563"/>
                  <a:pt x="13320" y="10567"/>
                </a:cubicBezTo>
                <a:cubicBezTo>
                  <a:pt x="14056" y="10576"/>
                  <a:pt x="14754" y="10511"/>
                  <a:pt x="15453" y="10269"/>
                </a:cubicBezTo>
                <a:cubicBezTo>
                  <a:pt x="15910" y="10111"/>
                  <a:pt x="16202" y="9937"/>
                  <a:pt x="16371" y="9500"/>
                </a:cubicBezTo>
                <a:cubicBezTo>
                  <a:pt x="16192" y="9130"/>
                  <a:pt x="15909" y="9045"/>
                  <a:pt x="15503" y="8930"/>
                </a:cubicBezTo>
                <a:cubicBezTo>
                  <a:pt x="14759" y="8718"/>
                  <a:pt x="13854" y="8625"/>
                  <a:pt x="13097" y="8806"/>
                </a:cubicBezTo>
                <a:cubicBezTo>
                  <a:pt x="12207" y="9019"/>
                  <a:pt x="11716" y="9576"/>
                  <a:pt x="11286" y="10319"/>
                </a:cubicBezTo>
                <a:cubicBezTo>
                  <a:pt x="11865" y="10713"/>
                  <a:pt x="12115" y="10635"/>
                  <a:pt x="12874" y="106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19880" y="2678040"/>
            <a:ext cx="1438200" cy="679680"/>
          </a:xfrm>
          <a:custGeom>
            <a:avLst/>
            <a:gdLst/>
            <a:ahLst/>
            <a:rect l="l" t="t" r="r" b="b"/>
            <a:pathLst>
              <a:path w="3994" h="1887">
                <a:moveTo>
                  <a:pt x="17959" y="7863"/>
                </a:moveTo>
                <a:cubicBezTo>
                  <a:pt x="17938" y="8027"/>
                  <a:pt x="17889" y="8178"/>
                  <a:pt x="17835" y="8334"/>
                </a:cubicBezTo>
                <a:cubicBezTo>
                  <a:pt x="17944" y="8137"/>
                  <a:pt x="18010" y="7898"/>
                  <a:pt x="18107" y="7689"/>
                </a:cubicBezTo>
                <a:cubicBezTo>
                  <a:pt x="18161" y="7583"/>
                  <a:pt x="18139" y="7534"/>
                  <a:pt x="18207" y="7541"/>
                </a:cubicBezTo>
                <a:cubicBezTo>
                  <a:pt x="18269" y="7826"/>
                  <a:pt x="18283" y="8069"/>
                  <a:pt x="18256" y="8359"/>
                </a:cubicBezTo>
                <a:cubicBezTo>
                  <a:pt x="18256" y="8409"/>
                  <a:pt x="18256" y="8392"/>
                  <a:pt x="18256" y="8285"/>
                </a:cubicBezTo>
              </a:path>
              <a:path w="3994" h="1887">
                <a:moveTo>
                  <a:pt x="18529" y="8310"/>
                </a:moveTo>
                <a:cubicBezTo>
                  <a:pt x="18529" y="8417"/>
                  <a:pt x="18529" y="8525"/>
                  <a:pt x="18529" y="8632"/>
                </a:cubicBezTo>
                <a:cubicBezTo>
                  <a:pt x="18733" y="8581"/>
                  <a:pt x="18914" y="8559"/>
                  <a:pt x="19124" y="8533"/>
                </a:cubicBezTo>
                <a:cubicBezTo>
                  <a:pt x="19224" y="8521"/>
                  <a:pt x="19248" y="8548"/>
                  <a:pt x="19248" y="8483"/>
                </a:cubicBezTo>
                <a:cubicBezTo>
                  <a:pt x="19248" y="8372"/>
                  <a:pt x="19259" y="8294"/>
                  <a:pt x="19273" y="8186"/>
                </a:cubicBezTo>
                <a:cubicBezTo>
                  <a:pt x="19099" y="8186"/>
                  <a:pt x="18893" y="8236"/>
                  <a:pt x="18728" y="8285"/>
                </a:cubicBezTo>
                <a:cubicBezTo>
                  <a:pt x="18604" y="8321"/>
                  <a:pt x="18528" y="8313"/>
                  <a:pt x="18504" y="8409"/>
                </a:cubicBezTo>
              </a:path>
              <a:path w="3994" h="1887">
                <a:moveTo>
                  <a:pt x="19621" y="8111"/>
                </a:moveTo>
                <a:cubicBezTo>
                  <a:pt x="19733" y="8083"/>
                  <a:pt x="19860" y="8028"/>
                  <a:pt x="19968" y="7987"/>
                </a:cubicBezTo>
              </a:path>
              <a:path w="3994" h="1887">
                <a:moveTo>
                  <a:pt x="20489" y="7441"/>
                </a:moveTo>
                <a:cubicBezTo>
                  <a:pt x="20489" y="7537"/>
                  <a:pt x="20412" y="8145"/>
                  <a:pt x="20464" y="8186"/>
                </a:cubicBezTo>
                <a:cubicBezTo>
                  <a:pt x="20480" y="8169"/>
                  <a:pt x="20497" y="8153"/>
                  <a:pt x="20513" y="8136"/>
                </a:cubicBezTo>
              </a:path>
              <a:path w="3994" h="1887">
                <a:moveTo>
                  <a:pt x="21183" y="7590"/>
                </a:moveTo>
                <a:cubicBezTo>
                  <a:pt x="21187" y="7664"/>
                  <a:pt x="21186" y="7920"/>
                  <a:pt x="21233" y="7938"/>
                </a:cubicBezTo>
                <a:cubicBezTo>
                  <a:pt x="21365" y="7990"/>
                  <a:pt x="21440" y="7753"/>
                  <a:pt x="21481" y="7689"/>
                </a:cubicBezTo>
                <a:cubicBezTo>
                  <a:pt x="21489" y="7689"/>
                  <a:pt x="21498" y="7689"/>
                  <a:pt x="21506" y="7689"/>
                </a:cubicBezTo>
                <a:cubicBezTo>
                  <a:pt x="21491" y="7808"/>
                  <a:pt x="21456" y="7961"/>
                  <a:pt x="21654" y="7863"/>
                </a:cubicBezTo>
                <a:cubicBezTo>
                  <a:pt x="21879" y="7751"/>
                  <a:pt x="21879" y="7566"/>
                  <a:pt x="21679" y="7516"/>
                </a:cubicBezTo>
              </a:path>
              <a:path w="3994" h="1887">
                <a:moveTo>
                  <a:pt x="20216" y="8731"/>
                </a:moveTo>
                <a:cubicBezTo>
                  <a:pt x="20267" y="8817"/>
                  <a:pt x="20245" y="8880"/>
                  <a:pt x="20241" y="8979"/>
                </a:cubicBezTo>
                <a:cubicBezTo>
                  <a:pt x="20237" y="9083"/>
                  <a:pt x="20125" y="9357"/>
                  <a:pt x="20191" y="9277"/>
                </a:cubicBezTo>
                <a:cubicBezTo>
                  <a:pt x="20208" y="9252"/>
                  <a:pt x="20224" y="9228"/>
                  <a:pt x="20241" y="9203"/>
                </a:cubicBezTo>
              </a:path>
              <a:path w="3994" h="1887">
                <a:moveTo>
                  <a:pt x="20489" y="8830"/>
                </a:moveTo>
                <a:cubicBezTo>
                  <a:pt x="20465" y="8903"/>
                  <a:pt x="20456" y="8927"/>
                  <a:pt x="20464" y="8979"/>
                </a:cubicBezTo>
                <a:cubicBezTo>
                  <a:pt x="20542" y="8990"/>
                  <a:pt x="20666" y="9000"/>
                  <a:pt x="20737" y="9029"/>
                </a:cubicBezTo>
                <a:cubicBezTo>
                  <a:pt x="20797" y="9053"/>
                  <a:pt x="20761" y="9080"/>
                  <a:pt x="20811" y="9004"/>
                </a:cubicBezTo>
              </a:path>
              <a:path w="3994" h="1887">
                <a:moveTo>
                  <a:pt x="20786" y="8582"/>
                </a:moveTo>
                <a:cubicBezTo>
                  <a:pt x="20764" y="8809"/>
                  <a:pt x="20797" y="9053"/>
                  <a:pt x="20762" y="9277"/>
                </a:cubicBezTo>
                <a:cubicBezTo>
                  <a:pt x="20754" y="9294"/>
                  <a:pt x="20745" y="9310"/>
                  <a:pt x="20737" y="93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251920" y="1928880"/>
            <a:ext cx="241200" cy="1027080"/>
          </a:xfrm>
          <a:custGeom>
            <a:avLst/>
            <a:gdLst/>
            <a:ahLst/>
            <a:rect l="l" t="t" r="r" b="b"/>
            <a:pathLst>
              <a:path w="670" h="2853">
                <a:moveTo>
                  <a:pt x="23044" y="5383"/>
                </a:moveTo>
                <a:cubicBezTo>
                  <a:pt x="23078" y="5331"/>
                  <a:pt x="23134" y="5368"/>
                  <a:pt x="23217" y="5383"/>
                </a:cubicBezTo>
                <a:cubicBezTo>
                  <a:pt x="23252" y="5540"/>
                  <a:pt x="23216" y="5862"/>
                  <a:pt x="22944" y="5804"/>
                </a:cubicBezTo>
                <a:cubicBezTo>
                  <a:pt x="22936" y="5779"/>
                  <a:pt x="22928" y="5755"/>
                  <a:pt x="22920" y="5730"/>
                </a:cubicBezTo>
                <a:cubicBezTo>
                  <a:pt x="23118" y="5601"/>
                  <a:pt x="23165" y="5801"/>
                  <a:pt x="23341" y="5730"/>
                </a:cubicBezTo>
                <a:cubicBezTo>
                  <a:pt x="23382" y="5697"/>
                  <a:pt x="23424" y="5664"/>
                  <a:pt x="23465" y="5631"/>
                </a:cubicBezTo>
              </a:path>
              <a:path w="670" h="2853">
                <a:moveTo>
                  <a:pt x="23564" y="7615"/>
                </a:moveTo>
                <a:cubicBezTo>
                  <a:pt x="23404" y="7696"/>
                  <a:pt x="23317" y="7724"/>
                  <a:pt x="23267" y="7888"/>
                </a:cubicBezTo>
                <a:cubicBezTo>
                  <a:pt x="23349" y="7929"/>
                  <a:pt x="23665" y="8026"/>
                  <a:pt x="23564" y="8161"/>
                </a:cubicBezTo>
                <a:cubicBezTo>
                  <a:pt x="23539" y="8177"/>
                  <a:pt x="23515" y="8194"/>
                  <a:pt x="23490" y="8210"/>
                </a:cubicBezTo>
                <a:cubicBezTo>
                  <a:pt x="23382" y="8103"/>
                  <a:pt x="23476" y="7882"/>
                  <a:pt x="23515" y="7739"/>
                </a:cubicBezTo>
                <a:cubicBezTo>
                  <a:pt x="23523" y="7714"/>
                  <a:pt x="23532" y="7690"/>
                  <a:pt x="23540" y="76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35800" y="2517840"/>
            <a:ext cx="1805040" cy="1812960"/>
          </a:xfrm>
          <a:custGeom>
            <a:avLst/>
            <a:gdLst/>
            <a:ahLst/>
            <a:rect l="l" t="t" r="r" b="b"/>
            <a:pathLst>
              <a:path w="5012" h="5036">
                <a:moveTo>
                  <a:pt x="21084" y="9128"/>
                </a:moveTo>
                <a:lnTo>
                  <a:pt x="21084" y="9128"/>
                </a:lnTo>
              </a:path>
              <a:path w="5012" h="5036">
                <a:moveTo>
                  <a:pt x="23044" y="6995"/>
                </a:moveTo>
                <a:cubicBezTo>
                  <a:pt x="23076" y="7077"/>
                  <a:pt x="23085" y="7054"/>
                  <a:pt x="23168" y="7069"/>
                </a:cubicBezTo>
              </a:path>
              <a:path w="5012" h="5036">
                <a:moveTo>
                  <a:pt x="19869" y="10195"/>
                </a:moveTo>
                <a:cubicBezTo>
                  <a:pt x="19976" y="10152"/>
                  <a:pt x="20000" y="10141"/>
                  <a:pt x="20067" y="10120"/>
                </a:cubicBezTo>
              </a:path>
              <a:path w="5012" h="5036">
                <a:moveTo>
                  <a:pt x="21183" y="9723"/>
                </a:moveTo>
                <a:cubicBezTo>
                  <a:pt x="21192" y="9817"/>
                  <a:pt x="21211" y="9904"/>
                  <a:pt x="21233" y="9996"/>
                </a:cubicBezTo>
                <a:cubicBezTo>
                  <a:pt x="21454" y="9965"/>
                  <a:pt x="21397" y="9952"/>
                  <a:pt x="21530" y="9748"/>
                </a:cubicBezTo>
              </a:path>
              <a:path w="5012" h="5036">
                <a:moveTo>
                  <a:pt x="18157" y="12030"/>
                </a:moveTo>
                <a:cubicBezTo>
                  <a:pt x="18306" y="12000"/>
                  <a:pt x="18373" y="11985"/>
                  <a:pt x="18479" y="119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15080" y="4276800"/>
            <a:ext cx="322200" cy="171360"/>
          </a:xfrm>
          <a:custGeom>
            <a:avLst/>
            <a:gdLst/>
            <a:ahLst/>
            <a:rect l="l" t="t" r="r" b="b"/>
            <a:pathLst>
              <a:path w="894" h="473">
                <a:moveTo>
                  <a:pt x="18752" y="12080"/>
                </a:moveTo>
                <a:cubicBezTo>
                  <a:pt x="18752" y="12229"/>
                  <a:pt x="18752" y="12262"/>
                  <a:pt x="18752" y="12353"/>
                </a:cubicBezTo>
                <a:cubicBezTo>
                  <a:pt x="18795" y="12224"/>
                  <a:pt x="18803" y="12234"/>
                  <a:pt x="18926" y="12254"/>
                </a:cubicBezTo>
                <a:cubicBezTo>
                  <a:pt x="18986" y="12264"/>
                  <a:pt x="19519" y="12309"/>
                  <a:pt x="19521" y="12303"/>
                </a:cubicBezTo>
                <a:cubicBezTo>
                  <a:pt x="19555" y="12171"/>
                  <a:pt x="19481" y="12027"/>
                  <a:pt x="19546" y="11881"/>
                </a:cubicBezTo>
                <a:cubicBezTo>
                  <a:pt x="19272" y="11904"/>
                  <a:pt x="18997" y="11947"/>
                  <a:pt x="18728" y="12005"/>
                </a:cubicBezTo>
                <a:cubicBezTo>
                  <a:pt x="18630" y="12038"/>
                  <a:pt x="18629" y="12042"/>
                  <a:pt x="18802" y="120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99200" y="3054240"/>
            <a:ext cx="758880" cy="660600"/>
          </a:xfrm>
          <a:custGeom>
            <a:avLst/>
            <a:gdLst/>
            <a:ahLst/>
            <a:rect l="l" t="t" r="r" b="b"/>
            <a:pathLst>
              <a:path w="2109" h="1837">
                <a:moveTo>
                  <a:pt x="21431" y="8483"/>
                </a:moveTo>
                <a:cubicBezTo>
                  <a:pt x="21413" y="8642"/>
                  <a:pt x="21354" y="8820"/>
                  <a:pt x="21357" y="8979"/>
                </a:cubicBezTo>
                <a:cubicBezTo>
                  <a:pt x="21361" y="9164"/>
                  <a:pt x="21498" y="9199"/>
                  <a:pt x="21654" y="9128"/>
                </a:cubicBezTo>
                <a:cubicBezTo>
                  <a:pt x="21770" y="9075"/>
                  <a:pt x="21787" y="8986"/>
                  <a:pt x="21828" y="8880"/>
                </a:cubicBezTo>
                <a:cubicBezTo>
                  <a:pt x="21674" y="8811"/>
                  <a:pt x="21670" y="8844"/>
                  <a:pt x="21605" y="9004"/>
                </a:cubicBezTo>
                <a:cubicBezTo>
                  <a:pt x="21583" y="9071"/>
                  <a:pt x="21571" y="9089"/>
                  <a:pt x="21605" y="9128"/>
                </a:cubicBezTo>
              </a:path>
              <a:path w="2109" h="1837">
                <a:moveTo>
                  <a:pt x="19720" y="9996"/>
                </a:moveTo>
                <a:cubicBezTo>
                  <a:pt x="19821" y="9981"/>
                  <a:pt x="19921" y="9957"/>
                  <a:pt x="20017" y="9922"/>
                </a:cubicBezTo>
              </a:path>
              <a:path w="2109" h="1837">
                <a:moveTo>
                  <a:pt x="20910" y="9674"/>
                </a:moveTo>
                <a:cubicBezTo>
                  <a:pt x="20762" y="9752"/>
                  <a:pt x="20447" y="9850"/>
                  <a:pt x="20638" y="10046"/>
                </a:cubicBezTo>
                <a:cubicBezTo>
                  <a:pt x="20740" y="10151"/>
                  <a:pt x="20831" y="10148"/>
                  <a:pt x="20886" y="10269"/>
                </a:cubicBezTo>
                <a:cubicBezTo>
                  <a:pt x="20853" y="10286"/>
                  <a:pt x="20819" y="10302"/>
                  <a:pt x="20786" y="10319"/>
                </a:cubicBezTo>
                <a:cubicBezTo>
                  <a:pt x="20681" y="10173"/>
                  <a:pt x="20767" y="10040"/>
                  <a:pt x="20910" y="9897"/>
                </a:cubicBezTo>
                <a:cubicBezTo>
                  <a:pt x="20918" y="9897"/>
                  <a:pt x="20927" y="9897"/>
                  <a:pt x="20935" y="9897"/>
                </a:cubicBezTo>
              </a:path>
              <a:path w="2109" h="1837">
                <a:moveTo>
                  <a:pt x="21431" y="9525"/>
                </a:moveTo>
                <a:cubicBezTo>
                  <a:pt x="21431" y="9752"/>
                  <a:pt x="21469" y="10038"/>
                  <a:pt x="21406" y="102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32840" y="2000160"/>
            <a:ext cx="554040" cy="731880"/>
          </a:xfrm>
          <a:custGeom>
            <a:avLst/>
            <a:gdLst/>
            <a:ahLst/>
            <a:rect l="l" t="t" r="r" b="b"/>
            <a:pathLst>
              <a:path w="1539" h="2035">
                <a:moveTo>
                  <a:pt x="23366" y="6028"/>
                </a:moveTo>
                <a:cubicBezTo>
                  <a:pt x="23323" y="6210"/>
                  <a:pt x="23346" y="6408"/>
                  <a:pt x="23316" y="6598"/>
                </a:cubicBezTo>
                <a:cubicBezTo>
                  <a:pt x="23316" y="6590"/>
                  <a:pt x="23316" y="6581"/>
                  <a:pt x="23316" y="6573"/>
                </a:cubicBezTo>
              </a:path>
              <a:path w="1539" h="2035">
                <a:moveTo>
                  <a:pt x="23614" y="5854"/>
                </a:moveTo>
                <a:cubicBezTo>
                  <a:pt x="23614" y="5933"/>
                  <a:pt x="23590" y="6093"/>
                  <a:pt x="23639" y="6127"/>
                </a:cubicBezTo>
                <a:cubicBezTo>
                  <a:pt x="23754" y="6208"/>
                  <a:pt x="23867" y="6111"/>
                  <a:pt x="23961" y="6052"/>
                </a:cubicBezTo>
              </a:path>
              <a:path w="1539" h="2035">
                <a:moveTo>
                  <a:pt x="23862" y="5556"/>
                </a:moveTo>
                <a:cubicBezTo>
                  <a:pt x="23862" y="5847"/>
                  <a:pt x="23882" y="6134"/>
                  <a:pt x="23887" y="6424"/>
                </a:cubicBezTo>
                <a:cubicBezTo>
                  <a:pt x="23887" y="6465"/>
                  <a:pt x="23887" y="6507"/>
                  <a:pt x="23887" y="6548"/>
                </a:cubicBezTo>
              </a:path>
              <a:path w="1539" h="2035">
                <a:moveTo>
                  <a:pt x="23788" y="6648"/>
                </a:moveTo>
                <a:cubicBezTo>
                  <a:pt x="23751" y="6791"/>
                  <a:pt x="23721" y="6917"/>
                  <a:pt x="23713" y="7069"/>
                </a:cubicBezTo>
                <a:cubicBezTo>
                  <a:pt x="23930" y="7069"/>
                  <a:pt x="23953" y="7021"/>
                  <a:pt x="24036" y="6846"/>
                </a:cubicBezTo>
                <a:cubicBezTo>
                  <a:pt x="23913" y="6899"/>
                  <a:pt x="23836" y="6996"/>
                  <a:pt x="23862" y="7144"/>
                </a:cubicBezTo>
                <a:cubicBezTo>
                  <a:pt x="23870" y="7144"/>
                  <a:pt x="23879" y="7144"/>
                  <a:pt x="23887" y="7144"/>
                </a:cubicBezTo>
              </a:path>
              <a:path w="1539" h="2035">
                <a:moveTo>
                  <a:pt x="22870" y="7590"/>
                </a:moveTo>
                <a:cubicBezTo>
                  <a:pt x="23381" y="7428"/>
                  <a:pt x="23879" y="7280"/>
                  <a:pt x="24408" y="7193"/>
                </a:cubicBezTo>
                <a:cubicBezTo>
                  <a:pt x="24358" y="7201"/>
                  <a:pt x="24309" y="7210"/>
                  <a:pt x="24259" y="72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73800" y="3081240"/>
            <a:ext cx="1724040" cy="1982880"/>
          </a:xfrm>
          <a:custGeom>
            <a:avLst/>
            <a:gdLst/>
            <a:ahLst/>
            <a:rect l="l" t="t" r="r" b="b"/>
            <a:pathLst>
              <a:path w="4789" h="5507">
                <a:moveTo>
                  <a:pt x="15205" y="11460"/>
                </a:moveTo>
                <a:cubicBezTo>
                  <a:pt x="15225" y="11470"/>
                  <a:pt x="15262" y="11470"/>
                  <a:pt x="15304" y="11485"/>
                </a:cubicBezTo>
                <a:cubicBezTo>
                  <a:pt x="15362" y="11507"/>
                  <a:pt x="15409" y="11509"/>
                  <a:pt x="15478" y="11509"/>
                </a:cubicBezTo>
                <a:cubicBezTo>
                  <a:pt x="15541" y="11509"/>
                  <a:pt x="15594" y="11494"/>
                  <a:pt x="15652" y="11485"/>
                </a:cubicBezTo>
                <a:cubicBezTo>
                  <a:pt x="15727" y="11474"/>
                  <a:pt x="15803" y="11472"/>
                  <a:pt x="15875" y="11460"/>
                </a:cubicBezTo>
                <a:cubicBezTo>
                  <a:pt x="15939" y="11449"/>
                  <a:pt x="16009" y="11438"/>
                  <a:pt x="16073" y="11435"/>
                </a:cubicBezTo>
                <a:cubicBezTo>
                  <a:pt x="16282" y="11424"/>
                  <a:pt x="16688" y="11504"/>
                  <a:pt x="16842" y="11410"/>
                </a:cubicBezTo>
              </a:path>
              <a:path w="4789" h="5507">
                <a:moveTo>
                  <a:pt x="19720" y="8607"/>
                </a:moveTo>
                <a:cubicBezTo>
                  <a:pt x="19785" y="8596"/>
                  <a:pt x="19853" y="8575"/>
                  <a:pt x="19918" y="8558"/>
                </a:cubicBezTo>
              </a:path>
              <a:path w="4789" h="5507">
                <a:moveTo>
                  <a:pt x="19720" y="8756"/>
                </a:moveTo>
                <a:cubicBezTo>
                  <a:pt x="19851" y="8703"/>
                  <a:pt x="19900" y="8684"/>
                  <a:pt x="19993" y="8657"/>
                </a:cubicBezTo>
              </a:path>
              <a:path w="4789" h="5507">
                <a:moveTo>
                  <a:pt x="19993" y="8657"/>
                </a:moveTo>
                <a:lnTo>
                  <a:pt x="19993" y="8657"/>
                </a:lnTo>
              </a:path>
              <a:path w="4789" h="5507">
                <a:moveTo>
                  <a:pt x="17289" y="12402"/>
                </a:moveTo>
                <a:cubicBezTo>
                  <a:pt x="17242" y="12402"/>
                  <a:pt x="17146" y="12379"/>
                  <a:pt x="17140" y="12427"/>
                </a:cubicBezTo>
                <a:cubicBezTo>
                  <a:pt x="17134" y="12473"/>
                  <a:pt x="17104" y="12509"/>
                  <a:pt x="17090" y="12551"/>
                </a:cubicBezTo>
                <a:cubicBezTo>
                  <a:pt x="17164" y="12563"/>
                  <a:pt x="17228" y="12585"/>
                  <a:pt x="17289" y="12626"/>
                </a:cubicBezTo>
                <a:cubicBezTo>
                  <a:pt x="17247" y="12735"/>
                  <a:pt x="17215" y="12715"/>
                  <a:pt x="17090" y="12750"/>
                </a:cubicBezTo>
              </a:path>
              <a:path w="4789" h="5507">
                <a:moveTo>
                  <a:pt x="16148" y="11584"/>
                </a:moveTo>
                <a:cubicBezTo>
                  <a:pt x="16083" y="11635"/>
                  <a:pt x="16035" y="11755"/>
                  <a:pt x="15974" y="11832"/>
                </a:cubicBezTo>
                <a:cubicBezTo>
                  <a:pt x="16064" y="11824"/>
                  <a:pt x="16348" y="11784"/>
                  <a:pt x="16346" y="11782"/>
                </a:cubicBezTo>
                <a:cubicBezTo>
                  <a:pt x="16338" y="11774"/>
                  <a:pt x="16329" y="11765"/>
                  <a:pt x="16321" y="11757"/>
                </a:cubicBezTo>
              </a:path>
              <a:path w="4789" h="5507">
                <a:moveTo>
                  <a:pt x="16321" y="11584"/>
                </a:moveTo>
                <a:cubicBezTo>
                  <a:pt x="16293" y="11742"/>
                  <a:pt x="16260" y="11955"/>
                  <a:pt x="16197" y="12105"/>
                </a:cubicBezTo>
                <a:cubicBezTo>
                  <a:pt x="16197" y="12088"/>
                  <a:pt x="16197" y="12072"/>
                  <a:pt x="16197" y="12055"/>
                </a:cubicBezTo>
              </a:path>
              <a:path w="4789" h="5507">
                <a:moveTo>
                  <a:pt x="15553" y="12824"/>
                </a:moveTo>
                <a:cubicBezTo>
                  <a:pt x="15565" y="12861"/>
                  <a:pt x="15577" y="12846"/>
                  <a:pt x="15577" y="12898"/>
                </a:cubicBezTo>
                <a:cubicBezTo>
                  <a:pt x="15641" y="12771"/>
                  <a:pt x="15727" y="12732"/>
                  <a:pt x="15776" y="12948"/>
                </a:cubicBezTo>
                <a:cubicBezTo>
                  <a:pt x="15822" y="13153"/>
                  <a:pt x="15719" y="13262"/>
                  <a:pt x="15602" y="13395"/>
                </a:cubicBezTo>
                <a:cubicBezTo>
                  <a:pt x="15498" y="13267"/>
                  <a:pt x="15504" y="13128"/>
                  <a:pt x="15726" y="13122"/>
                </a:cubicBezTo>
                <a:cubicBezTo>
                  <a:pt x="15960" y="13116"/>
                  <a:pt x="15925" y="13206"/>
                  <a:pt x="15974" y="12923"/>
                </a:cubicBezTo>
              </a:path>
              <a:path w="4789" h="5507">
                <a:moveTo>
                  <a:pt x="15875" y="12700"/>
                </a:moveTo>
                <a:cubicBezTo>
                  <a:pt x="15934" y="12871"/>
                  <a:pt x="15932" y="12929"/>
                  <a:pt x="16073" y="13022"/>
                </a:cubicBezTo>
                <a:cubicBezTo>
                  <a:pt x="16152" y="12892"/>
                  <a:pt x="16209" y="12674"/>
                  <a:pt x="15974" y="12626"/>
                </a:cubicBezTo>
                <a:cubicBezTo>
                  <a:pt x="15907" y="12648"/>
                  <a:pt x="15889" y="12652"/>
                  <a:pt x="15850" y="12675"/>
                </a:cubicBezTo>
              </a:path>
              <a:path w="4789" h="5507">
                <a:moveTo>
                  <a:pt x="16396" y="12278"/>
                </a:moveTo>
                <a:cubicBezTo>
                  <a:pt x="16337" y="12264"/>
                  <a:pt x="16223" y="12203"/>
                  <a:pt x="16197" y="12328"/>
                </a:cubicBezTo>
                <a:cubicBezTo>
                  <a:pt x="16157" y="12522"/>
                  <a:pt x="16403" y="12547"/>
                  <a:pt x="16470" y="12675"/>
                </a:cubicBezTo>
                <a:cubicBezTo>
                  <a:pt x="16470" y="12692"/>
                  <a:pt x="16470" y="12708"/>
                  <a:pt x="16470" y="12725"/>
                </a:cubicBezTo>
              </a:path>
              <a:path w="4789" h="5507">
                <a:moveTo>
                  <a:pt x="16173" y="12700"/>
                </a:moveTo>
                <a:cubicBezTo>
                  <a:pt x="16250" y="12641"/>
                  <a:pt x="16436" y="12553"/>
                  <a:pt x="16446" y="12452"/>
                </a:cubicBezTo>
                <a:cubicBezTo>
                  <a:pt x="16446" y="12427"/>
                  <a:pt x="16446" y="12403"/>
                  <a:pt x="16446" y="12378"/>
                </a:cubicBezTo>
              </a:path>
              <a:path w="4789" h="5507">
                <a:moveTo>
                  <a:pt x="16346" y="12179"/>
                </a:moveTo>
                <a:cubicBezTo>
                  <a:pt x="16466" y="12258"/>
                  <a:pt x="16500" y="12399"/>
                  <a:pt x="16570" y="12526"/>
                </a:cubicBezTo>
                <a:cubicBezTo>
                  <a:pt x="16647" y="12666"/>
                  <a:pt x="16769" y="12418"/>
                  <a:pt x="16793" y="12378"/>
                </a:cubicBezTo>
              </a:path>
              <a:path w="4789" h="5507">
                <a:moveTo>
                  <a:pt x="16446" y="12378"/>
                </a:moveTo>
                <a:cubicBezTo>
                  <a:pt x="16536" y="12310"/>
                  <a:pt x="16562" y="12295"/>
                  <a:pt x="16594" y="12229"/>
                </a:cubicBezTo>
              </a:path>
              <a:path w="4789" h="5507">
                <a:moveTo>
                  <a:pt x="16446" y="11931"/>
                </a:moveTo>
                <a:cubicBezTo>
                  <a:pt x="16527" y="11921"/>
                  <a:pt x="16591" y="11879"/>
                  <a:pt x="16669" y="11857"/>
                </a:cubicBezTo>
                <a:cubicBezTo>
                  <a:pt x="16663" y="11953"/>
                  <a:pt x="16655" y="12016"/>
                  <a:pt x="16619" y="12105"/>
                </a:cubicBezTo>
                <a:cubicBezTo>
                  <a:pt x="16743" y="12089"/>
                  <a:pt x="16830" y="12036"/>
                  <a:pt x="16942" y="12005"/>
                </a:cubicBezTo>
              </a:path>
              <a:path w="4789" h="5507">
                <a:moveTo>
                  <a:pt x="15478" y="14064"/>
                </a:moveTo>
                <a:cubicBezTo>
                  <a:pt x="15885" y="13850"/>
                  <a:pt x="16053" y="13488"/>
                  <a:pt x="16346" y="13146"/>
                </a:cubicBezTo>
                <a:cubicBezTo>
                  <a:pt x="16689" y="12745"/>
                  <a:pt x="17070" y="12417"/>
                  <a:pt x="17090" y="11857"/>
                </a:cubicBezTo>
                <a:cubicBezTo>
                  <a:pt x="17082" y="11791"/>
                  <a:pt x="17074" y="11724"/>
                  <a:pt x="17066" y="11658"/>
                </a:cubicBezTo>
                <a:cubicBezTo>
                  <a:pt x="16668" y="11658"/>
                  <a:pt x="16281" y="11844"/>
                  <a:pt x="15949" y="12080"/>
                </a:cubicBezTo>
                <a:cubicBezTo>
                  <a:pt x="15480" y="12414"/>
                  <a:pt x="15067" y="13217"/>
                  <a:pt x="15230" y="13816"/>
                </a:cubicBezTo>
                <a:cubicBezTo>
                  <a:pt x="15470" y="14056"/>
                  <a:pt x="15590" y="14100"/>
                  <a:pt x="15850" y="138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09040" y="2687760"/>
            <a:ext cx="115920" cy="250560"/>
          </a:xfrm>
          <a:custGeom>
            <a:avLst/>
            <a:gdLst/>
            <a:ahLst/>
            <a:rect l="l" t="t" r="r" b="b"/>
            <a:pathLst>
              <a:path w="323" h="696">
                <a:moveTo>
                  <a:pt x="23937" y="7590"/>
                </a:moveTo>
                <a:cubicBezTo>
                  <a:pt x="23934" y="7640"/>
                  <a:pt x="23869" y="7935"/>
                  <a:pt x="23961" y="7938"/>
                </a:cubicBezTo>
                <a:cubicBezTo>
                  <a:pt x="24137" y="7944"/>
                  <a:pt x="24165" y="7838"/>
                  <a:pt x="24234" y="7714"/>
                </a:cubicBezTo>
              </a:path>
              <a:path w="323" h="696">
                <a:moveTo>
                  <a:pt x="24036" y="7466"/>
                </a:moveTo>
                <a:cubicBezTo>
                  <a:pt x="24036" y="7693"/>
                  <a:pt x="24065" y="7945"/>
                  <a:pt x="24011" y="81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46640" y="4276800"/>
            <a:ext cx="760320" cy="768240"/>
          </a:xfrm>
          <a:custGeom>
            <a:avLst/>
            <a:gdLst/>
            <a:ahLst/>
            <a:rect l="l" t="t" r="r" b="b"/>
            <a:pathLst>
              <a:path w="2109" h="2135">
                <a:moveTo>
                  <a:pt x="10096" y="13072"/>
                </a:moveTo>
                <a:cubicBezTo>
                  <a:pt x="10088" y="13089"/>
                  <a:pt x="10079" y="13105"/>
                  <a:pt x="10071" y="13122"/>
                </a:cubicBezTo>
                <a:cubicBezTo>
                  <a:pt x="10071" y="13178"/>
                  <a:pt x="10115" y="12985"/>
                  <a:pt x="10195" y="12998"/>
                </a:cubicBezTo>
                <a:cubicBezTo>
                  <a:pt x="10465" y="13043"/>
                  <a:pt x="10362" y="13409"/>
                  <a:pt x="10244" y="13543"/>
                </a:cubicBezTo>
                <a:cubicBezTo>
                  <a:pt x="10236" y="13535"/>
                  <a:pt x="10228" y="13527"/>
                  <a:pt x="10220" y="13519"/>
                </a:cubicBezTo>
                <a:cubicBezTo>
                  <a:pt x="10257" y="13317"/>
                  <a:pt x="10300" y="13287"/>
                  <a:pt x="10492" y="13370"/>
                </a:cubicBezTo>
              </a:path>
              <a:path w="2109" h="2135">
                <a:moveTo>
                  <a:pt x="10393" y="12973"/>
                </a:moveTo>
                <a:cubicBezTo>
                  <a:pt x="10457" y="13116"/>
                  <a:pt x="10463" y="13168"/>
                  <a:pt x="10592" y="13221"/>
                </a:cubicBezTo>
                <a:cubicBezTo>
                  <a:pt x="10642" y="13110"/>
                  <a:pt x="10687" y="12981"/>
                  <a:pt x="10517" y="12948"/>
                </a:cubicBezTo>
                <a:cubicBezTo>
                  <a:pt x="10434" y="12948"/>
                  <a:pt x="10418" y="12948"/>
                  <a:pt x="10368" y="12948"/>
                </a:cubicBezTo>
              </a:path>
              <a:path w="2109" h="2135">
                <a:moveTo>
                  <a:pt x="10740" y="12402"/>
                </a:moveTo>
                <a:cubicBezTo>
                  <a:pt x="10699" y="12402"/>
                  <a:pt x="10674" y="12402"/>
                  <a:pt x="10641" y="12402"/>
                </a:cubicBezTo>
                <a:cubicBezTo>
                  <a:pt x="10568" y="12572"/>
                  <a:pt x="10712" y="12648"/>
                  <a:pt x="10815" y="12774"/>
                </a:cubicBezTo>
                <a:cubicBezTo>
                  <a:pt x="10858" y="12827"/>
                  <a:pt x="10901" y="12861"/>
                  <a:pt x="10914" y="12898"/>
                </a:cubicBezTo>
              </a:path>
              <a:path w="2109" h="2135">
                <a:moveTo>
                  <a:pt x="10765" y="12254"/>
                </a:moveTo>
                <a:cubicBezTo>
                  <a:pt x="10883" y="12395"/>
                  <a:pt x="10955" y="12533"/>
                  <a:pt x="11038" y="12700"/>
                </a:cubicBezTo>
                <a:cubicBezTo>
                  <a:pt x="11184" y="12667"/>
                  <a:pt x="11183" y="12615"/>
                  <a:pt x="11162" y="12477"/>
                </a:cubicBezTo>
              </a:path>
              <a:path w="2109" h="2135">
                <a:moveTo>
                  <a:pt x="10889" y="12105"/>
                </a:moveTo>
                <a:cubicBezTo>
                  <a:pt x="10914" y="12088"/>
                  <a:pt x="10939" y="12072"/>
                  <a:pt x="10964" y="12055"/>
                </a:cubicBezTo>
                <a:cubicBezTo>
                  <a:pt x="11029" y="12161"/>
                  <a:pt x="11052" y="12255"/>
                  <a:pt x="11063" y="12378"/>
                </a:cubicBezTo>
                <a:cubicBezTo>
                  <a:pt x="11203" y="12292"/>
                  <a:pt x="11256" y="12153"/>
                  <a:pt x="11385" y="12179"/>
                </a:cubicBezTo>
              </a:path>
              <a:path w="2109" h="2135">
                <a:moveTo>
                  <a:pt x="10344" y="14015"/>
                </a:moveTo>
                <a:cubicBezTo>
                  <a:pt x="10610" y="13747"/>
                  <a:pt x="10936" y="13467"/>
                  <a:pt x="11162" y="13171"/>
                </a:cubicBezTo>
                <a:cubicBezTo>
                  <a:pt x="11513" y="12710"/>
                  <a:pt x="11878" y="12284"/>
                  <a:pt x="11460" y="11881"/>
                </a:cubicBezTo>
                <a:cubicBezTo>
                  <a:pt x="10628" y="12022"/>
                  <a:pt x="9800" y="12280"/>
                  <a:pt x="9575" y="13246"/>
                </a:cubicBezTo>
                <a:cubicBezTo>
                  <a:pt x="9591" y="13428"/>
                  <a:pt x="9608" y="13609"/>
                  <a:pt x="9624" y="13791"/>
                </a:cubicBezTo>
                <a:cubicBezTo>
                  <a:pt x="10270" y="14157"/>
                  <a:pt x="10536" y="13867"/>
                  <a:pt x="11162" y="134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59200" y="3973680"/>
            <a:ext cx="135000" cy="13464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13271" y="11088"/>
                </a:moveTo>
                <a:cubicBezTo>
                  <a:pt x="13271" y="11029"/>
                  <a:pt x="13281" y="11038"/>
                  <a:pt x="13271" y="11088"/>
                </a:cubicBezTo>
                <a:cubicBezTo>
                  <a:pt x="13256" y="11159"/>
                  <a:pt x="13167" y="11366"/>
                  <a:pt x="13295" y="11410"/>
                </a:cubicBezTo>
                <a:cubicBezTo>
                  <a:pt x="13367" y="11435"/>
                  <a:pt x="13644" y="11398"/>
                  <a:pt x="13593" y="11261"/>
                </a:cubicBezTo>
                <a:cubicBezTo>
                  <a:pt x="13576" y="11245"/>
                  <a:pt x="13560" y="11228"/>
                  <a:pt x="13543" y="11212"/>
                </a:cubicBezTo>
                <a:cubicBezTo>
                  <a:pt x="13522" y="11229"/>
                  <a:pt x="13339" y="11410"/>
                  <a:pt x="13444" y="11410"/>
                </a:cubicBezTo>
                <a:cubicBezTo>
                  <a:pt x="13469" y="11402"/>
                  <a:pt x="13494" y="11393"/>
                  <a:pt x="13519" y="113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40240" y="4456080"/>
            <a:ext cx="98640" cy="1350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15106" y="12378"/>
                </a:moveTo>
                <a:cubicBezTo>
                  <a:pt x="15035" y="12378"/>
                  <a:pt x="14937" y="12355"/>
                  <a:pt x="14908" y="12402"/>
                </a:cubicBezTo>
                <a:cubicBezTo>
                  <a:pt x="14869" y="12465"/>
                  <a:pt x="14865" y="12498"/>
                  <a:pt x="14833" y="12551"/>
                </a:cubicBezTo>
                <a:cubicBezTo>
                  <a:pt x="14936" y="12582"/>
                  <a:pt x="15012" y="12584"/>
                  <a:pt x="15106" y="12650"/>
                </a:cubicBezTo>
                <a:cubicBezTo>
                  <a:pt x="15010" y="12747"/>
                  <a:pt x="14941" y="12793"/>
                  <a:pt x="14833" y="127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81080" y="3705120"/>
            <a:ext cx="6715080" cy="1046160"/>
          </a:xfrm>
          <a:custGeom>
            <a:avLst/>
            <a:gdLst/>
            <a:ahLst/>
            <a:rect l="l" t="t" r="r" b="b"/>
            <a:pathLst>
              <a:path w="18654" h="2903">
                <a:moveTo>
                  <a:pt x="20290" y="11683"/>
                </a:moveTo>
                <a:cubicBezTo>
                  <a:pt x="20340" y="11683"/>
                  <a:pt x="20389" y="11683"/>
                  <a:pt x="20439" y="11683"/>
                </a:cubicBezTo>
              </a:path>
              <a:path w="18654" h="2903">
                <a:moveTo>
                  <a:pt x="20141" y="11981"/>
                </a:moveTo>
                <a:cubicBezTo>
                  <a:pt x="20356" y="11954"/>
                  <a:pt x="20439" y="11944"/>
                  <a:pt x="20588" y="11931"/>
                </a:cubicBezTo>
              </a:path>
              <a:path w="18654" h="2903">
                <a:moveTo>
                  <a:pt x="20588" y="11931"/>
                </a:moveTo>
                <a:lnTo>
                  <a:pt x="20588" y="11931"/>
                </a:lnTo>
              </a:path>
              <a:path w="18654" h="2903">
                <a:moveTo>
                  <a:pt x="21406" y="12105"/>
                </a:moveTo>
                <a:cubicBezTo>
                  <a:pt x="21460" y="12105"/>
                  <a:pt x="21494" y="12092"/>
                  <a:pt x="21530" y="12055"/>
                </a:cubicBezTo>
              </a:path>
              <a:path w="18654" h="2903">
                <a:moveTo>
                  <a:pt x="21654" y="13146"/>
                </a:moveTo>
                <a:cubicBezTo>
                  <a:pt x="21646" y="13154"/>
                  <a:pt x="21638" y="13163"/>
                  <a:pt x="21630" y="13171"/>
                </a:cubicBezTo>
              </a:path>
              <a:path w="18654" h="2903">
                <a:moveTo>
                  <a:pt x="20241" y="13196"/>
                </a:moveTo>
                <a:cubicBezTo>
                  <a:pt x="20357" y="13173"/>
                  <a:pt x="20390" y="13166"/>
                  <a:pt x="20464" y="13146"/>
                </a:cubicBezTo>
              </a:path>
              <a:path w="18654" h="2903">
                <a:moveTo>
                  <a:pt x="10740" y="12774"/>
                </a:moveTo>
                <a:cubicBezTo>
                  <a:pt x="10819" y="12696"/>
                  <a:pt x="10848" y="12666"/>
                  <a:pt x="10889" y="12601"/>
                </a:cubicBezTo>
              </a:path>
              <a:path w="18654" h="2903">
                <a:moveTo>
                  <a:pt x="10765" y="12650"/>
                </a:moveTo>
                <a:cubicBezTo>
                  <a:pt x="10883" y="12509"/>
                  <a:pt x="10921" y="12467"/>
                  <a:pt x="10964" y="12353"/>
                </a:cubicBezTo>
              </a:path>
              <a:path w="18654" h="2903">
                <a:moveTo>
                  <a:pt x="3001" y="10517"/>
                </a:moveTo>
                <a:cubicBezTo>
                  <a:pt x="3309" y="10415"/>
                  <a:pt x="3418" y="10378"/>
                  <a:pt x="3621" y="10294"/>
                </a:cubicBezTo>
              </a:path>
              <a:path w="18654" h="2903">
                <a:moveTo>
                  <a:pt x="3621" y="10294"/>
                </a:moveTo>
                <a:lnTo>
                  <a:pt x="3621" y="10294"/>
                </a:lnTo>
              </a:path>
              <a:path w="18654" h="2903">
                <a:moveTo>
                  <a:pt x="3299" y="11509"/>
                </a:moveTo>
                <a:cubicBezTo>
                  <a:pt x="3228" y="11715"/>
                  <a:pt x="3062" y="12008"/>
                  <a:pt x="3026" y="12154"/>
                </a:cubicBezTo>
              </a:path>
              <a:path w="18654" h="2903">
                <a:moveTo>
                  <a:pt x="3746" y="11609"/>
                </a:moveTo>
                <a:cubicBezTo>
                  <a:pt x="3709" y="11818"/>
                  <a:pt x="3676" y="11894"/>
                  <a:pt x="3746" y="12080"/>
                </a:cubicBezTo>
                <a:cubicBezTo>
                  <a:pt x="3934" y="11926"/>
                  <a:pt x="4126" y="11760"/>
                  <a:pt x="3919" y="11509"/>
                </a:cubicBezTo>
                <a:cubicBezTo>
                  <a:pt x="3903" y="11509"/>
                  <a:pt x="3886" y="11509"/>
                  <a:pt x="3870" y="11509"/>
                </a:cubicBezTo>
              </a:path>
              <a:path w="18654" h="2903">
                <a:moveTo>
                  <a:pt x="4837" y="11112"/>
                </a:moveTo>
                <a:cubicBezTo>
                  <a:pt x="4776" y="11443"/>
                  <a:pt x="4701" y="11738"/>
                  <a:pt x="4589" y="120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2000" y="3670200"/>
            <a:ext cx="795240" cy="554040"/>
          </a:xfrm>
          <a:custGeom>
            <a:avLst/>
            <a:gdLst/>
            <a:ahLst/>
            <a:rect l="l" t="t" r="r" b="b"/>
            <a:pathLst>
              <a:path w="2208" h="1539">
                <a:moveTo>
                  <a:pt x="2952" y="10195"/>
                </a:moveTo>
                <a:cubicBezTo>
                  <a:pt x="2998" y="10432"/>
                  <a:pt x="3067" y="10640"/>
                  <a:pt x="2952" y="10840"/>
                </a:cubicBezTo>
              </a:path>
              <a:path w="2208" h="1539">
                <a:moveTo>
                  <a:pt x="2977" y="11137"/>
                </a:moveTo>
                <a:cubicBezTo>
                  <a:pt x="3690" y="10971"/>
                  <a:pt x="4379" y="10827"/>
                  <a:pt x="5110" y="10790"/>
                </a:cubicBezTo>
                <a:cubicBezTo>
                  <a:pt x="5203" y="10790"/>
                  <a:pt x="5177" y="10802"/>
                  <a:pt x="4986" y="10840"/>
                </a:cubicBezTo>
              </a:path>
              <a:path w="2208" h="1539">
                <a:moveTo>
                  <a:pt x="4465" y="11410"/>
                </a:moveTo>
                <a:cubicBezTo>
                  <a:pt x="4456" y="11519"/>
                  <a:pt x="4453" y="11602"/>
                  <a:pt x="4465" y="11708"/>
                </a:cubicBezTo>
                <a:cubicBezTo>
                  <a:pt x="4753" y="11691"/>
                  <a:pt x="4732" y="11596"/>
                  <a:pt x="4936" y="113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86120" y="411624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10616" y="11485"/>
                </a:moveTo>
                <a:cubicBezTo>
                  <a:pt x="10573" y="11499"/>
                  <a:pt x="10537" y="11599"/>
                  <a:pt x="10517" y="11658"/>
                </a:cubicBezTo>
                <a:cubicBezTo>
                  <a:pt x="10507" y="11688"/>
                  <a:pt x="10766" y="11644"/>
                  <a:pt x="10815" y="11633"/>
                </a:cubicBezTo>
              </a:path>
              <a:path w="299" h="472">
                <a:moveTo>
                  <a:pt x="10740" y="11435"/>
                </a:moveTo>
                <a:cubicBezTo>
                  <a:pt x="10740" y="11592"/>
                  <a:pt x="10740" y="11749"/>
                  <a:pt x="10740" y="119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91160" y="4116240"/>
            <a:ext cx="144720" cy="295560"/>
          </a:xfrm>
          <a:custGeom>
            <a:avLst/>
            <a:gdLst/>
            <a:ahLst/>
            <a:rect l="l" t="t" r="r" b="b"/>
            <a:pathLst>
              <a:path w="398" h="820">
                <a:moveTo>
                  <a:pt x="18207" y="11509"/>
                </a:moveTo>
                <a:cubicBezTo>
                  <a:pt x="18196" y="11799"/>
                  <a:pt x="18169" y="11996"/>
                  <a:pt x="18033" y="12254"/>
                </a:cubicBezTo>
                <a:cubicBezTo>
                  <a:pt x="18057" y="12019"/>
                  <a:pt x="18113" y="11778"/>
                  <a:pt x="18207" y="11559"/>
                </a:cubicBezTo>
                <a:cubicBezTo>
                  <a:pt x="18232" y="11518"/>
                  <a:pt x="18256" y="11476"/>
                  <a:pt x="18281" y="11435"/>
                </a:cubicBezTo>
                <a:cubicBezTo>
                  <a:pt x="18382" y="11658"/>
                  <a:pt x="18494" y="11952"/>
                  <a:pt x="18405" y="12204"/>
                </a:cubicBezTo>
                <a:cubicBezTo>
                  <a:pt x="18388" y="12212"/>
                  <a:pt x="18372" y="12221"/>
                  <a:pt x="18355" y="122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69120" y="4643280"/>
            <a:ext cx="54000" cy="9720"/>
          </a:xfrm>
          <a:custGeom>
            <a:avLst/>
            <a:gdLst/>
            <a:ahLst/>
            <a:rect l="l" t="t" r="r" b="b"/>
            <a:pathLst>
              <a:path w="150" h="26">
                <a:moveTo>
                  <a:pt x="20191" y="12923"/>
                </a:moveTo>
                <a:cubicBezTo>
                  <a:pt x="20251" y="12923"/>
                  <a:pt x="20318" y="12908"/>
                  <a:pt x="20340" y="129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4960" y="4187880"/>
            <a:ext cx="517320" cy="642960"/>
          </a:xfrm>
          <a:custGeom>
            <a:avLst/>
            <a:gdLst/>
            <a:ahLst/>
            <a:rect l="l" t="t" r="r" b="b"/>
            <a:pathLst>
              <a:path w="1439" h="1787">
                <a:moveTo>
                  <a:pt x="21059" y="11633"/>
                </a:moveTo>
                <a:cubicBezTo>
                  <a:pt x="21127" y="11878"/>
                  <a:pt x="21173" y="12099"/>
                  <a:pt x="21134" y="12353"/>
                </a:cubicBezTo>
                <a:cubicBezTo>
                  <a:pt x="21111" y="12420"/>
                  <a:pt x="21100" y="12451"/>
                  <a:pt x="21134" y="12378"/>
                </a:cubicBezTo>
              </a:path>
              <a:path w="1439" h="1787">
                <a:moveTo>
                  <a:pt x="21754" y="11832"/>
                </a:moveTo>
                <a:cubicBezTo>
                  <a:pt x="21807" y="11990"/>
                  <a:pt x="21827" y="12113"/>
                  <a:pt x="21952" y="12204"/>
                </a:cubicBezTo>
                <a:cubicBezTo>
                  <a:pt x="22065" y="12101"/>
                  <a:pt x="22106" y="12040"/>
                  <a:pt x="22126" y="11881"/>
                </a:cubicBezTo>
                <a:cubicBezTo>
                  <a:pt x="22106" y="11998"/>
                  <a:pt x="22124" y="12260"/>
                  <a:pt x="22324" y="12154"/>
                </a:cubicBezTo>
                <a:cubicBezTo>
                  <a:pt x="22559" y="12030"/>
                  <a:pt x="22428" y="11801"/>
                  <a:pt x="22275" y="11782"/>
                </a:cubicBezTo>
              </a:path>
              <a:path w="1439" h="1787">
                <a:moveTo>
                  <a:pt x="21034" y="12948"/>
                </a:moveTo>
                <a:cubicBezTo>
                  <a:pt x="21018" y="13048"/>
                  <a:pt x="20992" y="13123"/>
                  <a:pt x="21010" y="13221"/>
                </a:cubicBezTo>
                <a:cubicBezTo>
                  <a:pt x="21151" y="13179"/>
                  <a:pt x="21274" y="13178"/>
                  <a:pt x="21258" y="13022"/>
                </a:cubicBezTo>
              </a:path>
              <a:path w="1439" h="1787">
                <a:moveTo>
                  <a:pt x="21183" y="12774"/>
                </a:moveTo>
                <a:cubicBezTo>
                  <a:pt x="21193" y="12982"/>
                  <a:pt x="21211" y="13189"/>
                  <a:pt x="21233" y="13395"/>
                </a:cubicBezTo>
                <a:cubicBezTo>
                  <a:pt x="21233" y="13403"/>
                  <a:pt x="21233" y="13411"/>
                  <a:pt x="21233" y="134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920000" y="4562640"/>
            <a:ext cx="144360" cy="17928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22374" y="12675"/>
                </a:moveTo>
                <a:cubicBezTo>
                  <a:pt x="22283" y="12682"/>
                  <a:pt x="22157" y="12681"/>
                  <a:pt x="22076" y="12725"/>
                </a:cubicBezTo>
                <a:cubicBezTo>
                  <a:pt x="22027" y="12752"/>
                  <a:pt x="22011" y="12897"/>
                  <a:pt x="22002" y="12948"/>
                </a:cubicBezTo>
                <a:cubicBezTo>
                  <a:pt x="22002" y="12965"/>
                  <a:pt x="22002" y="12981"/>
                  <a:pt x="22002" y="12998"/>
                </a:cubicBezTo>
                <a:cubicBezTo>
                  <a:pt x="22129" y="12972"/>
                  <a:pt x="22238" y="12931"/>
                  <a:pt x="22374" y="12923"/>
                </a:cubicBezTo>
                <a:cubicBezTo>
                  <a:pt x="22374" y="13123"/>
                  <a:pt x="22266" y="13143"/>
                  <a:pt x="22076" y="131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92960" y="5062680"/>
            <a:ext cx="63360" cy="9360"/>
          </a:xfrm>
          <a:custGeom>
            <a:avLst/>
            <a:gdLst/>
            <a:ahLst/>
            <a:rect l="l" t="t" r="r" b="b"/>
            <a:pathLst>
              <a:path w="175" h="26">
                <a:moveTo>
                  <a:pt x="20538" y="14089"/>
                </a:moveTo>
                <a:cubicBezTo>
                  <a:pt x="20599" y="14077"/>
                  <a:pt x="20645" y="14064"/>
                  <a:pt x="20712" y="140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732800" y="5000760"/>
            <a:ext cx="304560" cy="206280"/>
          </a:xfrm>
          <a:custGeom>
            <a:avLst/>
            <a:gdLst/>
            <a:ahLst/>
            <a:rect l="l" t="t" r="r" b="b"/>
            <a:pathLst>
              <a:path w="844" h="571">
                <a:moveTo>
                  <a:pt x="21506" y="13915"/>
                </a:moveTo>
                <a:cubicBezTo>
                  <a:pt x="21648" y="13915"/>
                  <a:pt x="21676" y="13905"/>
                  <a:pt x="21754" y="13940"/>
                </a:cubicBezTo>
                <a:cubicBezTo>
                  <a:pt x="21679" y="14118"/>
                  <a:pt x="21596" y="14256"/>
                  <a:pt x="21481" y="14412"/>
                </a:cubicBezTo>
                <a:cubicBezTo>
                  <a:pt x="21710" y="14482"/>
                  <a:pt x="21835" y="14330"/>
                  <a:pt x="22002" y="14163"/>
                </a:cubicBezTo>
              </a:path>
              <a:path w="844" h="571">
                <a:moveTo>
                  <a:pt x="22101" y="13891"/>
                </a:moveTo>
                <a:cubicBezTo>
                  <a:pt x="22032" y="14115"/>
                  <a:pt x="22008" y="14154"/>
                  <a:pt x="22101" y="14362"/>
                </a:cubicBezTo>
                <a:cubicBezTo>
                  <a:pt x="22225" y="14277"/>
                  <a:pt x="22521" y="13960"/>
                  <a:pt x="22175" y="13891"/>
                </a:cubicBezTo>
                <a:cubicBezTo>
                  <a:pt x="22109" y="13899"/>
                  <a:pt x="22043" y="13907"/>
                  <a:pt x="21977" y="139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12040" y="5106960"/>
            <a:ext cx="71280" cy="19080"/>
          </a:xfrm>
          <a:custGeom>
            <a:avLst/>
            <a:gdLst/>
            <a:ahLst/>
            <a:rect l="l" t="t" r="r" b="b"/>
            <a:pathLst>
              <a:path w="199" h="51">
                <a:moveTo>
                  <a:pt x="20588" y="14238"/>
                </a:moveTo>
                <a:cubicBezTo>
                  <a:pt x="20677" y="14208"/>
                  <a:pt x="20718" y="14196"/>
                  <a:pt x="20786" y="14188"/>
                </a:cubicBezTo>
              </a:path>
              <a:path w="199" h="51">
                <a:moveTo>
                  <a:pt x="20786" y="14188"/>
                </a:moveTo>
                <a:lnTo>
                  <a:pt x="20786" y="14188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0160" y="3116160"/>
            <a:ext cx="1482840" cy="2063880"/>
          </a:xfrm>
          <a:custGeom>
            <a:avLst/>
            <a:gdLst/>
            <a:ahLst/>
            <a:rect l="l" t="t" r="r" b="b"/>
            <a:pathLst>
              <a:path w="4118" h="5731">
                <a:moveTo>
                  <a:pt x="4986" y="8657"/>
                </a:moveTo>
                <a:cubicBezTo>
                  <a:pt x="4876" y="9001"/>
                  <a:pt x="4800" y="9356"/>
                  <a:pt x="4688" y="9699"/>
                </a:cubicBezTo>
                <a:cubicBezTo>
                  <a:pt x="4680" y="9715"/>
                  <a:pt x="4671" y="9732"/>
                  <a:pt x="4663" y="9748"/>
                </a:cubicBezTo>
              </a:path>
              <a:path w="4118" h="5731">
                <a:moveTo>
                  <a:pt x="4440" y="10220"/>
                </a:moveTo>
                <a:cubicBezTo>
                  <a:pt x="4419" y="10392"/>
                  <a:pt x="4508" y="10695"/>
                  <a:pt x="4713" y="10393"/>
                </a:cubicBezTo>
                <a:cubicBezTo>
                  <a:pt x="4910" y="10102"/>
                  <a:pt x="4463" y="10237"/>
                  <a:pt x="4415" y="10244"/>
                </a:cubicBezTo>
              </a:path>
              <a:path w="4118" h="5731">
                <a:moveTo>
                  <a:pt x="2654" y="10393"/>
                </a:moveTo>
                <a:cubicBezTo>
                  <a:pt x="2846" y="10438"/>
                  <a:pt x="2902" y="10396"/>
                  <a:pt x="3101" y="10344"/>
                </a:cubicBezTo>
              </a:path>
              <a:path w="4118" h="5731">
                <a:moveTo>
                  <a:pt x="2307" y="13742"/>
                </a:moveTo>
                <a:cubicBezTo>
                  <a:pt x="3147" y="13417"/>
                  <a:pt x="3989" y="13194"/>
                  <a:pt x="4887" y="13072"/>
                </a:cubicBezTo>
                <a:cubicBezTo>
                  <a:pt x="5130" y="13054"/>
                  <a:pt x="5319" y="13120"/>
                  <a:pt x="5209" y="13022"/>
                </a:cubicBezTo>
              </a:path>
              <a:path w="4118" h="5731">
                <a:moveTo>
                  <a:pt x="4564" y="13667"/>
                </a:moveTo>
                <a:cubicBezTo>
                  <a:pt x="4588" y="13754"/>
                  <a:pt x="4632" y="14118"/>
                  <a:pt x="4787" y="14064"/>
                </a:cubicBezTo>
                <a:cubicBezTo>
                  <a:pt x="4820" y="14031"/>
                  <a:pt x="4854" y="13998"/>
                  <a:pt x="4887" y="13965"/>
                </a:cubicBezTo>
              </a:path>
              <a:path w="4118" h="5731">
                <a:moveTo>
                  <a:pt x="4936" y="13320"/>
                </a:moveTo>
                <a:cubicBezTo>
                  <a:pt x="4900" y="13682"/>
                  <a:pt x="4751" y="14047"/>
                  <a:pt x="4713" y="14387"/>
                </a:cubicBezTo>
                <a:cubicBezTo>
                  <a:pt x="4729" y="14370"/>
                  <a:pt x="4746" y="14354"/>
                  <a:pt x="4762" y="14337"/>
                </a:cubicBezTo>
              </a:path>
              <a:path w="4118" h="5731">
                <a:moveTo>
                  <a:pt x="5531" y="13891"/>
                </a:moveTo>
                <a:cubicBezTo>
                  <a:pt x="5794" y="13867"/>
                  <a:pt x="5876" y="13862"/>
                  <a:pt x="6028" y="13767"/>
                </a:cubicBezTo>
              </a:path>
              <a:path w="4118" h="5731">
                <a:moveTo>
                  <a:pt x="5928" y="13841"/>
                </a:moveTo>
                <a:cubicBezTo>
                  <a:pt x="6163" y="13724"/>
                  <a:pt x="6265" y="13670"/>
                  <a:pt x="6424" y="135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39920" y="3152880"/>
            <a:ext cx="428400" cy="687240"/>
          </a:xfrm>
          <a:custGeom>
            <a:avLst/>
            <a:gdLst/>
            <a:ahLst/>
            <a:rect l="l" t="t" r="r" b="b"/>
            <a:pathLst>
              <a:path w="1191" h="1911">
                <a:moveTo>
                  <a:pt x="4440" y="8756"/>
                </a:moveTo>
                <a:cubicBezTo>
                  <a:pt x="4289" y="8857"/>
                  <a:pt x="3808" y="9078"/>
                  <a:pt x="3969" y="9302"/>
                </a:cubicBezTo>
                <a:cubicBezTo>
                  <a:pt x="4139" y="9538"/>
                  <a:pt x="4220" y="9426"/>
                  <a:pt x="4192" y="9699"/>
                </a:cubicBezTo>
                <a:cubicBezTo>
                  <a:pt x="4142" y="9715"/>
                  <a:pt x="4093" y="9732"/>
                  <a:pt x="4043" y="9748"/>
                </a:cubicBezTo>
                <a:cubicBezTo>
                  <a:pt x="3927" y="9444"/>
                  <a:pt x="4130" y="9331"/>
                  <a:pt x="4390" y="9103"/>
                </a:cubicBezTo>
              </a:path>
              <a:path w="1191" h="1911">
                <a:moveTo>
                  <a:pt x="4614" y="8979"/>
                </a:moveTo>
                <a:cubicBezTo>
                  <a:pt x="4614" y="9056"/>
                  <a:pt x="4568" y="9399"/>
                  <a:pt x="4762" y="9302"/>
                </a:cubicBezTo>
                <a:cubicBezTo>
                  <a:pt x="4812" y="9261"/>
                  <a:pt x="4861" y="9219"/>
                  <a:pt x="4911" y="9178"/>
                </a:cubicBezTo>
              </a:path>
              <a:path w="1191" h="1911">
                <a:moveTo>
                  <a:pt x="3820" y="10269"/>
                </a:moveTo>
                <a:cubicBezTo>
                  <a:pt x="3935" y="10154"/>
                  <a:pt x="4068" y="10317"/>
                  <a:pt x="4043" y="10468"/>
                </a:cubicBezTo>
                <a:cubicBezTo>
                  <a:pt x="4013" y="10649"/>
                  <a:pt x="3870" y="10641"/>
                  <a:pt x="3746" y="10641"/>
                </a:cubicBezTo>
                <a:cubicBezTo>
                  <a:pt x="3766" y="10454"/>
                  <a:pt x="3980" y="10502"/>
                  <a:pt x="4142" y="10567"/>
                </a:cubicBezTo>
                <a:cubicBezTo>
                  <a:pt x="4220" y="10618"/>
                  <a:pt x="4249" y="10634"/>
                  <a:pt x="4316" y="105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00160" y="4759200"/>
            <a:ext cx="285840" cy="393840"/>
          </a:xfrm>
          <a:custGeom>
            <a:avLst/>
            <a:gdLst/>
            <a:ahLst/>
            <a:rect l="l" t="t" r="r" b="b"/>
            <a:pathLst>
              <a:path w="795" h="1092">
                <a:moveTo>
                  <a:pt x="5854" y="13593"/>
                </a:moveTo>
                <a:cubicBezTo>
                  <a:pt x="5854" y="13446"/>
                  <a:pt x="5793" y="13347"/>
                  <a:pt x="5730" y="13221"/>
                </a:cubicBezTo>
                <a:cubicBezTo>
                  <a:pt x="5541" y="13495"/>
                  <a:pt x="5627" y="13826"/>
                  <a:pt x="5606" y="14163"/>
                </a:cubicBezTo>
                <a:cubicBezTo>
                  <a:pt x="5584" y="14296"/>
                  <a:pt x="5579" y="14361"/>
                  <a:pt x="5556" y="14213"/>
                </a:cubicBezTo>
              </a:path>
              <a:path w="795" h="1092">
                <a:moveTo>
                  <a:pt x="6127" y="13320"/>
                </a:moveTo>
                <a:cubicBezTo>
                  <a:pt x="6160" y="13637"/>
                  <a:pt x="6072" y="13884"/>
                  <a:pt x="6052" y="14188"/>
                </a:cubicBezTo>
                <a:cubicBezTo>
                  <a:pt x="6039" y="14397"/>
                  <a:pt x="6349" y="14115"/>
                  <a:pt x="6350" y="141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03200" y="4500720"/>
            <a:ext cx="428760" cy="179280"/>
          </a:xfrm>
          <a:custGeom>
            <a:avLst/>
            <a:gdLst/>
            <a:ahLst/>
            <a:rect l="l" t="t" r="r" b="b"/>
            <a:pathLst>
              <a:path w="1192" h="497">
                <a:moveTo>
                  <a:pt x="3696" y="12551"/>
                </a:moveTo>
                <a:cubicBezTo>
                  <a:pt x="3869" y="12480"/>
                  <a:pt x="4092" y="12605"/>
                  <a:pt x="3994" y="12849"/>
                </a:cubicBezTo>
                <a:cubicBezTo>
                  <a:pt x="3876" y="12967"/>
                  <a:pt x="3842" y="13007"/>
                  <a:pt x="3721" y="12998"/>
                </a:cubicBezTo>
                <a:cubicBezTo>
                  <a:pt x="3396" y="12890"/>
                  <a:pt x="4005" y="12926"/>
                  <a:pt x="4043" y="12923"/>
                </a:cubicBezTo>
                <a:cubicBezTo>
                  <a:pt x="4109" y="12915"/>
                  <a:pt x="4176" y="12906"/>
                  <a:pt x="4242" y="12898"/>
                </a:cubicBezTo>
              </a:path>
              <a:path w="1192" h="497">
                <a:moveTo>
                  <a:pt x="4440" y="12601"/>
                </a:moveTo>
                <a:cubicBezTo>
                  <a:pt x="4397" y="12773"/>
                  <a:pt x="4364" y="12818"/>
                  <a:pt x="4465" y="12898"/>
                </a:cubicBezTo>
                <a:cubicBezTo>
                  <a:pt x="4590" y="12865"/>
                  <a:pt x="5123" y="12591"/>
                  <a:pt x="4663" y="12502"/>
                </a:cubicBezTo>
                <a:cubicBezTo>
                  <a:pt x="4580" y="12510"/>
                  <a:pt x="4498" y="12518"/>
                  <a:pt x="4415" y="125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4929120"/>
            <a:ext cx="455760" cy="322200"/>
          </a:xfrm>
          <a:custGeom>
            <a:avLst/>
            <a:gdLst/>
            <a:ahLst/>
            <a:rect l="l" t="t" r="r" b="b"/>
            <a:pathLst>
              <a:path w="1266" h="894">
                <a:moveTo>
                  <a:pt x="3398" y="13816"/>
                </a:moveTo>
                <a:cubicBezTo>
                  <a:pt x="3377" y="13882"/>
                  <a:pt x="3016" y="14756"/>
                  <a:pt x="3150" y="14486"/>
                </a:cubicBezTo>
              </a:path>
              <a:path w="1266" h="894">
                <a:moveTo>
                  <a:pt x="3845" y="13742"/>
                </a:moveTo>
                <a:cubicBezTo>
                  <a:pt x="3934" y="13720"/>
                  <a:pt x="4050" y="13637"/>
                  <a:pt x="4142" y="13742"/>
                </a:cubicBezTo>
                <a:cubicBezTo>
                  <a:pt x="4354" y="13983"/>
                  <a:pt x="4041" y="14304"/>
                  <a:pt x="3795" y="14337"/>
                </a:cubicBezTo>
                <a:cubicBezTo>
                  <a:pt x="3779" y="14321"/>
                  <a:pt x="3762" y="14304"/>
                  <a:pt x="3746" y="14288"/>
                </a:cubicBezTo>
                <a:cubicBezTo>
                  <a:pt x="3983" y="14155"/>
                  <a:pt x="4124" y="14186"/>
                  <a:pt x="4366" y="143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4643280"/>
            <a:ext cx="160560" cy="135000"/>
          </a:xfrm>
          <a:custGeom>
            <a:avLst/>
            <a:gdLst/>
            <a:ahLst/>
            <a:rect l="l" t="t" r="r" b="b"/>
            <a:pathLst>
              <a:path w="447" h="374">
                <a:moveTo>
                  <a:pt x="6772" y="12948"/>
                </a:moveTo>
                <a:cubicBezTo>
                  <a:pt x="6826" y="12911"/>
                  <a:pt x="7013" y="12818"/>
                  <a:pt x="6970" y="12973"/>
                </a:cubicBezTo>
                <a:cubicBezTo>
                  <a:pt x="6899" y="13116"/>
                  <a:pt x="6878" y="13159"/>
                  <a:pt x="6821" y="13246"/>
                </a:cubicBezTo>
                <a:cubicBezTo>
                  <a:pt x="6781" y="13286"/>
                  <a:pt x="7139" y="13133"/>
                  <a:pt x="7218" y="130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                                2.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95280" y="2286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35812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286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66880" y="2286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3124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78520" y="3124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4040" y="2779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78320" y="1905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91440" y="3541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62720" y="2133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7238880" y="2133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562720" y="21337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62720" y="3505320"/>
            <a:ext cx="16761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3505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562720" y="1294920"/>
            <a:ext cx="16761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1295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3505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06960" y="2666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34120" y="30844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316640" y="1523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00800" y="3770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134 problems 10 &amp; 11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5:50:12Z</dcterms:created>
  <dc:creator>ccps</dc:creator>
  <dc:description/>
  <dc:language>en-US</dc:language>
  <cp:lastModifiedBy>demcgra</cp:lastModifiedBy>
  <dcterms:modified xsi:type="dcterms:W3CDTF">2012-02-15T19:25:11Z</dcterms:modified>
  <cp:revision>10</cp:revision>
  <dc:subject/>
  <dc:title>Geometry</dc:title>
</cp:coreProperties>
</file>